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F509-083E-4ACF-8A40-3B22C0805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14A5-A5DF-4858-A821-D4F59E36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B989-EE08-467A-98C8-1AB881BE0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AAA9-309A-4356-B61D-86E17CC43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8A78-5C67-4DFA-A987-165448886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5457-F48B-4A40-AA9D-662ACD73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D06B-01C8-468A-B9C9-62045E89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7DE7-5887-4D81-9DB2-DCE1A44E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15A06-88CB-4C59-9A03-4E0B2387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BC4F-40B5-4292-9EDA-3124C592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5F9C5-D0D5-4FF0-9759-A68C05D1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155D-81CF-41F5-BC3C-FA3A710D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34D9-F6BC-48FE-A45C-54D5AF82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B095-6EE0-4294-994A-5802CDA9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FF3C-4AE7-481B-BC17-A206E17D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97CF-FD89-4AD1-98C2-7805809FA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E06E-88AE-47D0-841B-632857512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2671-5F48-4C6D-A227-B9E2A78F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3235-535D-433F-8348-406BDF28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884B-CC83-4DFD-BD91-64BCE6CD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4F8A-CC31-4013-AD0E-D5DDB629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BA7B-F3F8-4A2B-B1A6-D1EFB8B7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FBC3-804F-4913-95F3-E5C37501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79E7-3A38-4472-AE27-5D076DDD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2" name="Astonbnr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A2BF-4908-4FB1-AA99-9174D6363EE1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55" name="Astonbnr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AB4D-6189-413C-B6B7-58F9C69EF950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Monotype Corsiva"/>
              </a:rPr>
              <a:t>Adam Mickiewic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90512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33"/>
                </a:solidFill>
                <a:latin typeface="Arial"/>
              </a:rPr>
              <a:t>Życie i twórczość.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Okres drezdeńsk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333333"/>
                </a:solidFill>
                <a:latin typeface="Arial"/>
              </a:rPr>
              <a:t>W roku 1829, dzięki przyjaciołom, udało się Mickiewiczowi załatwić wyjazd do Europy. Półtoraroczna podróż objęła Niemcy, Włochy i Szwajcarię. We Włoszech(1830) zastaje go informacja o powstaniu listopadowym. Mickiewicz zdecydował się wyruszyć           do Polski, dotarł do Wielkopolski, lecz do Kró-lestwa nie udało się mu przedostać. Wraz z falą emigracji znalazł się w Dreźnie. 31.VII.1832 przybył do Paryża, gdzie osiedlił się na dłużej.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Okres parysk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pl-PL" sz="3200" spc="-1" strike="noStrike">
                <a:solidFill>
                  <a:srgbClr val="333333"/>
                </a:solidFill>
                <a:latin typeface="Arial"/>
              </a:rPr>
              <a:t>W Paryżu Mickiewicz przebywał już  na stałe. W 1834 ożenił się z Celiną Szymanowską. Rok 1839/40 spędził      w Lozannie w Szwajcarii jako profesor literatury łacińskiej. W 1840 objął katedrę literatur słowiańskich w College de France w Paryżu. W roku 1844 wykłady zawieszono, między innymi                  za polityczną wymowę wykładów            i propagowanie towianizmu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Na emigracj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ozwijał wśród emigracji polskiej żywą działalność polityczną i publicystyczną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ktywnie włączył się w wydarzenia Wiosny Ludów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 1848 roku utworzył we Włoszech Legion Polski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Kres życ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33"/>
                </a:solidFill>
                <a:latin typeface="Arial"/>
              </a:rPr>
              <a:t>W życiu prywatnym układało mu się źle. Żona ciężko chorowała , Mickiewicz stracił pracę i musiał podjąć stanowisko bibliotekarza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33"/>
                </a:solidFill>
                <a:latin typeface="Arial"/>
              </a:rPr>
              <a:t>26.XI.1855 roku w Stanbule wielki polski poeta niespodziewanie zakończył życie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33"/>
                </a:solidFill>
                <a:latin typeface="Arial"/>
              </a:rPr>
              <a:t>Ciało znanego już wtedy twórcy pochowano w Paryżu, a w 1890 roku przeniesiono trumnę do katedry wawelskiej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Portret wieszcz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343040" y="2209680"/>
            <a:ext cx="4800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Arial Unicode MS"/>
              </a:rPr>
              <a:t>  </a:t>
            </a:r>
            <a:r>
              <a:rPr b="1" i="1" lang="en-US" sz="2800" spc="-1" strike="noStrike">
                <a:solidFill>
                  <a:srgbClr val="333333"/>
                </a:solidFill>
                <a:latin typeface="Arial Unicode MS"/>
              </a:rPr>
              <a:t>(...) Razem, młodzi    przyjaciele!... W szczęściu wszystkiego są wszystkich cele; Jednością silni, rozumni szałem, Razem, młodzi przyjaciele!... (...)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Arial Unicode MS"/>
              </a:rPr>
              <a:t>                    </a:t>
            </a:r>
            <a:r>
              <a:rPr b="1" i="1" lang="en-US" sz="1400" spc="-1" strike="noStrike">
                <a:solidFill>
                  <a:srgbClr val="333333"/>
                </a:solidFill>
                <a:latin typeface="Arial Unicode MS"/>
              </a:rPr>
              <a:t>„</a:t>
            </a:r>
            <a:r>
              <a:rPr b="1" i="1" lang="en-US" sz="1400" spc="-1" strike="noStrike">
                <a:solidFill>
                  <a:srgbClr val="333333"/>
                </a:solidFill>
                <a:latin typeface="Arial Unicode MS"/>
              </a:rPr>
              <a:t>Oda do młodości”- fragmen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8" name="portret%20mickiewicza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3141720" cy="4191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914400" y="57913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(24.XII.1798-26.XI.1855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Największe dzieła i rok ich powstania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21337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333333"/>
                </a:solidFill>
                <a:latin typeface="Monotype Corsiva"/>
              </a:rPr>
              <a:t>Oda do młodości            - 1820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333333"/>
                </a:solidFill>
                <a:latin typeface="Monotype Corsiva"/>
              </a:rPr>
              <a:t>Ballady i romanse           - 1822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333333"/>
                </a:solidFill>
                <a:latin typeface="Monotype Corsiva"/>
              </a:rPr>
              <a:t>Grażyna                          -1823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333333"/>
                </a:solidFill>
                <a:latin typeface="Monotype Corsiva"/>
              </a:rPr>
              <a:t>Dziady cz.II,IV                  - 1823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333333"/>
                </a:solidFill>
                <a:latin typeface="Monotype Corsiva"/>
              </a:rPr>
              <a:t>Sonety krymskie               - 1826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333333"/>
                </a:solidFill>
                <a:latin typeface="Monotype Corsiva"/>
              </a:rPr>
              <a:t>Konrad Wallenrod            - 1828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333333"/>
                </a:solidFill>
                <a:latin typeface="Monotype Corsiva"/>
              </a:rPr>
              <a:t>Dziady cz.III                      - 1832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333333"/>
                </a:solidFill>
                <a:latin typeface="Monotype Corsiva"/>
              </a:rPr>
              <a:t>Pan Tadeusz                     - 1834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Etapy życia i ich charakterystyk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Monotype Corsiva"/>
              </a:rPr>
              <a:t>I Etap – dzieciństwo i lata szkoln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Monotype Corsiva"/>
              </a:rPr>
              <a:t>II Etap – wileńsko-kowieński  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Monotype Corsiva"/>
              </a:rPr>
              <a:t>III Etap – rosyjski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Monotype Corsiva"/>
              </a:rPr>
              <a:t>IV Etap – 1829-1832 (zwany drezdeńskim)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Monotype Corsiva"/>
              </a:rPr>
              <a:t>V Etap - paryski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Dzieciństwo i młodoś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333333"/>
                </a:solidFill>
                <a:latin typeface="Arial"/>
              </a:rPr>
              <a:t>Adam Mickiewicz przyszedł na świat 24 grudnia 1798 r. w Zaosiu. Wychowywał się w pobliskim Nowogródku, gdzie ojciec jego, Mikołaj, zdeklaso-wany szlachcic herbu Poraj, pracował jako obrońca sądowy. Matka Barbara Majewska też wywodziła się z drobnej szlachty. Na własne więc siły i umiejętności - nie zaś na szlacheckie pochodzenie czy też dziedziczne majątki - mógł liczyć również Adam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33"/>
                </a:solidFill>
                <a:latin typeface="Arial"/>
              </a:rPr>
              <a:t>            </a:t>
            </a:r>
            <a:r>
              <a:rPr b="0" lang="pl-PL" sz="2400" spc="-1" strike="noStrike">
                <a:solidFill>
                  <a:srgbClr val="333333"/>
                </a:solidFill>
                <a:latin typeface="Arial"/>
              </a:rPr>
              <a:t>W 1812r. głęboko przeżywa pożar Nowogródka, śmierć ojca i przemarsz wojsk Napoleona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333333"/>
                </a:solidFill>
                <a:latin typeface="Arial"/>
              </a:rPr>
              <a:t>Po ukończeniu miejscowej, prowadzonej przez dominikanów, szkoły (1815) udał się na studia filologiczno-historyczne do Wilna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Okres wileńsko-kowieńsk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333333"/>
                </a:solidFill>
                <a:latin typeface="Arial"/>
              </a:rPr>
              <a:t>Nazwą taką określa się ów okres życia Mickiewicza, gdyż związany jest   z dwoma miastami: najpierw studia      w Wilnie 1816-1819, potem praca         w szkole w Kownie. Studiując, u</a:t>
            </a:r>
            <a:r>
              <a:rPr b="0" lang="pl-PL" sz="3200" spc="-1" strike="noStrike">
                <a:solidFill>
                  <a:srgbClr val="333333"/>
                </a:solidFill>
                <a:latin typeface="Arial"/>
                <a:ea typeface="Arial"/>
              </a:rPr>
              <a:t>trzymywał się ze stypendium, które</a:t>
            </a:r>
            <a:r>
              <a:rPr b="0" lang="pl-PL" sz="32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pl-PL" sz="3200" spc="-1" strike="noStrike">
                <a:solidFill>
                  <a:srgbClr val="333333"/>
                </a:solidFill>
                <a:latin typeface="Arial"/>
                <a:ea typeface="Arial"/>
              </a:rPr>
              <a:t> po ukończeniu studiów (1819) musiał odpracować jako nauczyciel szkoły powiatowej w Kownie (1819 - 1823)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Kształtowanie się osobowośc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33"/>
                </a:solidFill>
                <a:latin typeface="Arial"/>
                <a:ea typeface="Arial"/>
              </a:rPr>
              <a:t>W czasie studiów wpływ na kształto</a:t>
            </a:r>
            <a:r>
              <a:rPr b="0" lang="pl-PL" sz="3200" spc="-1" strike="noStrike">
                <a:solidFill>
                  <a:srgbClr val="333333"/>
                </a:solidFill>
                <a:latin typeface="Arial"/>
              </a:rPr>
              <a:t>-</a:t>
            </a:r>
            <a:r>
              <a:rPr b="0" lang="pl-PL" sz="3200" spc="-1" strike="noStrike">
                <a:solidFill>
                  <a:srgbClr val="333333"/>
                </a:solidFill>
                <a:latin typeface="Arial"/>
                <a:ea typeface="Arial"/>
              </a:rPr>
              <a:t>wanie się jego osobowości, poziomu wiedzy i poetyckiego talentu wywarli zwłaszcza tacy profesorowie, jak filolog klasyczny Ernest Groddeck, historyk </a:t>
            </a:r>
            <a:r>
              <a:rPr b="0" lang="pl-PL" sz="32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0" lang="pl-PL" sz="3200" spc="-1" strike="noStrike">
                <a:solidFill>
                  <a:srgbClr val="333333"/>
                </a:solidFill>
                <a:latin typeface="Arial"/>
                <a:ea typeface="Arial"/>
              </a:rPr>
              <a:t>i teoretyk literatury Leon Borowski </a:t>
            </a:r>
            <a:r>
              <a:rPr b="0" lang="pl-PL" sz="3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pl-PL" sz="3200" spc="-1" strike="noStrike">
                <a:solidFill>
                  <a:srgbClr val="333333"/>
                </a:solidFill>
                <a:latin typeface="Arial"/>
                <a:ea typeface="Arial"/>
              </a:rPr>
              <a:t>oraz historyk Joachim Lelewel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Wydarzen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33"/>
                </a:solidFill>
                <a:latin typeface="Arial"/>
              </a:rPr>
              <a:t>Zdominowały ten okres następujące wydarzenia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33"/>
                </a:solidFill>
                <a:latin typeface="Arial"/>
              </a:rPr>
              <a:t>kontakty i przyjaźnie z młodymi studentami, udział w związkach filomatów i filaretów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33"/>
                </a:solidFill>
                <a:latin typeface="Arial"/>
              </a:rPr>
              <a:t>nieszczęśliwa miłość do Maryli Wereszczakówny, której rodzina uznała młodego, niezbyt bogatego poetę        za partię nieodpowiednią dla swojej córki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Okres rosyjsk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333333"/>
                </a:solidFill>
                <a:latin typeface="Arial"/>
              </a:rPr>
              <a:t>Rok 1823 odmienił żywot Mickiewicza. Wykryto organizację filomatów, rozpoczął się proces, Mickiewicz został uwięziony w Wilnie, a potem zesłany     w głąb Rosji – stąd nazwa tego okresu (rosyjski). W tym okresie spotykał         w Rosji i zaprzyjaźnił się z tamtejszymi romantykami – buntownikami (K.Relejewem, A. Puszkinem)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kub Przybylski</cp:lastModifiedBy>
  <dcterms:modified xsi:type="dcterms:W3CDTF">2003-01-17T21:11:04Z</dcterms:modified>
  <cp:revision>26</cp:revision>
  <dc:subject/>
  <dc:title>Adam Mickiewicz</dc:title>
</cp:coreProperties>
</file>