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853-01E9-4193-850B-D2870148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B62-67E6-4A7F-AD48-79D1B071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E47-9DB0-4460-9D6C-41478E90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8CA-9351-47FD-B2BD-37C32264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1E96-40A7-4822-8D4A-45A8A110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B6D-A270-44A6-BCD9-7269B448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12CB-B089-4F6E-BD4A-94D731B5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E10-3AE5-46C2-B669-456525E8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3FD4-EBAC-4286-8411-96421287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23B5-699B-4BFC-A640-9EA4621E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1BD6-F92E-4218-BA8B-01EBAEAD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784-2074-4A7A-A420-1096DBC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3F88-BD10-4323-9412-9BEBE9A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F1BB-3CDD-499F-B013-67DB0B7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DCDC-C6E4-4E59-8A5B-2BD2EFAA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D30B-0885-402A-BCFC-A630BD56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D3CD-970B-4D2A-A8EF-810605C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CAC-9ADB-41BE-A437-DD7C140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E0C-5C47-4539-B59A-D8952E2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628-A512-462A-B29F-3A1C998A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208-9877-4A51-848F-AE032E1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FF9-DAB8-4BC1-8052-0CAB3F9E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917-A21C-47BE-97F0-68D07747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96C-B450-4C3D-86D3-72190AF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0083-D022-49B3-87F3-EF043D53DDB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F04-F853-4CD4-85ED-0567F17A23D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990000"/>
                </a:solidFill>
                <a:latin typeface="Monotype Corsiva"/>
              </a:rPr>
              <a:t>Prezentacja filmowej adaptacji       </a:t>
            </a:r>
            <a:br>
              <a:rPr sz="6600"/>
            </a:br>
            <a:r>
              <a:rPr b="1" i="1" lang="pl-PL" sz="6600" spc="-1" strike="noStrike">
                <a:solidFill>
                  <a:srgbClr val="990000"/>
                </a:solidFill>
                <a:latin typeface="Monotype Corsiva"/>
              </a:rPr>
              <a:t>„Pana Tadeusza”</a:t>
            </a:r>
            <a:r>
              <a:rPr b="1" lang="pl-PL" sz="6600" spc="-1" strike="noStrike">
                <a:solidFill>
                  <a:srgbClr val="990000"/>
                </a:solidFill>
                <a:latin typeface="Monotype Corsiva"/>
              </a:rPr>
              <a:t> Andrzeja Wajd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990000"/>
                </a:solidFill>
                <a:latin typeface="Monotype Corsiva"/>
              </a:rPr>
              <a:t>Telime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f10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15" name="f8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16" name="pan_tadeusz27" descr=""/>
          <p:cNvPicPr/>
          <p:nvPr/>
        </p:nvPicPr>
        <p:blipFill>
          <a:blip r:embed="rId4"/>
          <a:stretch/>
        </p:blipFill>
        <p:spPr>
          <a:xfrm>
            <a:off x="5562720" y="1447920"/>
            <a:ext cx="325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Zosi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pan_tadeusz14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119" name="f11" descr=""/>
          <p:cNvPicPr/>
          <p:nvPr/>
        </p:nvPicPr>
        <p:blipFill>
          <a:blip r:embed="rId3"/>
          <a:stretch/>
        </p:blipFill>
        <p:spPr>
          <a:xfrm>
            <a:off x="5257800" y="152388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20" name="f2" descr=""/>
          <p:cNvPicPr/>
          <p:nvPr/>
        </p:nvPicPr>
        <p:blipFill>
          <a:blip r:embed="rId4"/>
          <a:stretch/>
        </p:blipFill>
        <p:spPr>
          <a:xfrm>
            <a:off x="1371600" y="426708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21" name="f18" descr=""/>
          <p:cNvPicPr/>
          <p:nvPr/>
        </p:nvPicPr>
        <p:blipFill>
          <a:blip r:embed="rId5"/>
          <a:stretch/>
        </p:blipFill>
        <p:spPr>
          <a:xfrm>
            <a:off x="5257800" y="4191120"/>
            <a:ext cx="33829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Sceny z filmu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f6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382920" cy="2438640"/>
          </a:xfrm>
          <a:prstGeom prst="rect">
            <a:avLst/>
          </a:prstGeom>
          <a:ln w="0">
            <a:noFill/>
          </a:ln>
        </p:spPr>
      </p:pic>
      <p:pic>
        <p:nvPicPr>
          <p:cNvPr id="125" name="f1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3382920" cy="2556000"/>
          </a:xfrm>
          <a:prstGeom prst="rect">
            <a:avLst/>
          </a:prstGeom>
          <a:ln w="0">
            <a:noFill/>
          </a:ln>
        </p:spPr>
      </p:pic>
      <p:pic>
        <p:nvPicPr>
          <p:cNvPr id="126" name="pan_tadeusz29" descr=""/>
          <p:cNvPicPr/>
          <p:nvPr/>
        </p:nvPicPr>
        <p:blipFill>
          <a:blip r:embed="rId4"/>
          <a:stretch/>
        </p:blipFill>
        <p:spPr>
          <a:xfrm>
            <a:off x="1219320" y="266688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Sceny batalistyczn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f12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an_tadeusz26" descr=""/>
          <p:cNvPicPr/>
          <p:nvPr/>
        </p:nvPicPr>
        <p:blipFill>
          <a:blip r:embed="rId3"/>
          <a:stretch/>
        </p:blipFill>
        <p:spPr>
          <a:xfrm>
            <a:off x="4343400" y="403848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Statystyk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podczas pierwszego weekendu wyświetlania filmu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0 ty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zień, w którym film obejrzał milionowy widz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.10.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po drugim weekendzie wyświetlania (31.10.99)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253.54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do 21 listopada 1999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800 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do 5 grudnia 1999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814 12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8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a widzów do czerwca 2000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110.706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Wide Latin"/>
              </a:rPr>
              <a:t>KONIEC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Lucida Handwriting"/>
              </a:rPr>
              <a:t>Informacja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1600"/>
            <a:ext cx="7620120" cy="53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data premiery:  22 października 199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gatunek: melodramat / historyczny / kostiumow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produkcja:  pols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data produkcji:  199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reżyseria:  Andrzej Waj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scenariusz: Andrzej Wajda, Piotr Wereśnia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na podstawie:  „Pana Tadeusza” Adama Mickiewic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zdjęcia: Paweł Edelm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muzyka: Wojciech Ki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00b5b"/>
                </a:solidFill>
                <a:latin typeface="Arial"/>
              </a:rPr>
              <a:t>scenografia: Allan Starsk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Lucida Handwriting"/>
              </a:rPr>
              <a:t>Obsa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Ksiądz Robak 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Bogusław Lin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Tadeusz Soplic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Michał Żebrowski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Sędzi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Andrzej Sewery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Zosi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Alicja Bachleda-Curuś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Telimena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Grażyna Szapołows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 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Hrabi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Marek Kondrat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Gerwazy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Daniel Olbrychsk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04920"/>
            <a:ext cx="74674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Podkomorzy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Jerzy Tre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Wojski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Jerzy Grał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Jankiel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: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Władysław Kowalsk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aciej Królik-Rózeczka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Jerzy Bińczyck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aciej Chrzciciel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Marek Perepeczk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Bartek Brzytewka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Cezary Kosiński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Konewka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Piotr Cyrw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Major Płut: 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Krzysztof Globis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Adam Mickiewicz:  </a:t>
            </a:r>
            <a:r>
              <a:rPr b="1" i="1" lang="pl-PL" sz="2800" spc="-1" strike="noStrike">
                <a:solidFill>
                  <a:srgbClr val="474747"/>
                </a:solidFill>
                <a:latin typeface="Arial"/>
              </a:rPr>
              <a:t>Krzysztof Kolber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990000"/>
                </a:solidFill>
                <a:latin typeface="Monotype Corsiva"/>
              </a:rPr>
              <a:t>Jacek Soplica   (Ksiądz Robak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an_tadeusz20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98" name="f16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an_tadeusz28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Gerwazy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pan_tadeusz32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257800" cy="3505320"/>
          </a:xfrm>
          <a:prstGeom prst="rect">
            <a:avLst/>
          </a:prstGeom>
          <a:ln w="0">
            <a:noFill/>
          </a:ln>
        </p:spPr>
      </p:pic>
      <p:pic>
        <p:nvPicPr>
          <p:cNvPr id="102" name="pan_tadeusz33" descr=""/>
          <p:cNvPicPr/>
          <p:nvPr/>
        </p:nvPicPr>
        <p:blipFill>
          <a:blip r:embed="rId3"/>
          <a:stretch/>
        </p:blipFill>
        <p:spPr>
          <a:xfrm>
            <a:off x="6603840" y="99072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ędz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f9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6019920" cy="4222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2320" y="5867280"/>
            <a:ext cx="5790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S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Monotype Corsiva"/>
              </a:rPr>
              <a:t>Hrabia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pan_tadeusz03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an_tadeusz06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3098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Monotype Corsiva"/>
              </a:rPr>
              <a:t>Tadeusz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an_tadeusz37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3810240" cy="2539800"/>
          </a:xfrm>
          <a:prstGeom prst="rect">
            <a:avLst/>
          </a:prstGeom>
          <a:ln w="0">
            <a:noFill/>
          </a:ln>
        </p:spPr>
      </p:pic>
      <p:pic>
        <p:nvPicPr>
          <p:cNvPr id="111" name="pan_tadeusz02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112" name="pan_tadeusz08" descr=""/>
          <p:cNvPicPr/>
          <p:nvPr/>
        </p:nvPicPr>
        <p:blipFill>
          <a:blip r:embed="rId4"/>
          <a:stretch/>
        </p:blipFill>
        <p:spPr>
          <a:xfrm>
            <a:off x="5638680" y="160020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kub Przybylski</cp:lastModifiedBy>
  <dcterms:modified xsi:type="dcterms:W3CDTF">2003-01-17T22:08:32Z</dcterms:modified>
  <cp:revision>18</cp:revision>
  <dc:subject/>
  <dc:title>Adam Mickiewicz</dc:title>
</cp:coreProperties>
</file>