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6A7-4CB3-4772-8750-63206A71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36A-1964-4108-A7D0-78A7C6F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4D7-0443-4EF1-B47A-510CB18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A8C-5BC9-4131-A8FA-8798210D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05C-2B1E-4475-839D-144E304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7F1-FE67-4104-A189-1782BAEB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F4D-4C56-412F-B6A9-4BA39D4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ADB-C2F3-4419-B5DC-BC4E6D45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4FF-6652-4B6C-8063-7291590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AA8-9313-44A3-9F49-9FB42EB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685-8966-4753-93EA-BBF9575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17A-0260-4F36-8768-207A26CB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4E64-B4E9-4ADD-BD94-66836B8A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CZĄTKI EUROPEJSKIEGO TEATR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rzędy ku czci Dionizosa genezą teatr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0" y="44953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 dla chór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5" descr=""/>
          <p:cNvPicPr/>
          <p:nvPr/>
        </p:nvPicPr>
        <p:blipFill>
          <a:blip r:embed="rId1"/>
          <a:stretch/>
        </p:blipFill>
        <p:spPr>
          <a:xfrm>
            <a:off x="457200" y="2041560"/>
            <a:ext cx="5410080" cy="37926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87560" y="4444560"/>
            <a:ext cx="1568520" cy="4064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OŻYT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T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EC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588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eatr Dionizosa   w Aten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u odbyła się prapremiera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„Antygon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8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dowa teatru ateński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9280" y="308916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85800" y="3733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kene i Proske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505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5053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62120" y="4800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t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62120" y="2666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56383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ktorzy występowali w maska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ska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0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eatr w Epidaur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9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Rozmieszczenie ośrodków teatralnych Gre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do III w. p.n.e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a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18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tr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90960" y="34286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zęść obi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la widz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5105520" cy="3679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979160" y="2633400"/>
            <a:ext cx="1471680" cy="676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kene i Proske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3352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yn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legają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 orchestry wr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 podwyższen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la akto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5" descr=""/>
          <p:cNvPicPr/>
          <p:nvPr/>
        </p:nvPicPr>
        <p:blipFill>
          <a:blip r:embed="rId1"/>
          <a:stretch/>
        </p:blipFill>
        <p:spPr>
          <a:xfrm>
            <a:off x="3886200" y="2170080"/>
            <a:ext cx="4572000" cy="36212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324600" y="3632400"/>
            <a:ext cx="1580400" cy="3549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5:24:08Z</dcterms:created>
  <dc:creator>Jakub Przybylski</dc:creator>
  <dc:description/>
  <dc:language>en-US</dc:language>
  <cp:lastModifiedBy>Jakub Przybylski</cp:lastModifiedBy>
  <dcterms:modified xsi:type="dcterms:W3CDTF">2003-01-18T23:51:21Z</dcterms:modified>
  <cp:revision>9</cp:revision>
  <dc:subject/>
  <dc:title>POCZĄTKI EUROPEJSKIEGO TEATRU</dc:title>
</cp:coreProperties>
</file>