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wmf" ContentType="image/x-wmf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29.png" ContentType="image/png"/>
  <Override PartName="/ppt/media/image47.png" ContentType="image/png"/>
  <Override PartName="/ppt/media/image10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.png" ContentType="image/png"/>
  <Override PartName="/ppt/media/image34.png" ContentType="image/png"/>
  <Override PartName="/ppt/media/image3.png" ContentType="image/png"/>
  <Override PartName="/ppt/media/image26.png" ContentType="image/png"/>
  <Override PartName="/ppt/media/image60.png" ContentType="image/png"/>
  <Override PartName="/ppt/media/image21.wmf" ContentType="image/x-wmf"/>
  <Override PartName="/ppt/media/image32.png" ContentType="image/png"/>
  <Override PartName="/ppt/media/image25.png" ContentType="image/png"/>
  <Override PartName="/ppt/media/image19.jpeg" ContentType="image/jpeg"/>
  <Override PartName="/ppt/media/image23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15.wmf" ContentType="image/x-wmf"/>
  <Override PartName="/ppt/media/image54.wmf" ContentType="image/x-wmf"/>
  <Override PartName="/ppt/media/image2.png" ContentType="image/png"/>
  <Override PartName="/ppt/media/image14.png" ContentType="image/png"/>
  <Override PartName="/ppt/media/image16.wmf" ContentType="image/x-wmf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53.wmf" ContentType="image/x-wmf"/>
  <Override PartName="/ppt/media/image27.jpeg" ContentType="image/jpeg"/>
  <Override PartName="/ppt/media/image17.wmf" ContentType="image/x-wmf"/>
  <Override PartName="/ppt/media/image9.png" ContentType="image/png"/>
  <Override PartName="/ppt/media/image39.png" ContentType="image/png"/>
  <Override PartName="/ppt/media/image61.wmf" ContentType="image/x-wmf"/>
  <Override PartName="/ppt/media/image7.wmf" ContentType="image/x-wmf"/>
  <Override PartName="/ppt/media/image12.png" ContentType="image/png"/>
  <Override PartName="/ppt/media/image52.wmf" ContentType="image/x-wmf"/>
  <Override PartName="/ppt/media/image28.wmf" ContentType="image/x-wmf"/>
  <Override PartName="/ppt/media/image31.jpeg" ContentType="image/jpeg"/>
  <Override PartName="/ppt/media/image33.wmf" ContentType="image/x-wmf"/>
  <Override PartName="/ppt/media/image37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jpeg" ContentType="image/jpeg"/>
  <Override PartName="/ppt/media/image56.wmf" ContentType="image/x-wmf"/>
  <Override PartName="/ppt/media/image50.png" ContentType="image/png"/>
  <Override PartName="/ppt/media/image51.png" ContentType="image/png"/>
  <Override PartName="/ppt/media/image55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A7AF-636C-4471-AFE9-D911161FC07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313920" y="4206960"/>
            <a:ext cx="6543720" cy="493704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Wspólnoty zmierzają m.in. 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znoszenia ceł i ograniczeń ilościowych w przywozie i wywozie towarów, jak również wszelkich innych środków wywierających podobny skute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ustanowienia wspólnej taryfy celnej i wspólnej polity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handlowej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usuwania wszelkich przeszkód w swobodnym przepływie osób, usług i kapitału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przyjęcia wspólnej polityki w dziedzinie rolnictw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przyjęcia wspólnej polityki w dziedzinie transportu, - ustanowienie systemu chroniącego przed naruszani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konkurencji na wspólnym rynku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zastosowania trybu postępowania, umożliwiając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koordynację polityki gospodarczej państw członkowsk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oraz zapobieganie niezrównoważeniu ich bilansó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płatniczych,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zbliżania prawa krajowego państw członkowskich 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zakresie niezbędnym dla właściwego funkcjonow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wspólnego rynku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30000" y="4562280"/>
            <a:ext cx="5670360" cy="37414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Zniesiono bariery celne oraz bariery technicz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(normy, standardy, przepisy), fiskalne (różne systemy podatkowe) i fizyczne (kontrole graniczne). Ustanowiono wspólną taryfę celną wobec krajów trzecich. Zniesiono ograniczenia ilościowe (zakazy importu i eksportu, kontyngenty) oraz np. regulacje dotyczące norm technicznych, składu produktu, rodzaju opakowania itp. Harmonizacja przepisów dotyczących norm, certyfikatów i podatków. Zasada wolnego przepływu towarów dotyczy wyrobów przemysłowych, oraz produktów rolnych i spożywczych. Wszystkie towary, które są produkowane i sprzedawane w jednym z krajów członkowskich, mogą być oferowane także w innych krajach Wspólno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550440" y="4421160"/>
            <a:ext cx="5986440" cy="34797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Obywatele państw członkowskich mają zapewnione prawo podejmowania pracy, osiedlenia się, życia, korzystania ze świadczeń socjalnych oraz do minimum pomocy w wybranym przez siebie kraju bez względu na przynależność państwową. Prawo pobytu mają nie tylko osoby aktywne ekonomicznie (pracujący lub poszukujący pracy) i ich rodziny, ale także studenci, emeryci i inni (warunkiem jest posiadanie wystarczających środków na utrzymanie oraz ubezpieczenie zdrowotne). Unijne regulacje      gwarantują także prawo do świadczeń socjalnych, także w dziedzinie edukacji i ochrony zdrowia (ulgi, zasiłki, stypendia itp.) oraz wzajemne uznawanie dyplomó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393480" y="4343400"/>
            <a:ext cx="6143400" cy="351792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Usługi to świadczenia wykonywane w ramach prowadzonej działalności handlowej, przemysłowej, rzemieślniczej oraz wolnych zawodów (np. lekarze, prawnicy). Wykonywanie usługi jest ograniczone czasowo i musi w jakiś sposób przekraczać którąś z granic wewnętrznych Wspólnoty.Swoboda przepływu usług oznacz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usługodawca udaje się na pewien czas do kraju usługobiorcy, aby wykonać usługę w innym kraju członkowskim,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usługobiorca udaje się do kraju usługodawcy i tam przyjmuje świadczenie (np. turyści),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usługodawca i usługobiorca pozostają w swoich krajach, a tylko usługa przekracza granicę (np. program telewizyjny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30000" y="4343400"/>
            <a:ext cx="5748120" cy="38512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Zasada swobodnego przepływu kapitału obejmuje transakcje finansowe nie związane z przepływem towarów, usług i osób. Wprowadzono wytyczne i zalecenia umożliwiające dopasowanie przepisów prawnych - obejmowały one działalność banków, kontrolę bankową, obrót papierami dewizowymi, prawo podatkowe itp. Dopiero w 1988 r. podjęto decyzję o całkowitej liberalizacji przepływu kapitału. Zgodnie z ustalonym wielostopniowym programem przepływ kapitału został zliberalizowany 1.01.1993 r. Swobodny przepływ kapitału daje obywatelom i przedsiębiorstwom prawo do założenia konta bankowego w każdym z krajów członkowskich oraz do nieograniczonego transferu środków pomiędzy krajami. Mogą oni lokować posiadany kapitał, a także uzyskiwać kredyty na całym obszarze Wspólno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5760" y="4343040"/>
            <a:ext cx="5992560" cy="482292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Szefowie państw i rządów w 1988 r., w Hanowerze powołali Komitet, którego zadaniem było zaproponowanie konkretnych działań i etapów dochodzenia do UGW. Komitet Delorsa (od nazwiska przewodniczącego Komisji Europejskiej), złożony z gubernatorów banków centralnych krajów Wspólnoty oraz niezależnych ekspertów, opracował raport, zawierający propozycje dotyczące integracji gospodarczej i walutowej. </a:t>
            </a:r>
            <a:r>
              <a:rPr b="1" lang="pl-PL" sz="1200" spc="-1" strike="noStrike" u="sng">
                <a:solidFill>
                  <a:srgbClr val="000000"/>
                </a:solidFill>
                <a:uFillTx/>
                <a:latin typeface="Times New Roman"/>
              </a:rPr>
              <a:t>Raport Delorsa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został opublikowany w 1989 r. Raport uzasadniał potrzebę realizacji UGW, określał jej warunki wstępne oraz propozycje etapów tworzenia Uni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UGW miała być końcowym rezultatem integracji gospodarczej i stanowić dwie integralne części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pl-PL" sz="1200" spc="-1" strike="noStrike" u="sng">
                <a:solidFill>
                  <a:srgbClr val="000000"/>
                </a:solidFill>
                <a:uFillTx/>
                <a:latin typeface="Times New Roman"/>
              </a:rPr>
              <a:t>Unia Walutowa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- obszar walutowy na którym zapewnione s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pełna i nieodwracalna wymienialność walu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całkowita liberalizacja transakcji kapitałowych i pełna integracja rynku finansoweg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eliminacja wahań kursów walutowych oraz nieodwołalne usztywnienie parytetów walutowych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pl-PL" sz="1200" spc="-1" strike="noStrike" u="sng">
                <a:solidFill>
                  <a:srgbClr val="000000"/>
                </a:solidFill>
                <a:uFillTx/>
                <a:latin typeface="Times New Roman"/>
              </a:rPr>
              <a:t>Unia Gospodarcza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- obszar gospodarczy na którym zapewnione s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jednolity rynek w ramach którego kapitały, towary, usługi i sił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robocza mogą się swobodnie przemieszczać,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polityka konkurencji mająca na celu zapewnienie niezakłócone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funkcjonowania rynku wewnętrznego (dostęp bez ograniczeń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wspólna polityka umożliwiająca przemiany struktury w gospoda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krajów członkowskich, zapobieganie pogłębianiu się dyspropor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między krajami (bo zabraknie instrumentu zmiany kursu walutowego),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- koordynacja polityki makroekonomicznej, a w szczególno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określenie reguł unikania nadmiernego deficytu budżetowego oraz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polityka antyinflacyj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Raport Delorsa przewidywał trzy etapy utworzenia UGW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240984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rzy podstawowe elementy Traktat z Maastrich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- przepisy dotyczące Wspólnot Europejskich już istniejących, powiększające jednak zakres ich funkcj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- postanowienia odnoszące się do wspólnej polityki zagranicznej i bezpieczeństw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- postanowienia dotyczące koordynowania polityk wymiaru sprawiedliwości i spraw wewnętrzn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531360" y="4343400"/>
            <a:ext cx="5689800" cy="405144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Traktat z Maastrich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ustanowione cele -art.B[2]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popieranie zrównoważonego i trwałego postępu gospodarczo-społecznego, w szczególności poprzez stworzenie obszaru pozbawionego wewnętrznych granic, wzmacnianie spójności ekonomicznej i społecznej, i ustanowienie 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Times New Roman"/>
              </a:rPr>
              <a:t>unii gospodarczo walutowej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, docelowo z jedna walutą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potwierdzanie swojej tożsamości na arenie międzynarodowej, w szczególności poprzez realizację wspólnej polityki zagranicznej i bezpieczeństwa, włącznie z docelowym sformułowaniem wspólnej polityki obronnej, która mogłaby w przyszłości doprowadzić do wspólnego systemu obrony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wzmacnianie ochrony praw i interesów obywateli państw członkowskich poprzez wprowadzenie obywatelstwa Unii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rozwijanie bliskiej współpracy w zakresie wymiaru sprawiedliwości i spraw wewnętrznych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- pełne zachowanie i wzmacnianie 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acquis communautaire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(prawnego dorobku wspólnotoweg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303120" y="4271760"/>
            <a:ext cx="6554880" cy="650844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Times New Roman"/>
              </a:rPr>
              <a:t>Drugi etap realizacji UGW (1994 - 199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Times New Roman"/>
              </a:rPr>
              <a:t>Traktat z Maastricht ustalił termin rozpoczęcia drugiego etapu tworzenia UGW na 1.01.1994 r. W drugim etapie kraje  zobowiązały się do koordynacji polityki pieniężnej i makroekonomicznej oraz unikania nadmiernego deficytu budżetowego oraz do zapewnienia niezależności swojego banku centralnego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Times New Roman"/>
              </a:rPr>
              <a:t>1.01.1994 r. został zamrożony skład kursowy koszyka ECU oraz po rozwiązaniu Komitetu Gubernatorów Banków Centralnych i Europejskiego Funduszu Współpracy Walutowej powstał Europejski Instytut Monetarny (EIM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Times New Roman"/>
              </a:rPr>
              <a:t>Głównym zadaniem EIM była kontrola zobowiązań wynikających z drugiego etapu utworzenia Unii, a przede wszystkim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Times New Roman"/>
              </a:rPr>
              <a:t>- umacnianie współpracy między narodowymi bankami   centralnymi,</a:t>
            </a:r>
            <a:br>
              <a:rPr sz="1500"/>
            </a:br>
            <a:r>
              <a:rPr b="1" lang="pl-PL" sz="1500" spc="-1" strike="noStrike">
                <a:solidFill>
                  <a:srgbClr val="000000"/>
                </a:solidFill>
                <a:latin typeface="Times New Roman"/>
              </a:rPr>
              <a:t>- umacnianie koordynacji narodowych polityk pieniężnych oraz dążenie do zapewnienia stabilności cen,</a:t>
            </a:r>
            <a:br>
              <a:rPr sz="1500"/>
            </a:br>
            <a:r>
              <a:rPr b="1" lang="pl-PL" sz="1500" spc="-1" strike="noStrike">
                <a:solidFill>
                  <a:srgbClr val="000000"/>
                </a:solidFill>
                <a:latin typeface="Times New Roman"/>
              </a:rPr>
              <a:t>- kontrola funkcjonowania Europejskiego Systemu Walutowego,</a:t>
            </a:r>
            <a:br>
              <a:rPr sz="1500"/>
            </a:br>
            <a:r>
              <a:rPr b="1" lang="pl-PL" sz="1500" spc="-1" strike="noStrike">
                <a:solidFill>
                  <a:srgbClr val="000000"/>
                </a:solidFill>
                <a:latin typeface="Times New Roman"/>
              </a:rPr>
              <a:t>- przygotowanie dokumentów i procedur koniecznych do   prowadzenia w UGW jednolitej polityki walutowej,</a:t>
            </a:r>
            <a:br>
              <a:rPr sz="1500"/>
            </a:br>
            <a:r>
              <a:rPr b="1" lang="pl-PL" sz="1500" spc="-1" strike="noStrike">
                <a:solidFill>
                  <a:srgbClr val="000000"/>
                </a:solidFill>
                <a:latin typeface="Times New Roman"/>
              </a:rPr>
              <a:t>- przygotowanie zasad operacji, które będą podejmowane przez narodowe banki centralne w ramach Europejskiego Systemu Banków Centralnych,</a:t>
            </a:r>
            <a:br>
              <a:rPr sz="1500"/>
            </a:br>
            <a:r>
              <a:rPr b="1" lang="pl-PL" sz="1500" spc="-1" strike="noStrike">
                <a:solidFill>
                  <a:srgbClr val="000000"/>
                </a:solidFill>
                <a:latin typeface="Times New Roman"/>
              </a:rPr>
              <a:t>- przygotowanie emisji banknotów nowego pieniądz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455760" y="4343400"/>
            <a:ext cx="6068880" cy="4492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Kraje UE w protokole dołączonym do Traktatu z Maastrich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potwierdziły, że akceptacja przez nie postanowień Traktatu d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nieodwracalny charakter przejściu Wspólnoty w finalne sta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tworzenia UGW, do którego dążyć będą wszystkie państw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Powinny więc one respektować wolę Wspólnoty rozpoczęc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trzeciego etapu i nie przeszkadzać sobie nawzajem w dążeni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do tego wspólnego cel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Przejście do trzeciego etapu uzależniono od tempa dostosow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gospodarek krajów UE do wymogów dotyczących sytuacji  ekonomicznej, określonych w Traktacie z Maastricht. Celem tych działań było zbliżenie poziomu rozwoju gospodarek krajów członkowski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Kryteria wejścia kraju do UGW określone w Traktacie z Maastric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1. Średnia stopa inflacji nie może być wyższy niż 1,5 punktu procentowego od średniej stopy inflacji w trzech krajach UE o   najniższej inflacj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eficyt budżetowy nie może przekroczyć 3 % PKB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D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ług publiczny nie może przekroczyć 60 % PKB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Średnia nominalna długookresowa stopa procentowa nie może   być wyższa o 2 punkty procentowe średniej nominalnej długookresowej stopy procentowej w trzech krajach UE o najniższej inflacji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Państwo członkowskie w ramach mechanizmu kursowego ESW,  przez co najmniej 2 lata, musi zachować przedział wahań kursów walut. W tym okresie waluta tego państwa nie może być ewaluowana w stosunku do walut innych krajów 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531720" y="4416480"/>
            <a:ext cx="5765760" cy="243324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2.05 1998 r. w Brukseli, Rada Europejska zdecydowała, iż od 1.01.1999 r członkami UGW stają się: Austria, Belgia, Finlandia, Francja, Hiszpania, Holandia, Irlandia, Luksemburg, Niemcy, Portugalia i Włochy (11 państw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Dwunastym członkiem UGW, 1.01.2001 r., została Grecj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Do UGW nie przystąpiły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Grecja, Dania, Wielka Brytania i Szwecja. Duńczycy odrzuci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możliwość wstąpienia Danii do Unii Walutowej. Grecja i Szwecja nie wypełniły kryteriów Traktat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8740-9786-4967-A507-50A77ED8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335B-7561-402A-8AD8-3D752CC3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5905-E5D0-438C-BE2B-A3AF4651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ED7C-2D4E-438D-BE58-6FFA3347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2416-74B3-4EDA-B359-90D429E8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DCC-06AE-4B19-A155-EA524F67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CC3-BA9A-4816-84F8-F89CE3F2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2D0B-B524-4857-9C60-CABA0B3D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945E-B083-47B2-A1B5-42A07D1C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717D-2D08-4E17-BC53-3DA27CFB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4C3-E940-45DE-A21E-6704ED6F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D44D-70FC-4759-AD3C-476DD277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C753-4A6F-433D-9C56-F61D5B92C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image" Target="../media/image14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29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image" Target="../media/image50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image" Target="../media/image35.png"/><Relationship Id="rId8" Type="http://schemas.openxmlformats.org/officeDocument/2006/relationships/image" Target="../media/image38.png"/><Relationship Id="rId9" Type="http://schemas.openxmlformats.org/officeDocument/2006/relationships/image" Target="../media/image36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3.png"/><Relationship Id="rId13" Type="http://schemas.openxmlformats.org/officeDocument/2006/relationships/image" Target="../media/image41.png"/><Relationship Id="rId14" Type="http://schemas.openxmlformats.org/officeDocument/2006/relationships/image" Target="../media/image37.png"/><Relationship Id="rId15" Type="http://schemas.openxmlformats.org/officeDocument/2006/relationships/image" Target="../media/image1.png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53.wmf"/><Relationship Id="rId18" Type="http://schemas.openxmlformats.org/officeDocument/2006/relationships/image" Target="../media/image51.png"/><Relationship Id="rId19" Type="http://schemas.openxmlformats.org/officeDocument/2006/relationships/image" Target="../media/image52.wmf"/><Relationship Id="rId20" Type="http://schemas.openxmlformats.org/officeDocument/2006/relationships/image" Target="../media/image42.png"/><Relationship Id="rId2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image" Target="../media/image35.png"/><Relationship Id="rId8" Type="http://schemas.openxmlformats.org/officeDocument/2006/relationships/image" Target="../media/image38.png"/><Relationship Id="rId9" Type="http://schemas.openxmlformats.org/officeDocument/2006/relationships/image" Target="../media/image36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3.png"/><Relationship Id="rId13" Type="http://schemas.openxmlformats.org/officeDocument/2006/relationships/image" Target="../media/image41.png"/><Relationship Id="rId14" Type="http://schemas.openxmlformats.org/officeDocument/2006/relationships/image" Target="../media/image37.png"/><Relationship Id="rId15" Type="http://schemas.openxmlformats.org/officeDocument/2006/relationships/image" Target="../media/image1.png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54.wmf"/><Relationship Id="rId18" Type="http://schemas.openxmlformats.org/officeDocument/2006/relationships/image" Target="../media/image52.wmf"/><Relationship Id="rId19" Type="http://schemas.openxmlformats.org/officeDocument/2006/relationships/image" Target="../media/image42.png"/><Relationship Id="rId2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6.wmf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42520" y="457200"/>
            <a:ext cx="62600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99"/>
                </a:solidFill>
                <a:latin typeface="Times New Roman"/>
              </a:rPr>
              <a:t>Unia Europejsk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99"/>
                </a:solidFill>
                <a:latin typeface="Times New Roman"/>
              </a:rPr>
              <a:t>Etapy integracj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Flaga_UE" descr=""/>
          <p:cNvPicPr/>
          <p:nvPr/>
        </p:nvPicPr>
        <p:blipFill>
          <a:blip r:embed="rId2"/>
          <a:stretch/>
        </p:blipFill>
        <p:spPr>
          <a:xfrm>
            <a:off x="3446640" y="2297160"/>
            <a:ext cx="2252520" cy="1512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80" y="6424560"/>
            <a:ext cx="1951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erpień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219320" y="133992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Art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wyznacza ce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0"/>
            <a:ext cx="1447920" cy="155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Bookman Old Style"/>
              </a:rPr>
              <a:t>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5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941760"/>
            <a:ext cx="3503520" cy="227412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harmonijny rozwój działalności gospodarczej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942360"/>
            <a:ext cx="3807000" cy="335016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stały i równomierny rozwój państw  członkowski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689200"/>
            <a:ext cx="3119400" cy="173052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umacnianie stabilnośc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498400"/>
            <a:ext cx="3276360" cy="281232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zacieśnianie stosunków między państwam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Wspólno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9080" y="4023000"/>
            <a:ext cx="3274920" cy="227412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szybsze podnoszenie poziomu życ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0" y="0"/>
            <a:ext cx="2133720" cy="3124080"/>
            <a:chOff x="0" y="0"/>
            <a:chExt cx="2133720" cy="3124080"/>
          </a:xfrm>
        </p:grpSpPr>
        <p:pic>
          <p:nvPicPr>
            <p:cNvPr id="153" name="Traktat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37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89280" y="730800"/>
              <a:ext cx="1821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Trakta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zymski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56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0"/>
            <a:ext cx="1447920" cy="155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Bookman Old Style"/>
              </a:rPr>
              <a:t>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5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9080" y="6323760"/>
            <a:ext cx="997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352680" y="1600200"/>
            <a:ext cx="2438640" cy="1947960"/>
            <a:chOff x="3352680" y="1600200"/>
            <a:chExt cx="2438640" cy="1947960"/>
          </a:xfrm>
        </p:grpSpPr>
        <p:pic>
          <p:nvPicPr>
            <p:cNvPr id="162" name="PUZZLE" descr=""/>
            <p:cNvPicPr/>
            <p:nvPr/>
          </p:nvPicPr>
          <p:blipFill>
            <a:blip r:embed="rId2"/>
            <a:stretch/>
          </p:blipFill>
          <p:spPr>
            <a:xfrm>
              <a:off x="3352680" y="1600200"/>
              <a:ext cx="2438640" cy="19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494880" y="1784160"/>
              <a:ext cx="2171160" cy="15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99"/>
                  </a:solidFill>
                  <a:latin typeface="Times New Roman"/>
                </a:rPr>
                <a:t>Wspólnoty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99"/>
                  </a:solidFill>
                  <a:latin typeface="Times New Roman"/>
                </a:rPr>
                <a:t>zmierzają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3399"/>
                  </a:solidFill>
                  <a:latin typeface="Times New Roman"/>
                </a:rPr>
                <a:t> </a:t>
              </a:r>
              <a:r>
                <a:rPr b="1" lang="en-US" sz="3400" spc="-1" strike="noStrike">
                  <a:solidFill>
                    <a:srgbClr val="003399"/>
                  </a:solidFill>
                  <a:latin typeface="Times New Roman"/>
                </a:rPr>
                <a:t>do: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0" y="594216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</a:rPr>
              <a:t>Założone cele zrealizowano (lub częściowo) dopiero 1.01.1993 r,  wraz z otwarciem Jednolitego Ryn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52280" y="914400"/>
            <a:ext cx="8686800" cy="5943600"/>
            <a:chOff x="152280" y="914400"/>
            <a:chExt cx="8686800" cy="5943600"/>
          </a:xfrm>
        </p:grpSpPr>
        <p:sp>
          <p:nvSpPr>
            <p:cNvPr id="166" name=""/>
            <p:cNvSpPr/>
            <p:nvPr/>
          </p:nvSpPr>
          <p:spPr>
            <a:xfrm>
              <a:off x="6058080" y="914400"/>
              <a:ext cx="2781000" cy="2706840"/>
            </a:xfrm>
            <a:custGeom>
              <a:avLst/>
              <a:gdLst/>
              <a:ahLst/>
              <a:rect l="l" t="t" r="r" b="b"/>
              <a:pathLst>
                <a:path w="1752" h="1705">
                  <a:moveTo>
                    <a:pt x="0" y="355"/>
                  </a:moveTo>
                  <a:lnTo>
                    <a:pt x="0" y="0"/>
                  </a:lnTo>
                  <a:lnTo>
                    <a:pt x="1751" y="0"/>
                  </a:lnTo>
                  <a:lnTo>
                    <a:pt x="1752" y="1362"/>
                  </a:lnTo>
                  <a:lnTo>
                    <a:pt x="1600" y="1362"/>
                  </a:lnTo>
                  <a:lnTo>
                    <a:pt x="1594" y="1374"/>
                  </a:lnTo>
                  <a:lnTo>
                    <a:pt x="1589" y="1391"/>
                  </a:lnTo>
                  <a:lnTo>
                    <a:pt x="1589" y="1404"/>
                  </a:lnTo>
                  <a:lnTo>
                    <a:pt x="1591" y="1421"/>
                  </a:lnTo>
                  <a:lnTo>
                    <a:pt x="1597" y="1442"/>
                  </a:lnTo>
                  <a:lnTo>
                    <a:pt x="1603" y="1470"/>
                  </a:lnTo>
                  <a:lnTo>
                    <a:pt x="1609" y="1488"/>
                  </a:lnTo>
                  <a:lnTo>
                    <a:pt x="1614" y="1511"/>
                  </a:lnTo>
                  <a:lnTo>
                    <a:pt x="1617" y="1532"/>
                  </a:lnTo>
                  <a:lnTo>
                    <a:pt x="1617" y="1553"/>
                  </a:lnTo>
                  <a:lnTo>
                    <a:pt x="1614" y="1573"/>
                  </a:lnTo>
                  <a:lnTo>
                    <a:pt x="1609" y="1594"/>
                  </a:lnTo>
                  <a:lnTo>
                    <a:pt x="1602" y="1614"/>
                  </a:lnTo>
                  <a:lnTo>
                    <a:pt x="1589" y="1629"/>
                  </a:lnTo>
                  <a:lnTo>
                    <a:pt x="1573" y="1647"/>
                  </a:lnTo>
                  <a:lnTo>
                    <a:pt x="1556" y="1661"/>
                  </a:lnTo>
                  <a:lnTo>
                    <a:pt x="1541" y="1675"/>
                  </a:lnTo>
                  <a:lnTo>
                    <a:pt x="1523" y="1685"/>
                  </a:lnTo>
                  <a:lnTo>
                    <a:pt x="1501" y="1693"/>
                  </a:lnTo>
                  <a:lnTo>
                    <a:pt x="1476" y="1701"/>
                  </a:lnTo>
                  <a:lnTo>
                    <a:pt x="1451" y="1704"/>
                  </a:lnTo>
                  <a:lnTo>
                    <a:pt x="1430" y="1705"/>
                  </a:lnTo>
                  <a:lnTo>
                    <a:pt x="1407" y="1705"/>
                  </a:lnTo>
                  <a:lnTo>
                    <a:pt x="1386" y="1704"/>
                  </a:lnTo>
                  <a:lnTo>
                    <a:pt x="1369" y="1701"/>
                  </a:lnTo>
                  <a:lnTo>
                    <a:pt x="1349" y="1695"/>
                  </a:lnTo>
                  <a:lnTo>
                    <a:pt x="1330" y="1689"/>
                  </a:lnTo>
                  <a:lnTo>
                    <a:pt x="1314" y="1679"/>
                  </a:lnTo>
                  <a:lnTo>
                    <a:pt x="1298" y="1667"/>
                  </a:lnTo>
                  <a:lnTo>
                    <a:pt x="1282" y="1652"/>
                  </a:lnTo>
                  <a:lnTo>
                    <a:pt x="1267" y="1635"/>
                  </a:lnTo>
                  <a:lnTo>
                    <a:pt x="1254" y="1619"/>
                  </a:lnTo>
                  <a:lnTo>
                    <a:pt x="1243" y="1600"/>
                  </a:lnTo>
                  <a:lnTo>
                    <a:pt x="1235" y="1578"/>
                  </a:lnTo>
                  <a:lnTo>
                    <a:pt x="1229" y="1552"/>
                  </a:lnTo>
                  <a:lnTo>
                    <a:pt x="1229" y="1527"/>
                  </a:lnTo>
                  <a:lnTo>
                    <a:pt x="1235" y="1503"/>
                  </a:lnTo>
                  <a:lnTo>
                    <a:pt x="1241" y="1479"/>
                  </a:lnTo>
                  <a:lnTo>
                    <a:pt x="1248" y="1454"/>
                  </a:lnTo>
                  <a:lnTo>
                    <a:pt x="1255" y="1427"/>
                  </a:lnTo>
                  <a:lnTo>
                    <a:pt x="1258" y="1406"/>
                  </a:lnTo>
                  <a:lnTo>
                    <a:pt x="1258" y="1394"/>
                  </a:lnTo>
                  <a:lnTo>
                    <a:pt x="1257" y="1383"/>
                  </a:lnTo>
                  <a:lnTo>
                    <a:pt x="1252" y="1371"/>
                  </a:lnTo>
                  <a:lnTo>
                    <a:pt x="960" y="1371"/>
                  </a:lnTo>
                  <a:lnTo>
                    <a:pt x="965" y="1319"/>
                  </a:lnTo>
                  <a:lnTo>
                    <a:pt x="963" y="1290"/>
                  </a:lnTo>
                  <a:lnTo>
                    <a:pt x="960" y="1263"/>
                  </a:lnTo>
                  <a:lnTo>
                    <a:pt x="957" y="1237"/>
                  </a:lnTo>
                  <a:lnTo>
                    <a:pt x="953" y="1220"/>
                  </a:lnTo>
                  <a:lnTo>
                    <a:pt x="945" y="1205"/>
                  </a:lnTo>
                  <a:lnTo>
                    <a:pt x="936" y="1191"/>
                  </a:lnTo>
                  <a:lnTo>
                    <a:pt x="921" y="1179"/>
                  </a:lnTo>
                  <a:lnTo>
                    <a:pt x="904" y="1169"/>
                  </a:lnTo>
                  <a:lnTo>
                    <a:pt x="887" y="1163"/>
                  </a:lnTo>
                  <a:lnTo>
                    <a:pt x="872" y="1160"/>
                  </a:lnTo>
                  <a:lnTo>
                    <a:pt x="846" y="1158"/>
                  </a:lnTo>
                  <a:lnTo>
                    <a:pt x="816" y="1158"/>
                  </a:lnTo>
                  <a:lnTo>
                    <a:pt x="787" y="1161"/>
                  </a:lnTo>
                  <a:lnTo>
                    <a:pt x="755" y="1163"/>
                  </a:lnTo>
                  <a:lnTo>
                    <a:pt x="731" y="1166"/>
                  </a:lnTo>
                  <a:lnTo>
                    <a:pt x="699" y="1167"/>
                  </a:lnTo>
                  <a:lnTo>
                    <a:pt x="673" y="1166"/>
                  </a:lnTo>
                  <a:lnTo>
                    <a:pt x="650" y="1163"/>
                  </a:lnTo>
                  <a:lnTo>
                    <a:pt x="615" y="1155"/>
                  </a:lnTo>
                  <a:lnTo>
                    <a:pt x="592" y="1144"/>
                  </a:lnTo>
                  <a:lnTo>
                    <a:pt x="571" y="1129"/>
                  </a:lnTo>
                  <a:lnTo>
                    <a:pt x="557" y="1112"/>
                  </a:lnTo>
                  <a:lnTo>
                    <a:pt x="545" y="1094"/>
                  </a:lnTo>
                  <a:lnTo>
                    <a:pt x="536" y="1071"/>
                  </a:lnTo>
                  <a:lnTo>
                    <a:pt x="535" y="1047"/>
                  </a:lnTo>
                  <a:lnTo>
                    <a:pt x="535" y="1017"/>
                  </a:lnTo>
                  <a:lnTo>
                    <a:pt x="536" y="994"/>
                  </a:lnTo>
                  <a:lnTo>
                    <a:pt x="535" y="971"/>
                  </a:lnTo>
                  <a:lnTo>
                    <a:pt x="529" y="945"/>
                  </a:lnTo>
                  <a:lnTo>
                    <a:pt x="524" y="930"/>
                  </a:lnTo>
                  <a:lnTo>
                    <a:pt x="516" y="915"/>
                  </a:lnTo>
                  <a:lnTo>
                    <a:pt x="507" y="904"/>
                  </a:lnTo>
                  <a:lnTo>
                    <a:pt x="498" y="895"/>
                  </a:lnTo>
                  <a:lnTo>
                    <a:pt x="478" y="886"/>
                  </a:lnTo>
                  <a:lnTo>
                    <a:pt x="456" y="875"/>
                  </a:lnTo>
                  <a:lnTo>
                    <a:pt x="430" y="868"/>
                  </a:lnTo>
                  <a:lnTo>
                    <a:pt x="399" y="860"/>
                  </a:lnTo>
                  <a:lnTo>
                    <a:pt x="369" y="854"/>
                  </a:lnTo>
                  <a:lnTo>
                    <a:pt x="337" y="849"/>
                  </a:lnTo>
                  <a:lnTo>
                    <a:pt x="314" y="842"/>
                  </a:lnTo>
                  <a:lnTo>
                    <a:pt x="290" y="834"/>
                  </a:lnTo>
                  <a:lnTo>
                    <a:pt x="266" y="825"/>
                  </a:lnTo>
                  <a:lnTo>
                    <a:pt x="249" y="811"/>
                  </a:lnTo>
                  <a:lnTo>
                    <a:pt x="229" y="795"/>
                  </a:lnTo>
                  <a:lnTo>
                    <a:pt x="216" y="780"/>
                  </a:lnTo>
                  <a:lnTo>
                    <a:pt x="203" y="761"/>
                  </a:lnTo>
                  <a:lnTo>
                    <a:pt x="194" y="740"/>
                  </a:lnTo>
                  <a:lnTo>
                    <a:pt x="191" y="717"/>
                  </a:lnTo>
                  <a:lnTo>
                    <a:pt x="191" y="696"/>
                  </a:lnTo>
                  <a:lnTo>
                    <a:pt x="196" y="676"/>
                  </a:lnTo>
                  <a:lnTo>
                    <a:pt x="203" y="647"/>
                  </a:lnTo>
                  <a:lnTo>
                    <a:pt x="211" y="618"/>
                  </a:lnTo>
                  <a:lnTo>
                    <a:pt x="214" y="593"/>
                  </a:lnTo>
                  <a:lnTo>
                    <a:pt x="220" y="567"/>
                  </a:lnTo>
                  <a:lnTo>
                    <a:pt x="223" y="541"/>
                  </a:lnTo>
                  <a:lnTo>
                    <a:pt x="220" y="514"/>
                  </a:lnTo>
                  <a:lnTo>
                    <a:pt x="214" y="489"/>
                  </a:lnTo>
                  <a:lnTo>
                    <a:pt x="205" y="465"/>
                  </a:lnTo>
                  <a:lnTo>
                    <a:pt x="193" y="442"/>
                  </a:lnTo>
                  <a:lnTo>
                    <a:pt x="179" y="424"/>
                  </a:lnTo>
                  <a:lnTo>
                    <a:pt x="171" y="413"/>
                  </a:lnTo>
                  <a:lnTo>
                    <a:pt x="158" y="400"/>
                  </a:lnTo>
                  <a:lnTo>
                    <a:pt x="144" y="387"/>
                  </a:lnTo>
                  <a:lnTo>
                    <a:pt x="130" y="378"/>
                  </a:lnTo>
                  <a:lnTo>
                    <a:pt x="112" y="369"/>
                  </a:lnTo>
                  <a:lnTo>
                    <a:pt x="94" y="363"/>
                  </a:lnTo>
                  <a:lnTo>
                    <a:pt x="71" y="357"/>
                  </a:lnTo>
                  <a:lnTo>
                    <a:pt x="45" y="355"/>
                  </a:lnTo>
                  <a:lnTo>
                    <a:pt x="22" y="355"/>
                  </a:lnTo>
                  <a:lnTo>
                    <a:pt x="0" y="35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45120" y="3827520"/>
              <a:ext cx="2793960" cy="2268360"/>
            </a:xfrm>
            <a:custGeom>
              <a:avLst/>
              <a:gdLst/>
              <a:ahLst/>
              <a:rect l="l" t="t" r="r" b="b"/>
              <a:pathLst>
                <a:path w="1760" h="1429">
                  <a:moveTo>
                    <a:pt x="0" y="1130"/>
                  </a:moveTo>
                  <a:lnTo>
                    <a:pt x="0" y="1429"/>
                  </a:lnTo>
                  <a:lnTo>
                    <a:pt x="1760" y="1429"/>
                  </a:lnTo>
                  <a:lnTo>
                    <a:pt x="1759" y="0"/>
                  </a:lnTo>
                  <a:lnTo>
                    <a:pt x="1602" y="0"/>
                  </a:lnTo>
                  <a:lnTo>
                    <a:pt x="1594" y="28"/>
                  </a:lnTo>
                  <a:lnTo>
                    <a:pt x="1594" y="47"/>
                  </a:lnTo>
                  <a:lnTo>
                    <a:pt x="1599" y="75"/>
                  </a:lnTo>
                  <a:lnTo>
                    <a:pt x="1608" y="104"/>
                  </a:lnTo>
                  <a:lnTo>
                    <a:pt x="1617" y="139"/>
                  </a:lnTo>
                  <a:lnTo>
                    <a:pt x="1622" y="166"/>
                  </a:lnTo>
                  <a:lnTo>
                    <a:pt x="1622" y="190"/>
                  </a:lnTo>
                  <a:lnTo>
                    <a:pt x="1619" y="218"/>
                  </a:lnTo>
                  <a:lnTo>
                    <a:pt x="1611" y="243"/>
                  </a:lnTo>
                  <a:lnTo>
                    <a:pt x="1594" y="268"/>
                  </a:lnTo>
                  <a:lnTo>
                    <a:pt x="1575" y="289"/>
                  </a:lnTo>
                  <a:lnTo>
                    <a:pt x="1553" y="309"/>
                  </a:lnTo>
                  <a:lnTo>
                    <a:pt x="1529" y="322"/>
                  </a:lnTo>
                  <a:lnTo>
                    <a:pt x="1500" y="333"/>
                  </a:lnTo>
                  <a:lnTo>
                    <a:pt x="1474" y="339"/>
                  </a:lnTo>
                  <a:lnTo>
                    <a:pt x="1438" y="341"/>
                  </a:lnTo>
                  <a:lnTo>
                    <a:pt x="1395" y="338"/>
                  </a:lnTo>
                  <a:lnTo>
                    <a:pt x="1368" y="333"/>
                  </a:lnTo>
                  <a:lnTo>
                    <a:pt x="1344" y="327"/>
                  </a:lnTo>
                  <a:lnTo>
                    <a:pt x="1321" y="313"/>
                  </a:lnTo>
                  <a:lnTo>
                    <a:pt x="1292" y="291"/>
                  </a:lnTo>
                  <a:lnTo>
                    <a:pt x="1274" y="269"/>
                  </a:lnTo>
                  <a:lnTo>
                    <a:pt x="1257" y="246"/>
                  </a:lnTo>
                  <a:lnTo>
                    <a:pt x="1248" y="222"/>
                  </a:lnTo>
                  <a:lnTo>
                    <a:pt x="1242" y="199"/>
                  </a:lnTo>
                  <a:lnTo>
                    <a:pt x="1242" y="173"/>
                  </a:lnTo>
                  <a:lnTo>
                    <a:pt x="1245" y="148"/>
                  </a:lnTo>
                  <a:lnTo>
                    <a:pt x="1251" y="123"/>
                  </a:lnTo>
                  <a:lnTo>
                    <a:pt x="1257" y="101"/>
                  </a:lnTo>
                  <a:lnTo>
                    <a:pt x="1265" y="76"/>
                  </a:lnTo>
                  <a:lnTo>
                    <a:pt x="1269" y="52"/>
                  </a:lnTo>
                  <a:lnTo>
                    <a:pt x="1269" y="31"/>
                  </a:lnTo>
                  <a:lnTo>
                    <a:pt x="1263" y="6"/>
                  </a:lnTo>
                  <a:lnTo>
                    <a:pt x="968" y="6"/>
                  </a:lnTo>
                  <a:lnTo>
                    <a:pt x="971" y="56"/>
                  </a:lnTo>
                  <a:lnTo>
                    <a:pt x="968" y="91"/>
                  </a:lnTo>
                  <a:lnTo>
                    <a:pt x="967" y="120"/>
                  </a:lnTo>
                  <a:lnTo>
                    <a:pt x="967" y="146"/>
                  </a:lnTo>
                  <a:lnTo>
                    <a:pt x="964" y="173"/>
                  </a:lnTo>
                  <a:lnTo>
                    <a:pt x="958" y="201"/>
                  </a:lnTo>
                  <a:lnTo>
                    <a:pt x="950" y="219"/>
                  </a:lnTo>
                  <a:lnTo>
                    <a:pt x="939" y="236"/>
                  </a:lnTo>
                  <a:lnTo>
                    <a:pt x="924" y="249"/>
                  </a:lnTo>
                  <a:lnTo>
                    <a:pt x="907" y="260"/>
                  </a:lnTo>
                  <a:lnTo>
                    <a:pt x="888" y="266"/>
                  </a:lnTo>
                  <a:lnTo>
                    <a:pt x="866" y="269"/>
                  </a:lnTo>
                  <a:lnTo>
                    <a:pt x="847" y="271"/>
                  </a:lnTo>
                  <a:lnTo>
                    <a:pt x="821" y="271"/>
                  </a:lnTo>
                  <a:lnTo>
                    <a:pt x="797" y="268"/>
                  </a:lnTo>
                  <a:lnTo>
                    <a:pt x="777" y="266"/>
                  </a:lnTo>
                  <a:lnTo>
                    <a:pt x="751" y="265"/>
                  </a:lnTo>
                  <a:lnTo>
                    <a:pt x="724" y="262"/>
                  </a:lnTo>
                  <a:lnTo>
                    <a:pt x="693" y="262"/>
                  </a:lnTo>
                  <a:lnTo>
                    <a:pt x="667" y="265"/>
                  </a:lnTo>
                  <a:lnTo>
                    <a:pt x="641" y="268"/>
                  </a:lnTo>
                  <a:lnTo>
                    <a:pt x="614" y="275"/>
                  </a:lnTo>
                  <a:lnTo>
                    <a:pt x="594" y="286"/>
                  </a:lnTo>
                  <a:lnTo>
                    <a:pt x="573" y="300"/>
                  </a:lnTo>
                  <a:lnTo>
                    <a:pt x="559" y="318"/>
                  </a:lnTo>
                  <a:lnTo>
                    <a:pt x="546" y="338"/>
                  </a:lnTo>
                  <a:lnTo>
                    <a:pt x="540" y="357"/>
                  </a:lnTo>
                  <a:lnTo>
                    <a:pt x="537" y="380"/>
                  </a:lnTo>
                  <a:lnTo>
                    <a:pt x="540" y="403"/>
                  </a:lnTo>
                  <a:lnTo>
                    <a:pt x="541" y="427"/>
                  </a:lnTo>
                  <a:lnTo>
                    <a:pt x="540" y="453"/>
                  </a:lnTo>
                  <a:lnTo>
                    <a:pt x="535" y="473"/>
                  </a:lnTo>
                  <a:lnTo>
                    <a:pt x="529" y="494"/>
                  </a:lnTo>
                  <a:lnTo>
                    <a:pt x="520" y="514"/>
                  </a:lnTo>
                  <a:lnTo>
                    <a:pt x="508" y="528"/>
                  </a:lnTo>
                  <a:lnTo>
                    <a:pt x="488" y="541"/>
                  </a:lnTo>
                  <a:lnTo>
                    <a:pt x="464" y="550"/>
                  </a:lnTo>
                  <a:lnTo>
                    <a:pt x="439" y="558"/>
                  </a:lnTo>
                  <a:lnTo>
                    <a:pt x="417" y="564"/>
                  </a:lnTo>
                  <a:lnTo>
                    <a:pt x="392" y="570"/>
                  </a:lnTo>
                  <a:lnTo>
                    <a:pt x="360" y="576"/>
                  </a:lnTo>
                  <a:lnTo>
                    <a:pt x="336" y="581"/>
                  </a:lnTo>
                  <a:lnTo>
                    <a:pt x="310" y="588"/>
                  </a:lnTo>
                  <a:lnTo>
                    <a:pt x="289" y="596"/>
                  </a:lnTo>
                  <a:lnTo>
                    <a:pt x="268" y="605"/>
                  </a:lnTo>
                  <a:lnTo>
                    <a:pt x="251" y="617"/>
                  </a:lnTo>
                  <a:lnTo>
                    <a:pt x="236" y="630"/>
                  </a:lnTo>
                  <a:lnTo>
                    <a:pt x="219" y="649"/>
                  </a:lnTo>
                  <a:lnTo>
                    <a:pt x="208" y="668"/>
                  </a:lnTo>
                  <a:lnTo>
                    <a:pt x="199" y="689"/>
                  </a:lnTo>
                  <a:lnTo>
                    <a:pt x="195" y="715"/>
                  </a:lnTo>
                  <a:lnTo>
                    <a:pt x="198" y="739"/>
                  </a:lnTo>
                  <a:lnTo>
                    <a:pt x="201" y="763"/>
                  </a:lnTo>
                  <a:lnTo>
                    <a:pt x="208" y="792"/>
                  </a:lnTo>
                  <a:lnTo>
                    <a:pt x="216" y="824"/>
                  </a:lnTo>
                  <a:lnTo>
                    <a:pt x="222" y="853"/>
                  </a:lnTo>
                  <a:lnTo>
                    <a:pt x="225" y="876"/>
                  </a:lnTo>
                  <a:lnTo>
                    <a:pt x="225" y="897"/>
                  </a:lnTo>
                  <a:lnTo>
                    <a:pt x="222" y="926"/>
                  </a:lnTo>
                  <a:lnTo>
                    <a:pt x="214" y="950"/>
                  </a:lnTo>
                  <a:lnTo>
                    <a:pt x="208" y="972"/>
                  </a:lnTo>
                  <a:lnTo>
                    <a:pt x="199" y="991"/>
                  </a:lnTo>
                  <a:lnTo>
                    <a:pt x="187" y="1017"/>
                  </a:lnTo>
                  <a:lnTo>
                    <a:pt x="170" y="1046"/>
                  </a:lnTo>
                  <a:lnTo>
                    <a:pt x="152" y="1067"/>
                  </a:lnTo>
                  <a:lnTo>
                    <a:pt x="134" y="1084"/>
                  </a:lnTo>
                  <a:lnTo>
                    <a:pt x="117" y="1099"/>
                  </a:lnTo>
                  <a:lnTo>
                    <a:pt x="99" y="1111"/>
                  </a:lnTo>
                  <a:lnTo>
                    <a:pt x="81" y="1119"/>
                  </a:lnTo>
                  <a:lnTo>
                    <a:pt x="55" y="1125"/>
                  </a:lnTo>
                  <a:lnTo>
                    <a:pt x="26" y="1130"/>
                  </a:lnTo>
                  <a:lnTo>
                    <a:pt x="0" y="113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2280" y="3200400"/>
              <a:ext cx="2781360" cy="2706840"/>
            </a:xfrm>
            <a:custGeom>
              <a:avLst/>
              <a:gdLst/>
              <a:ahLst/>
              <a:rect l="l" t="t" r="r" b="b"/>
              <a:pathLst>
                <a:path w="1752" h="1705">
                  <a:moveTo>
                    <a:pt x="1752" y="1404"/>
                  </a:moveTo>
                  <a:lnTo>
                    <a:pt x="1752" y="1705"/>
                  </a:lnTo>
                  <a:lnTo>
                    <a:pt x="1" y="1705"/>
                  </a:lnTo>
                  <a:lnTo>
                    <a:pt x="0" y="343"/>
                  </a:lnTo>
                  <a:lnTo>
                    <a:pt x="152" y="343"/>
                  </a:lnTo>
                  <a:lnTo>
                    <a:pt x="158" y="331"/>
                  </a:lnTo>
                  <a:lnTo>
                    <a:pt x="162" y="314"/>
                  </a:lnTo>
                  <a:lnTo>
                    <a:pt x="162" y="301"/>
                  </a:lnTo>
                  <a:lnTo>
                    <a:pt x="161" y="284"/>
                  </a:lnTo>
                  <a:lnTo>
                    <a:pt x="155" y="263"/>
                  </a:lnTo>
                  <a:lnTo>
                    <a:pt x="149" y="235"/>
                  </a:lnTo>
                  <a:lnTo>
                    <a:pt x="143" y="217"/>
                  </a:lnTo>
                  <a:lnTo>
                    <a:pt x="136" y="194"/>
                  </a:lnTo>
                  <a:lnTo>
                    <a:pt x="135" y="173"/>
                  </a:lnTo>
                  <a:lnTo>
                    <a:pt x="135" y="152"/>
                  </a:lnTo>
                  <a:lnTo>
                    <a:pt x="136" y="132"/>
                  </a:lnTo>
                  <a:lnTo>
                    <a:pt x="143" y="111"/>
                  </a:lnTo>
                  <a:lnTo>
                    <a:pt x="150" y="91"/>
                  </a:lnTo>
                  <a:lnTo>
                    <a:pt x="162" y="76"/>
                  </a:lnTo>
                  <a:lnTo>
                    <a:pt x="179" y="57"/>
                  </a:lnTo>
                  <a:lnTo>
                    <a:pt x="194" y="44"/>
                  </a:lnTo>
                  <a:lnTo>
                    <a:pt x="211" y="30"/>
                  </a:lnTo>
                  <a:lnTo>
                    <a:pt x="229" y="19"/>
                  </a:lnTo>
                  <a:lnTo>
                    <a:pt x="250" y="10"/>
                  </a:lnTo>
                  <a:lnTo>
                    <a:pt x="275" y="4"/>
                  </a:lnTo>
                  <a:lnTo>
                    <a:pt x="301" y="1"/>
                  </a:lnTo>
                  <a:lnTo>
                    <a:pt x="322" y="0"/>
                  </a:lnTo>
                  <a:lnTo>
                    <a:pt x="345" y="0"/>
                  </a:lnTo>
                  <a:lnTo>
                    <a:pt x="366" y="1"/>
                  </a:lnTo>
                  <a:lnTo>
                    <a:pt x="383" y="4"/>
                  </a:lnTo>
                  <a:lnTo>
                    <a:pt x="402" y="10"/>
                  </a:lnTo>
                  <a:lnTo>
                    <a:pt x="422" y="16"/>
                  </a:lnTo>
                  <a:lnTo>
                    <a:pt x="437" y="25"/>
                  </a:lnTo>
                  <a:lnTo>
                    <a:pt x="454" y="38"/>
                  </a:lnTo>
                  <a:lnTo>
                    <a:pt x="469" y="53"/>
                  </a:lnTo>
                  <a:lnTo>
                    <a:pt x="484" y="69"/>
                  </a:lnTo>
                  <a:lnTo>
                    <a:pt x="498" y="86"/>
                  </a:lnTo>
                  <a:lnTo>
                    <a:pt x="509" y="104"/>
                  </a:lnTo>
                  <a:lnTo>
                    <a:pt x="516" y="127"/>
                  </a:lnTo>
                  <a:lnTo>
                    <a:pt x="522" y="153"/>
                  </a:lnTo>
                  <a:lnTo>
                    <a:pt x="522" y="177"/>
                  </a:lnTo>
                  <a:lnTo>
                    <a:pt x="516" y="202"/>
                  </a:lnTo>
                  <a:lnTo>
                    <a:pt x="510" y="226"/>
                  </a:lnTo>
                  <a:lnTo>
                    <a:pt x="504" y="250"/>
                  </a:lnTo>
                  <a:lnTo>
                    <a:pt x="497" y="278"/>
                  </a:lnTo>
                  <a:lnTo>
                    <a:pt x="492" y="299"/>
                  </a:lnTo>
                  <a:lnTo>
                    <a:pt x="492" y="311"/>
                  </a:lnTo>
                  <a:lnTo>
                    <a:pt x="495" y="322"/>
                  </a:lnTo>
                  <a:lnTo>
                    <a:pt x="500" y="334"/>
                  </a:lnTo>
                  <a:lnTo>
                    <a:pt x="790" y="334"/>
                  </a:lnTo>
                  <a:lnTo>
                    <a:pt x="784" y="390"/>
                  </a:lnTo>
                  <a:lnTo>
                    <a:pt x="782" y="424"/>
                  </a:lnTo>
                  <a:lnTo>
                    <a:pt x="784" y="451"/>
                  </a:lnTo>
                  <a:lnTo>
                    <a:pt x="785" y="477"/>
                  </a:lnTo>
                  <a:lnTo>
                    <a:pt x="788" y="504"/>
                  </a:lnTo>
                  <a:lnTo>
                    <a:pt x="793" y="532"/>
                  </a:lnTo>
                  <a:lnTo>
                    <a:pt x="802" y="550"/>
                  </a:lnTo>
                  <a:lnTo>
                    <a:pt x="813" y="565"/>
                  </a:lnTo>
                  <a:lnTo>
                    <a:pt x="826" y="579"/>
                  </a:lnTo>
                  <a:lnTo>
                    <a:pt x="845" y="589"/>
                  </a:lnTo>
                  <a:lnTo>
                    <a:pt x="864" y="597"/>
                  </a:lnTo>
                  <a:lnTo>
                    <a:pt x="884" y="600"/>
                  </a:lnTo>
                  <a:lnTo>
                    <a:pt x="905" y="601"/>
                  </a:lnTo>
                  <a:lnTo>
                    <a:pt x="930" y="601"/>
                  </a:lnTo>
                  <a:lnTo>
                    <a:pt x="956" y="598"/>
                  </a:lnTo>
                  <a:lnTo>
                    <a:pt x="974" y="597"/>
                  </a:lnTo>
                  <a:lnTo>
                    <a:pt x="1001" y="594"/>
                  </a:lnTo>
                  <a:lnTo>
                    <a:pt x="1029" y="591"/>
                  </a:lnTo>
                  <a:lnTo>
                    <a:pt x="1059" y="591"/>
                  </a:lnTo>
                  <a:lnTo>
                    <a:pt x="1085" y="594"/>
                  </a:lnTo>
                  <a:lnTo>
                    <a:pt x="1111" y="598"/>
                  </a:lnTo>
                  <a:lnTo>
                    <a:pt x="1137" y="608"/>
                  </a:lnTo>
                  <a:lnTo>
                    <a:pt x="1158" y="617"/>
                  </a:lnTo>
                  <a:lnTo>
                    <a:pt x="1179" y="632"/>
                  </a:lnTo>
                  <a:lnTo>
                    <a:pt x="1193" y="649"/>
                  </a:lnTo>
                  <a:lnTo>
                    <a:pt x="1205" y="668"/>
                  </a:lnTo>
                  <a:lnTo>
                    <a:pt x="1213" y="690"/>
                  </a:lnTo>
                  <a:lnTo>
                    <a:pt x="1216" y="711"/>
                  </a:lnTo>
                  <a:lnTo>
                    <a:pt x="1213" y="735"/>
                  </a:lnTo>
                  <a:lnTo>
                    <a:pt x="1211" y="760"/>
                  </a:lnTo>
                  <a:lnTo>
                    <a:pt x="1213" y="784"/>
                  </a:lnTo>
                  <a:lnTo>
                    <a:pt x="1216" y="805"/>
                  </a:lnTo>
                  <a:lnTo>
                    <a:pt x="1223" y="825"/>
                  </a:lnTo>
                  <a:lnTo>
                    <a:pt x="1232" y="845"/>
                  </a:lnTo>
                  <a:lnTo>
                    <a:pt x="1244" y="858"/>
                  </a:lnTo>
                  <a:lnTo>
                    <a:pt x="1263" y="872"/>
                  </a:lnTo>
                  <a:lnTo>
                    <a:pt x="1287" y="881"/>
                  </a:lnTo>
                  <a:lnTo>
                    <a:pt x="1313" y="889"/>
                  </a:lnTo>
                  <a:lnTo>
                    <a:pt x="1334" y="895"/>
                  </a:lnTo>
                  <a:lnTo>
                    <a:pt x="1360" y="901"/>
                  </a:lnTo>
                  <a:lnTo>
                    <a:pt x="1390" y="907"/>
                  </a:lnTo>
                  <a:lnTo>
                    <a:pt x="1416" y="912"/>
                  </a:lnTo>
                  <a:lnTo>
                    <a:pt x="1442" y="919"/>
                  </a:lnTo>
                  <a:lnTo>
                    <a:pt x="1463" y="927"/>
                  </a:lnTo>
                  <a:lnTo>
                    <a:pt x="1485" y="936"/>
                  </a:lnTo>
                  <a:lnTo>
                    <a:pt x="1501" y="948"/>
                  </a:lnTo>
                  <a:lnTo>
                    <a:pt x="1515" y="960"/>
                  </a:lnTo>
                  <a:lnTo>
                    <a:pt x="1533" y="980"/>
                  </a:lnTo>
                  <a:lnTo>
                    <a:pt x="1544" y="998"/>
                  </a:lnTo>
                  <a:lnTo>
                    <a:pt x="1553" y="1018"/>
                  </a:lnTo>
                  <a:lnTo>
                    <a:pt x="1558" y="1045"/>
                  </a:lnTo>
                  <a:lnTo>
                    <a:pt x="1554" y="1071"/>
                  </a:lnTo>
                  <a:lnTo>
                    <a:pt x="1550" y="1094"/>
                  </a:lnTo>
                  <a:lnTo>
                    <a:pt x="1544" y="1123"/>
                  </a:lnTo>
                  <a:lnTo>
                    <a:pt x="1536" y="1155"/>
                  </a:lnTo>
                  <a:lnTo>
                    <a:pt x="1529" y="1184"/>
                  </a:lnTo>
                  <a:lnTo>
                    <a:pt x="1526" y="1208"/>
                  </a:lnTo>
                  <a:lnTo>
                    <a:pt x="1526" y="1228"/>
                  </a:lnTo>
                  <a:lnTo>
                    <a:pt x="1530" y="1257"/>
                  </a:lnTo>
                  <a:lnTo>
                    <a:pt x="1536" y="1281"/>
                  </a:lnTo>
                  <a:lnTo>
                    <a:pt x="1545" y="1299"/>
                  </a:lnTo>
                  <a:lnTo>
                    <a:pt x="1556" y="1317"/>
                  </a:lnTo>
                  <a:lnTo>
                    <a:pt x="1571" y="1337"/>
                  </a:lnTo>
                  <a:lnTo>
                    <a:pt x="1588" y="1357"/>
                  </a:lnTo>
                  <a:lnTo>
                    <a:pt x="1608" y="1374"/>
                  </a:lnTo>
                  <a:lnTo>
                    <a:pt x="1630" y="1387"/>
                  </a:lnTo>
                  <a:lnTo>
                    <a:pt x="1652" y="1395"/>
                  </a:lnTo>
                  <a:lnTo>
                    <a:pt x="1675" y="1401"/>
                  </a:lnTo>
                  <a:lnTo>
                    <a:pt x="1697" y="1404"/>
                  </a:lnTo>
                  <a:lnTo>
                    <a:pt x="1725" y="1406"/>
                  </a:lnTo>
                  <a:lnTo>
                    <a:pt x="1752" y="1404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914400"/>
              <a:ext cx="2793960" cy="2268360"/>
            </a:xfrm>
            <a:custGeom>
              <a:avLst/>
              <a:gdLst/>
              <a:ahLst/>
              <a:rect l="l" t="t" r="r" b="b"/>
              <a:pathLst>
                <a:path w="1760" h="1429">
                  <a:moveTo>
                    <a:pt x="1760" y="355"/>
                  </a:moveTo>
                  <a:lnTo>
                    <a:pt x="1760" y="0"/>
                  </a:lnTo>
                  <a:lnTo>
                    <a:pt x="0" y="0"/>
                  </a:lnTo>
                  <a:lnTo>
                    <a:pt x="1" y="1429"/>
                  </a:lnTo>
                  <a:lnTo>
                    <a:pt x="158" y="1429"/>
                  </a:lnTo>
                  <a:lnTo>
                    <a:pt x="165" y="1401"/>
                  </a:lnTo>
                  <a:lnTo>
                    <a:pt x="165" y="1381"/>
                  </a:lnTo>
                  <a:lnTo>
                    <a:pt x="161" y="1354"/>
                  </a:lnTo>
                  <a:lnTo>
                    <a:pt x="152" y="1325"/>
                  </a:lnTo>
                  <a:lnTo>
                    <a:pt x="143" y="1290"/>
                  </a:lnTo>
                  <a:lnTo>
                    <a:pt x="138" y="1263"/>
                  </a:lnTo>
                  <a:lnTo>
                    <a:pt x="136" y="1239"/>
                  </a:lnTo>
                  <a:lnTo>
                    <a:pt x="141" y="1211"/>
                  </a:lnTo>
                  <a:lnTo>
                    <a:pt x="149" y="1185"/>
                  </a:lnTo>
                  <a:lnTo>
                    <a:pt x="165" y="1160"/>
                  </a:lnTo>
                  <a:lnTo>
                    <a:pt x="185" y="1140"/>
                  </a:lnTo>
                  <a:lnTo>
                    <a:pt x="206" y="1120"/>
                  </a:lnTo>
                  <a:lnTo>
                    <a:pt x="231" y="1106"/>
                  </a:lnTo>
                  <a:lnTo>
                    <a:pt x="260" y="1094"/>
                  </a:lnTo>
                  <a:lnTo>
                    <a:pt x="285" y="1090"/>
                  </a:lnTo>
                  <a:lnTo>
                    <a:pt x="322" y="1088"/>
                  </a:lnTo>
                  <a:lnTo>
                    <a:pt x="364" y="1091"/>
                  </a:lnTo>
                  <a:lnTo>
                    <a:pt x="392" y="1094"/>
                  </a:lnTo>
                  <a:lnTo>
                    <a:pt x="416" y="1102"/>
                  </a:lnTo>
                  <a:lnTo>
                    <a:pt x="439" y="1115"/>
                  </a:lnTo>
                  <a:lnTo>
                    <a:pt x="468" y="1138"/>
                  </a:lnTo>
                  <a:lnTo>
                    <a:pt x="486" y="1160"/>
                  </a:lnTo>
                  <a:lnTo>
                    <a:pt x="503" y="1182"/>
                  </a:lnTo>
                  <a:lnTo>
                    <a:pt x="512" y="1207"/>
                  </a:lnTo>
                  <a:lnTo>
                    <a:pt x="518" y="1229"/>
                  </a:lnTo>
                  <a:lnTo>
                    <a:pt x="518" y="1255"/>
                  </a:lnTo>
                  <a:lnTo>
                    <a:pt x="515" y="1281"/>
                  </a:lnTo>
                  <a:lnTo>
                    <a:pt x="509" y="1305"/>
                  </a:lnTo>
                  <a:lnTo>
                    <a:pt x="503" y="1328"/>
                  </a:lnTo>
                  <a:lnTo>
                    <a:pt x="495" y="1353"/>
                  </a:lnTo>
                  <a:lnTo>
                    <a:pt x="491" y="1377"/>
                  </a:lnTo>
                  <a:lnTo>
                    <a:pt x="491" y="1398"/>
                  </a:lnTo>
                  <a:lnTo>
                    <a:pt x="497" y="1423"/>
                  </a:lnTo>
                  <a:lnTo>
                    <a:pt x="792" y="1423"/>
                  </a:lnTo>
                  <a:lnTo>
                    <a:pt x="788" y="1372"/>
                  </a:lnTo>
                  <a:lnTo>
                    <a:pt x="792" y="1336"/>
                  </a:lnTo>
                  <a:lnTo>
                    <a:pt x="792" y="1309"/>
                  </a:lnTo>
                  <a:lnTo>
                    <a:pt x="793" y="1283"/>
                  </a:lnTo>
                  <a:lnTo>
                    <a:pt x="796" y="1255"/>
                  </a:lnTo>
                  <a:lnTo>
                    <a:pt x="802" y="1228"/>
                  </a:lnTo>
                  <a:lnTo>
                    <a:pt x="810" y="1210"/>
                  </a:lnTo>
                  <a:lnTo>
                    <a:pt x="820" y="1193"/>
                  </a:lnTo>
                  <a:lnTo>
                    <a:pt x="836" y="1179"/>
                  </a:lnTo>
                  <a:lnTo>
                    <a:pt x="852" y="1169"/>
                  </a:lnTo>
                  <a:lnTo>
                    <a:pt x="872" y="1163"/>
                  </a:lnTo>
                  <a:lnTo>
                    <a:pt x="893" y="1160"/>
                  </a:lnTo>
                  <a:lnTo>
                    <a:pt x="913" y="1158"/>
                  </a:lnTo>
                  <a:lnTo>
                    <a:pt x="939" y="1158"/>
                  </a:lnTo>
                  <a:lnTo>
                    <a:pt x="963" y="1160"/>
                  </a:lnTo>
                  <a:lnTo>
                    <a:pt x="983" y="1163"/>
                  </a:lnTo>
                  <a:lnTo>
                    <a:pt x="1009" y="1164"/>
                  </a:lnTo>
                  <a:lnTo>
                    <a:pt x="1036" y="1167"/>
                  </a:lnTo>
                  <a:lnTo>
                    <a:pt x="1067" y="1167"/>
                  </a:lnTo>
                  <a:lnTo>
                    <a:pt x="1092" y="1164"/>
                  </a:lnTo>
                  <a:lnTo>
                    <a:pt x="1118" y="1160"/>
                  </a:lnTo>
                  <a:lnTo>
                    <a:pt x="1146" y="1153"/>
                  </a:lnTo>
                  <a:lnTo>
                    <a:pt x="1165" y="1143"/>
                  </a:lnTo>
                  <a:lnTo>
                    <a:pt x="1187" y="1129"/>
                  </a:lnTo>
                  <a:lnTo>
                    <a:pt x="1200" y="1111"/>
                  </a:lnTo>
                  <a:lnTo>
                    <a:pt x="1214" y="1091"/>
                  </a:lnTo>
                  <a:lnTo>
                    <a:pt x="1220" y="1071"/>
                  </a:lnTo>
                  <a:lnTo>
                    <a:pt x="1223" y="1049"/>
                  </a:lnTo>
                  <a:lnTo>
                    <a:pt x="1220" y="1026"/>
                  </a:lnTo>
                  <a:lnTo>
                    <a:pt x="1219" y="1001"/>
                  </a:lnTo>
                  <a:lnTo>
                    <a:pt x="1220" y="976"/>
                  </a:lnTo>
                  <a:lnTo>
                    <a:pt x="1225" y="956"/>
                  </a:lnTo>
                  <a:lnTo>
                    <a:pt x="1231" y="935"/>
                  </a:lnTo>
                  <a:lnTo>
                    <a:pt x="1240" y="915"/>
                  </a:lnTo>
                  <a:lnTo>
                    <a:pt x="1252" y="901"/>
                  </a:lnTo>
                  <a:lnTo>
                    <a:pt x="1272" y="887"/>
                  </a:lnTo>
                  <a:lnTo>
                    <a:pt x="1296" y="878"/>
                  </a:lnTo>
                  <a:lnTo>
                    <a:pt x="1320" y="871"/>
                  </a:lnTo>
                  <a:lnTo>
                    <a:pt x="1343" y="865"/>
                  </a:lnTo>
                  <a:lnTo>
                    <a:pt x="1368" y="859"/>
                  </a:lnTo>
                  <a:lnTo>
                    <a:pt x="1399" y="852"/>
                  </a:lnTo>
                  <a:lnTo>
                    <a:pt x="1424" y="848"/>
                  </a:lnTo>
                  <a:lnTo>
                    <a:pt x="1450" y="840"/>
                  </a:lnTo>
                  <a:lnTo>
                    <a:pt x="1471" y="833"/>
                  </a:lnTo>
                  <a:lnTo>
                    <a:pt x="1492" y="824"/>
                  </a:lnTo>
                  <a:lnTo>
                    <a:pt x="1509" y="811"/>
                  </a:lnTo>
                  <a:lnTo>
                    <a:pt x="1524" y="799"/>
                  </a:lnTo>
                  <a:lnTo>
                    <a:pt x="1541" y="780"/>
                  </a:lnTo>
                  <a:lnTo>
                    <a:pt x="1551" y="761"/>
                  </a:lnTo>
                  <a:lnTo>
                    <a:pt x="1561" y="740"/>
                  </a:lnTo>
                  <a:lnTo>
                    <a:pt x="1565" y="713"/>
                  </a:lnTo>
                  <a:lnTo>
                    <a:pt x="1562" y="690"/>
                  </a:lnTo>
                  <a:lnTo>
                    <a:pt x="1559" y="666"/>
                  </a:lnTo>
                  <a:lnTo>
                    <a:pt x="1551" y="637"/>
                  </a:lnTo>
                  <a:lnTo>
                    <a:pt x="1544" y="605"/>
                  </a:lnTo>
                  <a:lnTo>
                    <a:pt x="1536" y="576"/>
                  </a:lnTo>
                  <a:lnTo>
                    <a:pt x="1535" y="553"/>
                  </a:lnTo>
                  <a:lnTo>
                    <a:pt x="1535" y="532"/>
                  </a:lnTo>
                  <a:lnTo>
                    <a:pt x="1538" y="503"/>
                  </a:lnTo>
                  <a:lnTo>
                    <a:pt x="1545" y="479"/>
                  </a:lnTo>
                  <a:lnTo>
                    <a:pt x="1553" y="460"/>
                  </a:lnTo>
                  <a:lnTo>
                    <a:pt x="1564" y="442"/>
                  </a:lnTo>
                  <a:lnTo>
                    <a:pt x="1579" y="422"/>
                  </a:lnTo>
                  <a:lnTo>
                    <a:pt x="1596" y="403"/>
                  </a:lnTo>
                  <a:lnTo>
                    <a:pt x="1617" y="386"/>
                  </a:lnTo>
                  <a:lnTo>
                    <a:pt x="1640" y="372"/>
                  </a:lnTo>
                  <a:lnTo>
                    <a:pt x="1661" y="365"/>
                  </a:lnTo>
                  <a:lnTo>
                    <a:pt x="1682" y="358"/>
                  </a:lnTo>
                  <a:lnTo>
                    <a:pt x="1705" y="355"/>
                  </a:lnTo>
                  <a:lnTo>
                    <a:pt x="1732" y="355"/>
                  </a:lnTo>
                  <a:lnTo>
                    <a:pt x="1760" y="35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97360" y="3462480"/>
              <a:ext cx="3098520" cy="3395520"/>
            </a:xfrm>
            <a:custGeom>
              <a:avLst/>
              <a:gdLst/>
              <a:ahLst/>
              <a:rect l="l" t="t" r="r" b="b"/>
              <a:pathLst>
                <a:path w="1952" h="2139">
                  <a:moveTo>
                    <a:pt x="744" y="447"/>
                  </a:moveTo>
                  <a:lnTo>
                    <a:pt x="763" y="423"/>
                  </a:lnTo>
                  <a:lnTo>
                    <a:pt x="777" y="400"/>
                  </a:lnTo>
                  <a:lnTo>
                    <a:pt x="785" y="374"/>
                  </a:lnTo>
                  <a:lnTo>
                    <a:pt x="785" y="341"/>
                  </a:lnTo>
                  <a:lnTo>
                    <a:pt x="775" y="303"/>
                  </a:lnTo>
                  <a:lnTo>
                    <a:pt x="768" y="271"/>
                  </a:lnTo>
                  <a:lnTo>
                    <a:pt x="757" y="231"/>
                  </a:lnTo>
                  <a:lnTo>
                    <a:pt x="753" y="189"/>
                  </a:lnTo>
                  <a:lnTo>
                    <a:pt x="757" y="163"/>
                  </a:lnTo>
                  <a:lnTo>
                    <a:pt x="765" y="131"/>
                  </a:lnTo>
                  <a:lnTo>
                    <a:pt x="780" y="98"/>
                  </a:lnTo>
                  <a:lnTo>
                    <a:pt x="801" y="66"/>
                  </a:lnTo>
                  <a:lnTo>
                    <a:pt x="829" y="40"/>
                  </a:lnTo>
                  <a:lnTo>
                    <a:pt x="853" y="20"/>
                  </a:lnTo>
                  <a:lnTo>
                    <a:pt x="886" y="8"/>
                  </a:lnTo>
                  <a:lnTo>
                    <a:pt x="926" y="2"/>
                  </a:lnTo>
                  <a:lnTo>
                    <a:pt x="968" y="0"/>
                  </a:lnTo>
                  <a:lnTo>
                    <a:pt x="1026" y="0"/>
                  </a:lnTo>
                  <a:lnTo>
                    <a:pt x="1072" y="5"/>
                  </a:lnTo>
                  <a:lnTo>
                    <a:pt x="1098" y="14"/>
                  </a:lnTo>
                  <a:lnTo>
                    <a:pt x="1117" y="26"/>
                  </a:lnTo>
                  <a:lnTo>
                    <a:pt x="1139" y="40"/>
                  </a:lnTo>
                  <a:lnTo>
                    <a:pt x="1160" y="61"/>
                  </a:lnTo>
                  <a:lnTo>
                    <a:pt x="1180" y="89"/>
                  </a:lnTo>
                  <a:lnTo>
                    <a:pt x="1195" y="113"/>
                  </a:lnTo>
                  <a:lnTo>
                    <a:pt x="1203" y="134"/>
                  </a:lnTo>
                  <a:lnTo>
                    <a:pt x="1209" y="171"/>
                  </a:lnTo>
                  <a:lnTo>
                    <a:pt x="1209" y="203"/>
                  </a:lnTo>
                  <a:lnTo>
                    <a:pt x="1204" y="234"/>
                  </a:lnTo>
                  <a:lnTo>
                    <a:pt x="1198" y="259"/>
                  </a:lnTo>
                  <a:lnTo>
                    <a:pt x="1190" y="298"/>
                  </a:lnTo>
                  <a:lnTo>
                    <a:pt x="1180" y="339"/>
                  </a:lnTo>
                  <a:lnTo>
                    <a:pt x="1175" y="365"/>
                  </a:lnTo>
                  <a:lnTo>
                    <a:pt x="1183" y="391"/>
                  </a:lnTo>
                  <a:lnTo>
                    <a:pt x="1192" y="409"/>
                  </a:lnTo>
                  <a:lnTo>
                    <a:pt x="1209" y="434"/>
                  </a:lnTo>
                  <a:lnTo>
                    <a:pt x="1233" y="453"/>
                  </a:lnTo>
                  <a:lnTo>
                    <a:pt x="1256" y="470"/>
                  </a:lnTo>
                  <a:lnTo>
                    <a:pt x="1289" y="484"/>
                  </a:lnTo>
                  <a:lnTo>
                    <a:pt x="1323" y="493"/>
                  </a:lnTo>
                  <a:lnTo>
                    <a:pt x="1355" y="500"/>
                  </a:lnTo>
                  <a:lnTo>
                    <a:pt x="1388" y="505"/>
                  </a:lnTo>
                  <a:lnTo>
                    <a:pt x="1423" y="514"/>
                  </a:lnTo>
                  <a:lnTo>
                    <a:pt x="1450" y="523"/>
                  </a:lnTo>
                  <a:lnTo>
                    <a:pt x="1472" y="534"/>
                  </a:lnTo>
                  <a:lnTo>
                    <a:pt x="1488" y="546"/>
                  </a:lnTo>
                  <a:lnTo>
                    <a:pt x="1500" y="560"/>
                  </a:lnTo>
                  <a:lnTo>
                    <a:pt x="1510" y="576"/>
                  </a:lnTo>
                  <a:lnTo>
                    <a:pt x="1517" y="596"/>
                  </a:lnTo>
                  <a:lnTo>
                    <a:pt x="1520" y="614"/>
                  </a:lnTo>
                  <a:lnTo>
                    <a:pt x="1523" y="631"/>
                  </a:lnTo>
                  <a:lnTo>
                    <a:pt x="1523" y="654"/>
                  </a:lnTo>
                  <a:lnTo>
                    <a:pt x="1520" y="680"/>
                  </a:lnTo>
                  <a:lnTo>
                    <a:pt x="1520" y="700"/>
                  </a:lnTo>
                  <a:lnTo>
                    <a:pt x="1525" y="724"/>
                  </a:lnTo>
                  <a:lnTo>
                    <a:pt x="1535" y="745"/>
                  </a:lnTo>
                  <a:lnTo>
                    <a:pt x="1548" y="763"/>
                  </a:lnTo>
                  <a:lnTo>
                    <a:pt x="1563" y="777"/>
                  </a:lnTo>
                  <a:lnTo>
                    <a:pt x="1583" y="792"/>
                  </a:lnTo>
                  <a:lnTo>
                    <a:pt x="1602" y="801"/>
                  </a:lnTo>
                  <a:lnTo>
                    <a:pt x="1633" y="808"/>
                  </a:lnTo>
                  <a:lnTo>
                    <a:pt x="1659" y="811"/>
                  </a:lnTo>
                  <a:lnTo>
                    <a:pt x="1683" y="812"/>
                  </a:lnTo>
                  <a:lnTo>
                    <a:pt x="1710" y="811"/>
                  </a:lnTo>
                  <a:lnTo>
                    <a:pt x="1744" y="808"/>
                  </a:lnTo>
                  <a:lnTo>
                    <a:pt x="1769" y="806"/>
                  </a:lnTo>
                  <a:lnTo>
                    <a:pt x="1795" y="803"/>
                  </a:lnTo>
                  <a:lnTo>
                    <a:pt x="1820" y="801"/>
                  </a:lnTo>
                  <a:lnTo>
                    <a:pt x="1849" y="803"/>
                  </a:lnTo>
                  <a:lnTo>
                    <a:pt x="1864" y="806"/>
                  </a:lnTo>
                  <a:lnTo>
                    <a:pt x="1882" y="811"/>
                  </a:lnTo>
                  <a:lnTo>
                    <a:pt x="1899" y="820"/>
                  </a:lnTo>
                  <a:lnTo>
                    <a:pt x="1917" y="833"/>
                  </a:lnTo>
                  <a:lnTo>
                    <a:pt x="1931" y="849"/>
                  </a:lnTo>
                  <a:lnTo>
                    <a:pt x="1941" y="871"/>
                  </a:lnTo>
                  <a:lnTo>
                    <a:pt x="1946" y="891"/>
                  </a:lnTo>
                  <a:lnTo>
                    <a:pt x="1949" y="915"/>
                  </a:lnTo>
                  <a:lnTo>
                    <a:pt x="1952" y="960"/>
                  </a:lnTo>
                  <a:lnTo>
                    <a:pt x="1950" y="1011"/>
                  </a:lnTo>
                  <a:lnTo>
                    <a:pt x="1952" y="1066"/>
                  </a:lnTo>
                  <a:lnTo>
                    <a:pt x="1947" y="1130"/>
                  </a:lnTo>
                  <a:lnTo>
                    <a:pt x="1943" y="1174"/>
                  </a:lnTo>
                  <a:lnTo>
                    <a:pt x="1938" y="1209"/>
                  </a:lnTo>
                  <a:lnTo>
                    <a:pt x="1931" y="1229"/>
                  </a:lnTo>
                  <a:lnTo>
                    <a:pt x="1918" y="1247"/>
                  </a:lnTo>
                  <a:lnTo>
                    <a:pt x="1905" y="1259"/>
                  </a:lnTo>
                  <a:lnTo>
                    <a:pt x="1886" y="1270"/>
                  </a:lnTo>
                  <a:lnTo>
                    <a:pt x="1865" y="1276"/>
                  </a:lnTo>
                  <a:lnTo>
                    <a:pt x="1847" y="1280"/>
                  </a:lnTo>
                  <a:lnTo>
                    <a:pt x="1809" y="1282"/>
                  </a:lnTo>
                  <a:lnTo>
                    <a:pt x="1776" y="1280"/>
                  </a:lnTo>
                  <a:lnTo>
                    <a:pt x="1748" y="1276"/>
                  </a:lnTo>
                  <a:lnTo>
                    <a:pt x="1724" y="1274"/>
                  </a:lnTo>
                  <a:lnTo>
                    <a:pt x="1697" y="1273"/>
                  </a:lnTo>
                  <a:lnTo>
                    <a:pt x="1672" y="1273"/>
                  </a:lnTo>
                  <a:lnTo>
                    <a:pt x="1651" y="1274"/>
                  </a:lnTo>
                  <a:lnTo>
                    <a:pt x="1628" y="1276"/>
                  </a:lnTo>
                  <a:lnTo>
                    <a:pt x="1601" y="1283"/>
                  </a:lnTo>
                  <a:lnTo>
                    <a:pt x="1586" y="1289"/>
                  </a:lnTo>
                  <a:lnTo>
                    <a:pt x="1572" y="1295"/>
                  </a:lnTo>
                  <a:lnTo>
                    <a:pt x="1554" y="1308"/>
                  </a:lnTo>
                  <a:lnTo>
                    <a:pt x="1541" y="1323"/>
                  </a:lnTo>
                  <a:lnTo>
                    <a:pt x="1532" y="1337"/>
                  </a:lnTo>
                  <a:lnTo>
                    <a:pt x="1523" y="1353"/>
                  </a:lnTo>
                  <a:lnTo>
                    <a:pt x="1519" y="1370"/>
                  </a:lnTo>
                  <a:lnTo>
                    <a:pt x="1517" y="1388"/>
                  </a:lnTo>
                  <a:lnTo>
                    <a:pt x="1519" y="1408"/>
                  </a:lnTo>
                  <a:lnTo>
                    <a:pt x="1519" y="1441"/>
                  </a:lnTo>
                  <a:lnTo>
                    <a:pt x="1517" y="1476"/>
                  </a:lnTo>
                  <a:lnTo>
                    <a:pt x="1508" y="1502"/>
                  </a:lnTo>
                  <a:lnTo>
                    <a:pt x="1499" y="1524"/>
                  </a:lnTo>
                  <a:lnTo>
                    <a:pt x="1485" y="1539"/>
                  </a:lnTo>
                  <a:lnTo>
                    <a:pt x="1465" y="1551"/>
                  </a:lnTo>
                  <a:lnTo>
                    <a:pt x="1446" y="1562"/>
                  </a:lnTo>
                  <a:lnTo>
                    <a:pt x="1423" y="1568"/>
                  </a:lnTo>
                  <a:lnTo>
                    <a:pt x="1394" y="1574"/>
                  </a:lnTo>
                  <a:lnTo>
                    <a:pt x="1370" y="1581"/>
                  </a:lnTo>
                  <a:lnTo>
                    <a:pt x="1341" y="1586"/>
                  </a:lnTo>
                  <a:lnTo>
                    <a:pt x="1317" y="1590"/>
                  </a:lnTo>
                  <a:lnTo>
                    <a:pt x="1289" y="1596"/>
                  </a:lnTo>
                  <a:lnTo>
                    <a:pt x="1268" y="1607"/>
                  </a:lnTo>
                  <a:lnTo>
                    <a:pt x="1244" y="1618"/>
                  </a:lnTo>
                  <a:lnTo>
                    <a:pt x="1221" y="1631"/>
                  </a:lnTo>
                  <a:lnTo>
                    <a:pt x="1204" y="1650"/>
                  </a:lnTo>
                  <a:lnTo>
                    <a:pt x="1189" y="1671"/>
                  </a:lnTo>
                  <a:lnTo>
                    <a:pt x="1177" y="1697"/>
                  </a:lnTo>
                  <a:lnTo>
                    <a:pt x="1174" y="1720"/>
                  </a:lnTo>
                  <a:lnTo>
                    <a:pt x="1175" y="1745"/>
                  </a:lnTo>
                  <a:lnTo>
                    <a:pt x="1180" y="1770"/>
                  </a:lnTo>
                  <a:lnTo>
                    <a:pt x="1187" y="1796"/>
                  </a:lnTo>
                  <a:lnTo>
                    <a:pt x="1193" y="1824"/>
                  </a:lnTo>
                  <a:lnTo>
                    <a:pt x="1198" y="1850"/>
                  </a:lnTo>
                  <a:lnTo>
                    <a:pt x="1204" y="1884"/>
                  </a:lnTo>
                  <a:lnTo>
                    <a:pt x="1204" y="1917"/>
                  </a:lnTo>
                  <a:lnTo>
                    <a:pt x="1196" y="1951"/>
                  </a:lnTo>
                  <a:lnTo>
                    <a:pt x="1189" y="1976"/>
                  </a:lnTo>
                  <a:lnTo>
                    <a:pt x="1180" y="2002"/>
                  </a:lnTo>
                  <a:lnTo>
                    <a:pt x="1168" y="2027"/>
                  </a:lnTo>
                  <a:lnTo>
                    <a:pt x="1151" y="2057"/>
                  </a:lnTo>
                  <a:lnTo>
                    <a:pt x="1133" y="2077"/>
                  </a:lnTo>
                  <a:lnTo>
                    <a:pt x="1117" y="2090"/>
                  </a:lnTo>
                  <a:lnTo>
                    <a:pt x="1098" y="2107"/>
                  </a:lnTo>
                  <a:lnTo>
                    <a:pt x="1076" y="2122"/>
                  </a:lnTo>
                  <a:lnTo>
                    <a:pt x="1057" y="2130"/>
                  </a:lnTo>
                  <a:lnTo>
                    <a:pt x="1038" y="2135"/>
                  </a:lnTo>
                  <a:lnTo>
                    <a:pt x="1008" y="2138"/>
                  </a:lnTo>
                  <a:lnTo>
                    <a:pt x="973" y="2139"/>
                  </a:lnTo>
                  <a:lnTo>
                    <a:pt x="930" y="2138"/>
                  </a:lnTo>
                  <a:lnTo>
                    <a:pt x="911" y="2138"/>
                  </a:lnTo>
                  <a:lnTo>
                    <a:pt x="885" y="2133"/>
                  </a:lnTo>
                  <a:lnTo>
                    <a:pt x="858" y="2125"/>
                  </a:lnTo>
                  <a:lnTo>
                    <a:pt x="833" y="2112"/>
                  </a:lnTo>
                  <a:lnTo>
                    <a:pt x="818" y="2100"/>
                  </a:lnTo>
                  <a:lnTo>
                    <a:pt x="801" y="2083"/>
                  </a:lnTo>
                  <a:lnTo>
                    <a:pt x="788" y="2068"/>
                  </a:lnTo>
                  <a:lnTo>
                    <a:pt x="774" y="2048"/>
                  </a:lnTo>
                  <a:lnTo>
                    <a:pt x="763" y="2028"/>
                  </a:lnTo>
                  <a:lnTo>
                    <a:pt x="754" y="2004"/>
                  </a:lnTo>
                  <a:lnTo>
                    <a:pt x="750" y="1978"/>
                  </a:lnTo>
                  <a:lnTo>
                    <a:pt x="748" y="1958"/>
                  </a:lnTo>
                  <a:lnTo>
                    <a:pt x="748" y="1931"/>
                  </a:lnTo>
                  <a:lnTo>
                    <a:pt x="750" y="1908"/>
                  </a:lnTo>
                  <a:lnTo>
                    <a:pt x="757" y="1884"/>
                  </a:lnTo>
                  <a:lnTo>
                    <a:pt x="763" y="1855"/>
                  </a:lnTo>
                  <a:lnTo>
                    <a:pt x="771" y="1828"/>
                  </a:lnTo>
                  <a:lnTo>
                    <a:pt x="775" y="1803"/>
                  </a:lnTo>
                  <a:lnTo>
                    <a:pt x="777" y="1780"/>
                  </a:lnTo>
                  <a:lnTo>
                    <a:pt x="775" y="1762"/>
                  </a:lnTo>
                  <a:lnTo>
                    <a:pt x="771" y="1744"/>
                  </a:lnTo>
                  <a:lnTo>
                    <a:pt x="759" y="1721"/>
                  </a:lnTo>
                  <a:lnTo>
                    <a:pt x="747" y="1706"/>
                  </a:lnTo>
                  <a:lnTo>
                    <a:pt x="731" y="1689"/>
                  </a:lnTo>
                  <a:lnTo>
                    <a:pt x="715" y="1677"/>
                  </a:lnTo>
                  <a:lnTo>
                    <a:pt x="698" y="1665"/>
                  </a:lnTo>
                  <a:lnTo>
                    <a:pt x="674" y="1656"/>
                  </a:lnTo>
                  <a:lnTo>
                    <a:pt x="652" y="1650"/>
                  </a:lnTo>
                  <a:lnTo>
                    <a:pt x="625" y="1644"/>
                  </a:lnTo>
                  <a:lnTo>
                    <a:pt x="601" y="1641"/>
                  </a:lnTo>
                  <a:lnTo>
                    <a:pt x="578" y="1634"/>
                  </a:lnTo>
                  <a:lnTo>
                    <a:pt x="551" y="1628"/>
                  </a:lnTo>
                  <a:lnTo>
                    <a:pt x="528" y="1619"/>
                  </a:lnTo>
                  <a:lnTo>
                    <a:pt x="500" y="1612"/>
                  </a:lnTo>
                  <a:lnTo>
                    <a:pt x="479" y="1603"/>
                  </a:lnTo>
                  <a:lnTo>
                    <a:pt x="462" y="1589"/>
                  </a:lnTo>
                  <a:lnTo>
                    <a:pt x="449" y="1571"/>
                  </a:lnTo>
                  <a:lnTo>
                    <a:pt x="440" y="1548"/>
                  </a:lnTo>
                  <a:lnTo>
                    <a:pt x="432" y="1517"/>
                  </a:lnTo>
                  <a:lnTo>
                    <a:pt x="430" y="1493"/>
                  </a:lnTo>
                  <a:lnTo>
                    <a:pt x="432" y="1466"/>
                  </a:lnTo>
                  <a:lnTo>
                    <a:pt x="435" y="1444"/>
                  </a:lnTo>
                  <a:lnTo>
                    <a:pt x="432" y="1419"/>
                  </a:lnTo>
                  <a:lnTo>
                    <a:pt x="424" y="1399"/>
                  </a:lnTo>
                  <a:lnTo>
                    <a:pt x="411" y="1378"/>
                  </a:lnTo>
                  <a:lnTo>
                    <a:pt x="397" y="1364"/>
                  </a:lnTo>
                  <a:lnTo>
                    <a:pt x="380" y="1350"/>
                  </a:lnTo>
                  <a:lnTo>
                    <a:pt x="357" y="1341"/>
                  </a:lnTo>
                  <a:lnTo>
                    <a:pt x="332" y="1332"/>
                  </a:lnTo>
                  <a:lnTo>
                    <a:pt x="304" y="1329"/>
                  </a:lnTo>
                  <a:lnTo>
                    <a:pt x="281" y="1326"/>
                  </a:lnTo>
                  <a:lnTo>
                    <a:pt x="256" y="1326"/>
                  </a:lnTo>
                  <a:lnTo>
                    <a:pt x="233" y="1329"/>
                  </a:lnTo>
                  <a:lnTo>
                    <a:pt x="210" y="1330"/>
                  </a:lnTo>
                  <a:lnTo>
                    <a:pt x="187" y="1333"/>
                  </a:lnTo>
                  <a:lnTo>
                    <a:pt x="164" y="1337"/>
                  </a:lnTo>
                  <a:lnTo>
                    <a:pt x="126" y="1337"/>
                  </a:lnTo>
                  <a:lnTo>
                    <a:pt x="102" y="1335"/>
                  </a:lnTo>
                  <a:lnTo>
                    <a:pt x="76" y="1329"/>
                  </a:lnTo>
                  <a:lnTo>
                    <a:pt x="58" y="1320"/>
                  </a:lnTo>
                  <a:lnTo>
                    <a:pt x="38" y="1305"/>
                  </a:lnTo>
                  <a:lnTo>
                    <a:pt x="25" y="1288"/>
                  </a:lnTo>
                  <a:lnTo>
                    <a:pt x="16" y="1270"/>
                  </a:lnTo>
                  <a:lnTo>
                    <a:pt x="5" y="1235"/>
                  </a:lnTo>
                  <a:lnTo>
                    <a:pt x="3" y="1198"/>
                  </a:lnTo>
                  <a:lnTo>
                    <a:pt x="2" y="1162"/>
                  </a:lnTo>
                  <a:lnTo>
                    <a:pt x="0" y="1116"/>
                  </a:lnTo>
                  <a:lnTo>
                    <a:pt x="3" y="1077"/>
                  </a:lnTo>
                  <a:lnTo>
                    <a:pt x="5" y="1034"/>
                  </a:lnTo>
                  <a:lnTo>
                    <a:pt x="6" y="996"/>
                  </a:lnTo>
                  <a:lnTo>
                    <a:pt x="9" y="957"/>
                  </a:lnTo>
                  <a:lnTo>
                    <a:pt x="14" y="926"/>
                  </a:lnTo>
                  <a:lnTo>
                    <a:pt x="19" y="893"/>
                  </a:lnTo>
                  <a:lnTo>
                    <a:pt x="25" y="867"/>
                  </a:lnTo>
                  <a:lnTo>
                    <a:pt x="34" y="850"/>
                  </a:lnTo>
                  <a:lnTo>
                    <a:pt x="47" y="833"/>
                  </a:lnTo>
                  <a:lnTo>
                    <a:pt x="61" y="823"/>
                  </a:lnTo>
                  <a:lnTo>
                    <a:pt x="79" y="811"/>
                  </a:lnTo>
                  <a:lnTo>
                    <a:pt x="96" y="808"/>
                  </a:lnTo>
                  <a:lnTo>
                    <a:pt x="117" y="803"/>
                  </a:lnTo>
                  <a:lnTo>
                    <a:pt x="145" y="801"/>
                  </a:lnTo>
                  <a:lnTo>
                    <a:pt x="169" y="803"/>
                  </a:lnTo>
                  <a:lnTo>
                    <a:pt x="202" y="808"/>
                  </a:lnTo>
                  <a:lnTo>
                    <a:pt x="231" y="809"/>
                  </a:lnTo>
                  <a:lnTo>
                    <a:pt x="256" y="811"/>
                  </a:lnTo>
                  <a:lnTo>
                    <a:pt x="289" y="812"/>
                  </a:lnTo>
                  <a:lnTo>
                    <a:pt x="324" y="808"/>
                  </a:lnTo>
                  <a:lnTo>
                    <a:pt x="353" y="801"/>
                  </a:lnTo>
                  <a:lnTo>
                    <a:pt x="380" y="791"/>
                  </a:lnTo>
                  <a:lnTo>
                    <a:pt x="399" y="780"/>
                  </a:lnTo>
                  <a:lnTo>
                    <a:pt x="417" y="763"/>
                  </a:lnTo>
                  <a:lnTo>
                    <a:pt x="430" y="742"/>
                  </a:lnTo>
                  <a:lnTo>
                    <a:pt x="440" y="721"/>
                  </a:lnTo>
                  <a:lnTo>
                    <a:pt x="443" y="698"/>
                  </a:lnTo>
                  <a:lnTo>
                    <a:pt x="441" y="681"/>
                  </a:lnTo>
                  <a:lnTo>
                    <a:pt x="440" y="649"/>
                  </a:lnTo>
                  <a:lnTo>
                    <a:pt x="441" y="618"/>
                  </a:lnTo>
                  <a:lnTo>
                    <a:pt x="447" y="593"/>
                  </a:lnTo>
                  <a:lnTo>
                    <a:pt x="455" y="570"/>
                  </a:lnTo>
                  <a:lnTo>
                    <a:pt x="465" y="554"/>
                  </a:lnTo>
                  <a:lnTo>
                    <a:pt x="487" y="537"/>
                  </a:lnTo>
                  <a:lnTo>
                    <a:pt x="509" y="525"/>
                  </a:lnTo>
                  <a:lnTo>
                    <a:pt x="538" y="516"/>
                  </a:lnTo>
                  <a:lnTo>
                    <a:pt x="567" y="508"/>
                  </a:lnTo>
                  <a:lnTo>
                    <a:pt x="592" y="502"/>
                  </a:lnTo>
                  <a:lnTo>
                    <a:pt x="622" y="497"/>
                  </a:lnTo>
                  <a:lnTo>
                    <a:pt x="651" y="491"/>
                  </a:lnTo>
                  <a:lnTo>
                    <a:pt x="684" y="482"/>
                  </a:lnTo>
                  <a:lnTo>
                    <a:pt x="716" y="469"/>
                  </a:lnTo>
                  <a:lnTo>
                    <a:pt x="744" y="447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895480" y="4340520"/>
            <a:ext cx="320040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usuwan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wszelkich przeszkód w swobodnym przepływie osób, usłu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i kapitał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48520" y="1065600"/>
            <a:ext cx="251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znoszenia ceł i ograniczeń ilościowy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911520"/>
            <a:ext cx="266688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ustanowienia wspólnej taryfy celnej i wspólnej polityk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handlowe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4358160"/>
            <a:ext cx="264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przyjęc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wspólnej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polityki w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dziedzinie rolnictw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4494600"/>
            <a:ext cx="309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przyjęc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wspólnej polityk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w dziedzin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transport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67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981080"/>
            <a:ext cx="8915400" cy="3283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Times New Roman"/>
              </a:rPr>
              <a:t>Unia celna</a:t>
            </a:r>
            <a:r>
              <a:rPr b="1" lang="pl-PL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- Cła w handlu wewnętrznym między krajami Wspólno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przestają obowiązywać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- narodowe taryfy celne zostają zastąpione Wspóln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Taryfą, która obowiązuje w handlu z krajami spo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Wspólno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9880" y="0"/>
            <a:ext cx="1447920" cy="155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Bookman Old Style"/>
              </a:rPr>
              <a:t>lip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6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69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0"/>
            <a:ext cx="1600200" cy="149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Bookman Old Style"/>
              </a:rPr>
              <a:t>stycz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762120"/>
            <a:ext cx="2895480" cy="21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Wspólna polityka handlowa obejmuj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2593440"/>
            <a:ext cx="4343400" cy="1437120"/>
            <a:chOff x="457200" y="2593440"/>
            <a:chExt cx="4343400" cy="1437120"/>
          </a:xfrm>
        </p:grpSpPr>
        <p:sp>
          <p:nvSpPr>
            <p:cNvPr id="193" name=""/>
            <p:cNvSpPr/>
            <p:nvPr/>
          </p:nvSpPr>
          <p:spPr>
            <a:xfrm>
              <a:off x="457200" y="2971800"/>
              <a:ext cx="3353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- ustalenie wspólnej taryfy celnej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552840" y="2593440"/>
              <a:ext cx="1247760" cy="1437120"/>
              <a:chOff x="3552840" y="2593440"/>
              <a:chExt cx="1247760" cy="1437120"/>
            </a:xfrm>
          </p:grpSpPr>
          <p:pic>
            <p:nvPicPr>
              <p:cNvPr id="195" name="back048" descr=""/>
              <p:cNvPicPr/>
              <p:nvPr/>
            </p:nvPicPr>
            <p:blipFill>
              <a:blip r:embed="rId2"/>
              <a:stretch/>
            </p:blipFill>
            <p:spPr>
              <a:xfrm>
                <a:off x="3552840" y="2666880"/>
                <a:ext cx="1247760" cy="13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 rot="21000000">
                <a:off x="3708000" y="2664360"/>
                <a:ext cx="907560" cy="10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. . 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el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. . 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457200" y="3886200"/>
            <a:ext cx="8686800" cy="890640"/>
            <a:chOff x="457200" y="3886200"/>
            <a:chExt cx="8686800" cy="890640"/>
          </a:xfrm>
        </p:grpSpPr>
        <p:sp>
          <p:nvSpPr>
            <p:cNvPr id="198" name=""/>
            <p:cNvSpPr/>
            <p:nvPr/>
          </p:nvSpPr>
          <p:spPr>
            <a:xfrm>
              <a:off x="457200" y="4038840"/>
              <a:ext cx="69343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- zawieranie umów celnych i handlowyc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9" name="HANDSHK1" descr=""/>
            <p:cNvPicPr/>
            <p:nvPr/>
          </p:nvPicPr>
          <p:blipFill>
            <a:blip r:embed="rId3"/>
            <a:stretch/>
          </p:blipFill>
          <p:spPr>
            <a:xfrm>
              <a:off x="7238880" y="3886200"/>
              <a:ext cx="1905120" cy="89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"/>
          <p:cNvGrpSpPr/>
          <p:nvPr/>
        </p:nvGrpSpPr>
        <p:grpSpPr>
          <a:xfrm>
            <a:off x="457200" y="4724280"/>
            <a:ext cx="7467480" cy="1194840"/>
            <a:chOff x="457200" y="4724280"/>
            <a:chExt cx="7467480" cy="1194840"/>
          </a:xfrm>
        </p:grpSpPr>
        <p:sp>
          <p:nvSpPr>
            <p:cNvPr id="201" name=""/>
            <p:cNvSpPr/>
            <p:nvPr/>
          </p:nvSpPr>
          <p:spPr>
            <a:xfrm>
              <a:off x="457200" y="4971960"/>
              <a:ext cx="678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- ujednolicenie narzędzi polityki eksportowej i środków ochronnych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6172200" y="4724280"/>
              <a:ext cx="1752480" cy="1135080"/>
              <a:chOff x="6172200" y="4724280"/>
              <a:chExt cx="1752480" cy="1135080"/>
            </a:xfrm>
          </p:grpSpPr>
          <p:pic>
            <p:nvPicPr>
              <p:cNvPr id="203" name="back070" descr=""/>
              <p:cNvPicPr/>
              <p:nvPr/>
            </p:nvPicPr>
            <p:blipFill>
              <a:blip r:embed="rId4"/>
              <a:stretch/>
            </p:blipFill>
            <p:spPr>
              <a:xfrm>
                <a:off x="6172200" y="4724280"/>
                <a:ext cx="1752480" cy="113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6562800" y="4799160"/>
                <a:ext cx="120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</a:rPr>
                  <a:t>EXPOR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28600" y="1112760"/>
            <a:ext cx="4114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Times New Roman"/>
              </a:rPr>
              <a:t>W Luksemburgu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Times New Roman"/>
              </a:rPr>
              <a:t>został podpisan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99"/>
                </a:solidFill>
                <a:latin typeface="Times New Roman"/>
              </a:rPr>
              <a:t>Jednolity Akt Europejsk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85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0"/>
            <a:ext cx="1447920" cy="155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Bookman Old Style"/>
              </a:rPr>
              <a:t>lut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10" descr=""/>
          <p:cNvPicPr/>
          <p:nvPr/>
        </p:nvPicPr>
        <p:blipFill>
          <a:blip r:embed="rId2"/>
          <a:stretch/>
        </p:blipFill>
        <p:spPr>
          <a:xfrm>
            <a:off x="5562720" y="762120"/>
            <a:ext cx="3581280" cy="2334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04920" y="2957400"/>
            <a:ext cx="8305560" cy="33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Jednolity rynek wewnętrzn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(obszar bez granic wewnętrznych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opiera się na czterech podstawowych filarach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- swoboda przepływu towaró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- swoboda przepływu osób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- swoboda przepływu usłu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- swoboda przepływu kapitału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2800" y="308880"/>
            <a:ext cx="7999920" cy="779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ele działania rynku wewnętrzne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1157760"/>
            <a:ext cx="4419720" cy="1770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imes New Roman"/>
              </a:rPr>
              <a:t>Rynek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imes New Roman"/>
              </a:rPr>
              <a:t>wewnętrzn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23000" y="2590920"/>
            <a:ext cx="3006000" cy="2044440"/>
            <a:chOff x="423000" y="2590920"/>
            <a:chExt cx="3006000" cy="2044440"/>
          </a:xfrm>
        </p:grpSpPr>
        <p:sp>
          <p:nvSpPr>
            <p:cNvPr id="219" name=""/>
            <p:cNvSpPr/>
            <p:nvPr/>
          </p:nvSpPr>
          <p:spPr>
            <a:xfrm>
              <a:off x="457200" y="3124080"/>
              <a:ext cx="2971800" cy="550800"/>
            </a:xfrm>
            <a:prstGeom prst="rect">
              <a:avLst/>
            </a:prstGeom>
            <a:noFill/>
            <a:ln w="190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3399"/>
                  </a:solidFill>
                  <a:latin typeface="Times New Roman"/>
                </a:rPr>
                <a:t>Cele zewnętrzn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3000" y="3809880"/>
              <a:ext cx="3000240" cy="825480"/>
            </a:xfrm>
            <a:prstGeom prst="rect">
              <a:avLst/>
            </a:prstGeom>
            <a:noFill/>
            <a:ln w="190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Wzmocnie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konkurencyjności 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1981080" y="2590920"/>
              <a:ext cx="914400" cy="457200"/>
            </a:xfrm>
            <a:prstGeom prst="line">
              <a:avLst/>
            </a:prstGeom>
            <a:ln w="1908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029200" y="2590920"/>
            <a:ext cx="3200400" cy="1752480"/>
            <a:chOff x="5029200" y="2590920"/>
            <a:chExt cx="3200400" cy="1752480"/>
          </a:xfrm>
        </p:grpSpPr>
        <p:sp>
          <p:nvSpPr>
            <p:cNvPr id="223" name=""/>
            <p:cNvSpPr/>
            <p:nvPr/>
          </p:nvSpPr>
          <p:spPr>
            <a:xfrm>
              <a:off x="5029200" y="3124080"/>
              <a:ext cx="3200400" cy="550800"/>
            </a:xfrm>
            <a:prstGeom prst="rect">
              <a:avLst/>
            </a:prstGeom>
            <a:noFill/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3399"/>
                  </a:solidFill>
                  <a:latin typeface="Times New Roman"/>
                </a:rPr>
                <a:t>Cele wewnętrzn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29200" y="3825720"/>
              <a:ext cx="3198960" cy="517680"/>
            </a:xfrm>
            <a:prstGeom prst="rect">
              <a:avLst/>
            </a:prstGeom>
            <a:noFill/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3399"/>
                  </a:solidFill>
                  <a:latin typeface="Times New Roman"/>
                </a:rPr>
                <a:t>Swobodny przepły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29400" y="2590920"/>
              <a:ext cx="380880" cy="3808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666880" y="4511520"/>
            <a:ext cx="2133720" cy="1965240"/>
            <a:chOff x="2666880" y="4511520"/>
            <a:chExt cx="2133720" cy="1965240"/>
          </a:xfrm>
        </p:grpSpPr>
        <p:pic>
          <p:nvPicPr>
            <p:cNvPr id="227" name="SHOPCART" descr=""/>
            <p:cNvPicPr/>
            <p:nvPr/>
          </p:nvPicPr>
          <p:blipFill>
            <a:blip r:embed="rId2"/>
            <a:stretch/>
          </p:blipFill>
          <p:spPr>
            <a:xfrm>
              <a:off x="2666880" y="5425920"/>
              <a:ext cx="101124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745000" y="504504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towaró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886200" y="4511520"/>
              <a:ext cx="914400" cy="5335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267080" y="4692240"/>
            <a:ext cx="1692360" cy="1784520"/>
            <a:chOff x="4267080" y="4692240"/>
            <a:chExt cx="1692360" cy="1784520"/>
          </a:xfrm>
        </p:grpSpPr>
        <p:pic>
          <p:nvPicPr>
            <p:cNvPr id="231" name="BIZMTG" descr=""/>
            <p:cNvPicPr/>
            <p:nvPr/>
          </p:nvPicPr>
          <p:blipFill>
            <a:blip r:embed="rId3"/>
            <a:stretch/>
          </p:blipFill>
          <p:spPr>
            <a:xfrm>
              <a:off x="4267080" y="5449680"/>
              <a:ext cx="169236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4741920" y="506880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osó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319000" y="4692240"/>
              <a:ext cx="562680" cy="4478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400800" y="4651200"/>
            <a:ext cx="1380960" cy="1825560"/>
            <a:chOff x="6400800" y="4651200"/>
            <a:chExt cx="1380960" cy="1825560"/>
          </a:xfrm>
        </p:grpSpPr>
        <p:pic>
          <p:nvPicPr>
            <p:cNvPr id="235" name="MTGPEOPL" descr=""/>
            <p:cNvPicPr/>
            <p:nvPr/>
          </p:nvPicPr>
          <p:blipFill>
            <a:blip r:embed="rId4"/>
            <a:stretch/>
          </p:blipFill>
          <p:spPr>
            <a:xfrm>
              <a:off x="6400800" y="5565600"/>
              <a:ext cx="138096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513480" y="51084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usłu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57640" y="4651200"/>
              <a:ext cx="0" cy="4572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912440" y="4572000"/>
            <a:ext cx="1231560" cy="1784520"/>
            <a:chOff x="7912440" y="4572000"/>
            <a:chExt cx="1231560" cy="1784520"/>
          </a:xfrm>
        </p:grpSpPr>
        <p:pic>
          <p:nvPicPr>
            <p:cNvPr id="239" name="COINS" descr=""/>
            <p:cNvPicPr/>
            <p:nvPr/>
          </p:nvPicPr>
          <p:blipFill>
            <a:blip r:embed="rId5"/>
            <a:stretch/>
          </p:blipFill>
          <p:spPr>
            <a:xfrm>
              <a:off x="8153280" y="5410080"/>
              <a:ext cx="990720" cy="9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7912440" y="495288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imes New Roman"/>
                </a:rPr>
                <a:t>kapitał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24680" y="4572000"/>
              <a:ext cx="533520" cy="4572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Flaga_UE" descr=""/>
          <p:cNvPicPr/>
          <p:nvPr/>
        </p:nvPicPr>
        <p:blipFill>
          <a:blip r:embed="rId6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04920" y="2286000"/>
            <a:ext cx="6933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- swoboda  przepływu 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</a:rPr>
              <a:t>towar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85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1130400"/>
            <a:ext cx="4495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Jedno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rynek wewnętrz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0"/>
            <a:ext cx="1447920" cy="155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Bookman Old Style"/>
              </a:rPr>
              <a:t>lut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SHOPCART" descr=""/>
          <p:cNvPicPr/>
          <p:nvPr/>
        </p:nvPicPr>
        <p:blipFill>
          <a:blip r:embed="rId2"/>
          <a:stretch/>
        </p:blipFill>
        <p:spPr>
          <a:xfrm>
            <a:off x="6781680" y="1066680"/>
            <a:ext cx="1689120" cy="17528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080" y="6417720"/>
            <a:ext cx="997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04920" y="3124080"/>
            <a:ext cx="8076960" cy="3276720"/>
            <a:chOff x="304920" y="3124080"/>
            <a:chExt cx="8076960" cy="3276720"/>
          </a:xfrm>
        </p:grpSpPr>
        <p:sp>
          <p:nvSpPr>
            <p:cNvPr id="255" name=""/>
            <p:cNvSpPr/>
            <p:nvPr/>
          </p:nvSpPr>
          <p:spPr>
            <a:xfrm>
              <a:off x="2133720" y="3352680"/>
              <a:ext cx="548640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buClr>
                  <a:srgbClr val="00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3399"/>
                  </a:solidFill>
                  <a:latin typeface="Times New Roman"/>
                </a:rPr>
                <a:t>Nie ma granic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3399"/>
                  </a:solidFill>
                  <a:latin typeface="Times New Roman"/>
                </a:rPr>
                <a:t>Nie ma ceł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3399"/>
                  </a:solidFill>
                  <a:latin typeface="Times New Roman"/>
                </a:rPr>
                <a:t>Dotyczy to wszystkich towaró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3399"/>
                  </a:solidFill>
                  <a:latin typeface="Times New Roman"/>
                </a:rPr>
                <a:t>Harmonizacja podatkó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buClr>
                  <a:srgbClr val="00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3399"/>
                  </a:solidFill>
                  <a:latin typeface="Times New Roman"/>
                </a:rPr>
                <a:t>Jednolite standardy (normy, certyfikaty) dotyczące produktów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4920" y="3124080"/>
              <a:ext cx="8076960" cy="327672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85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9880" y="0"/>
            <a:ext cx="1447920" cy="155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Bookman Old Style"/>
              </a:rPr>
              <a:t>lut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BIZMTG" descr=""/>
          <p:cNvPicPr/>
          <p:nvPr/>
        </p:nvPicPr>
        <p:blipFill>
          <a:blip r:embed="rId2"/>
          <a:stretch/>
        </p:blipFill>
        <p:spPr>
          <a:xfrm>
            <a:off x="6172200" y="1141560"/>
            <a:ext cx="2514600" cy="15253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080" y="6417720"/>
            <a:ext cx="997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280" y="5781600"/>
            <a:ext cx="84582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200" spc="-1" strike="noStrike">
                <a:solidFill>
                  <a:srgbClr val="003399"/>
                </a:solidFill>
                <a:latin typeface="Times New Roman"/>
              </a:rPr>
              <a:t>Również jednakowe prawa w dziedzinach: edukacji, ochrony zdrowia (ulgi, zasiłki, stypendia itp.) oraz wzajemne uznawanie dyplomów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1130400"/>
            <a:ext cx="4495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Jedno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rynek wewnętrz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2286000"/>
            <a:ext cx="5867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- swoboda  przepływu 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</a:rPr>
              <a:t>osó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52280" y="3048120"/>
            <a:ext cx="1828800" cy="1375920"/>
            <a:chOff x="152280" y="3048120"/>
            <a:chExt cx="1828800" cy="1375920"/>
          </a:xfrm>
        </p:grpSpPr>
        <p:sp>
          <p:nvSpPr>
            <p:cNvPr id="271" name=""/>
            <p:cNvSpPr/>
            <p:nvPr/>
          </p:nvSpPr>
          <p:spPr>
            <a:xfrm>
              <a:off x="152280" y="3048120"/>
              <a:ext cx="1706400" cy="1371600"/>
            </a:xfrm>
            <a:prstGeom prst="flowChartDocumen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2280" y="3124080"/>
              <a:ext cx="1828800" cy="12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Prawo d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prac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981080" y="3048120"/>
            <a:ext cx="1905120" cy="1375920"/>
            <a:chOff x="1981080" y="3048120"/>
            <a:chExt cx="1905120" cy="1375920"/>
          </a:xfrm>
        </p:grpSpPr>
        <p:sp>
          <p:nvSpPr>
            <p:cNvPr id="274" name=""/>
            <p:cNvSpPr/>
            <p:nvPr/>
          </p:nvSpPr>
          <p:spPr>
            <a:xfrm>
              <a:off x="1981080" y="3048120"/>
              <a:ext cx="1777680" cy="1371600"/>
            </a:xfrm>
            <a:prstGeom prst="flowChartDocumen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81080" y="3124080"/>
              <a:ext cx="1905120" cy="12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Prawo d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życ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886200" y="3048120"/>
            <a:ext cx="2437920" cy="1371600"/>
            <a:chOff x="3886200" y="3048120"/>
            <a:chExt cx="2437920" cy="1371600"/>
          </a:xfrm>
        </p:grpSpPr>
        <p:sp>
          <p:nvSpPr>
            <p:cNvPr id="277" name=""/>
            <p:cNvSpPr/>
            <p:nvPr/>
          </p:nvSpPr>
          <p:spPr>
            <a:xfrm>
              <a:off x="3886200" y="3048120"/>
              <a:ext cx="2275200" cy="1371600"/>
            </a:xfrm>
            <a:prstGeom prst="flowChartDocumen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86200" y="3124080"/>
              <a:ext cx="24379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Prawo d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Times New Roman"/>
                </a:rPr>
                <a:t>osiedlania się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248520" y="3048120"/>
            <a:ext cx="2895120" cy="1710720"/>
            <a:chOff x="6248520" y="3048120"/>
            <a:chExt cx="2895120" cy="1710720"/>
          </a:xfrm>
        </p:grpSpPr>
        <p:sp>
          <p:nvSpPr>
            <p:cNvPr id="280" name=""/>
            <p:cNvSpPr/>
            <p:nvPr/>
          </p:nvSpPr>
          <p:spPr>
            <a:xfrm>
              <a:off x="6248520" y="3048120"/>
              <a:ext cx="2701800" cy="1710720"/>
            </a:xfrm>
            <a:prstGeom prst="flowChartDocumen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48520" y="3142800"/>
              <a:ext cx="2895120" cy="157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Prawo d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korzystania ze świadczeń socjalnyc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591840" y="4419360"/>
            <a:ext cx="7099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 jakimkolwiek kraju na ter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E bez względu na przynależność państw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85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9880" y="0"/>
            <a:ext cx="1447920" cy="155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Bookman Old Style"/>
              </a:rPr>
              <a:t>lutego</a:t>
            </a: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MTGPEOPL" descr=""/>
          <p:cNvPicPr/>
          <p:nvPr/>
        </p:nvPicPr>
        <p:blipFill>
          <a:blip r:embed="rId2"/>
          <a:stretch/>
        </p:blipFill>
        <p:spPr>
          <a:xfrm>
            <a:off x="6086520" y="990720"/>
            <a:ext cx="2676600" cy="17650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080" y="6417720"/>
            <a:ext cx="997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1130400"/>
            <a:ext cx="4495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Jedno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rynek wewnętrz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2286000"/>
            <a:ext cx="5867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- swoboda  przepływu 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</a:rPr>
              <a:t>usł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66680" y="5333400"/>
            <a:ext cx="6782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 kraju własnym i innym członkowsk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724280" y="3394080"/>
            <a:ext cx="3581280" cy="1711080"/>
            <a:chOff x="4724280" y="3394080"/>
            <a:chExt cx="3581280" cy="1711080"/>
          </a:xfrm>
        </p:grpSpPr>
        <p:sp>
          <p:nvSpPr>
            <p:cNvPr id="296" name=""/>
            <p:cNvSpPr/>
            <p:nvPr/>
          </p:nvSpPr>
          <p:spPr>
            <a:xfrm>
              <a:off x="4724280" y="3394080"/>
              <a:ext cx="3342240" cy="1711080"/>
            </a:xfrm>
            <a:prstGeom prst="flowChartDocumen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24280" y="3488760"/>
              <a:ext cx="358128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Prawo d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sprzedaży usłu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62120" y="3394080"/>
            <a:ext cx="3580920" cy="1711080"/>
            <a:chOff x="762120" y="3394080"/>
            <a:chExt cx="3580920" cy="1711080"/>
          </a:xfrm>
        </p:grpSpPr>
        <p:sp>
          <p:nvSpPr>
            <p:cNvPr id="299" name=""/>
            <p:cNvSpPr/>
            <p:nvPr/>
          </p:nvSpPr>
          <p:spPr>
            <a:xfrm>
              <a:off x="762120" y="3394080"/>
              <a:ext cx="3341880" cy="1711080"/>
            </a:xfrm>
            <a:prstGeom prst="flowChartDocumen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120" y="3488760"/>
              <a:ext cx="358092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Prawo d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zakupu usług zagranicznyc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85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9880" y="0"/>
            <a:ext cx="1447920" cy="155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Bookman Old Style"/>
              </a:rPr>
              <a:t>lut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COINS" descr=""/>
          <p:cNvPicPr/>
          <p:nvPr/>
        </p:nvPicPr>
        <p:blipFill>
          <a:blip r:embed="rId2"/>
          <a:stretch/>
        </p:blipFill>
        <p:spPr>
          <a:xfrm>
            <a:off x="6705720" y="1066680"/>
            <a:ext cx="1676160" cy="16002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080" y="6417720"/>
            <a:ext cx="997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1130400"/>
            <a:ext cx="4495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Jedno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rynek wewnętrz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2286000"/>
            <a:ext cx="5867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- swoboda  przepływu </a:t>
            </a: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</a:rPr>
              <a:t>kapitał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457200" y="3048120"/>
            <a:ext cx="3809520" cy="3047040"/>
            <a:chOff x="457200" y="3048120"/>
            <a:chExt cx="3809520" cy="3047040"/>
          </a:xfrm>
        </p:grpSpPr>
        <p:sp>
          <p:nvSpPr>
            <p:cNvPr id="313" name=""/>
            <p:cNvSpPr/>
            <p:nvPr/>
          </p:nvSpPr>
          <p:spPr>
            <a:xfrm>
              <a:off x="457200" y="3048120"/>
              <a:ext cx="3555000" cy="3047040"/>
            </a:xfrm>
            <a:prstGeom prst="flowChartDocumen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57200" y="3216600"/>
              <a:ext cx="380952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imes New Roman"/>
                </a:rPr>
                <a:t>odnosi się do samodzielnych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imes New Roman"/>
                </a:rPr>
                <a:t>transakcji finansowych, nie związanych z przepływem towarów, usług czy osób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800600" y="3048120"/>
            <a:ext cx="4114440" cy="3047040"/>
            <a:chOff x="4800600" y="3048120"/>
            <a:chExt cx="4114440" cy="3047040"/>
          </a:xfrm>
        </p:grpSpPr>
        <p:sp>
          <p:nvSpPr>
            <p:cNvPr id="316" name=""/>
            <p:cNvSpPr/>
            <p:nvPr/>
          </p:nvSpPr>
          <p:spPr>
            <a:xfrm>
              <a:off x="4800600" y="3048120"/>
              <a:ext cx="3839760" cy="3047040"/>
            </a:xfrm>
            <a:prstGeom prst="flowChartDocumen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00600" y="3216600"/>
              <a:ext cx="4114440" cy="22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600" spc="-1" strike="noStrike">
                  <a:solidFill>
                    <a:srgbClr val="ffffff"/>
                  </a:solidFill>
                  <a:latin typeface="Times New Roman"/>
                </a:rPr>
                <a:t>jest to niezbędny warunek korzystania z pozostałych swobód (np. prowadzenia działalności gospodarczej na terenie innego państwa członkowskiego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0040" y="1778040"/>
            <a:ext cx="349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I. Strefa wolne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handl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32320" y="1828800"/>
            <a:ext cx="461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. brak ceł wewnętrz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0"/>
            <a:ext cx="4800600" cy="103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Etapy integ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gospodarczej i walutowej 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0" y="1676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Powołanie Europejskiego Systemu Walutowego (ES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przez Radę Ministró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77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277164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Europejski System Walutowy zastąpił istniejący do tej pory "wąż walutowy" 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(rozpoczął działalność w 1979)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. Był  oparty na trz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elementa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33920" y="0"/>
            <a:ext cx="1676160" cy="155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Bookman Old Style"/>
              </a:rPr>
              <a:t>grud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7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854680" y="4267080"/>
            <a:ext cx="3289320" cy="2210040"/>
            <a:chOff x="5854680" y="4267080"/>
            <a:chExt cx="3289320" cy="2210040"/>
          </a:xfrm>
        </p:grpSpPr>
        <p:sp>
          <p:nvSpPr>
            <p:cNvPr id="328" name=""/>
            <p:cNvSpPr/>
            <p:nvPr/>
          </p:nvSpPr>
          <p:spPr>
            <a:xfrm>
              <a:off x="6311880" y="4267080"/>
              <a:ext cx="2362320" cy="221004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854680" y="4572000"/>
              <a:ext cx="32893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Europejska Jednostka Walutow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EC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28600" y="5410080"/>
            <a:ext cx="2514600" cy="1067040"/>
            <a:chOff x="228600" y="5410080"/>
            <a:chExt cx="2514600" cy="1067040"/>
          </a:xfrm>
        </p:grpSpPr>
        <p:sp>
          <p:nvSpPr>
            <p:cNvPr id="331" name=""/>
            <p:cNvSpPr/>
            <p:nvPr/>
          </p:nvSpPr>
          <p:spPr>
            <a:xfrm>
              <a:off x="228600" y="5410080"/>
              <a:ext cx="2514600" cy="10670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0880" y="5486040"/>
              <a:ext cx="2133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mechanizmy kredytow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276720" y="4114800"/>
            <a:ext cx="2895480" cy="2362320"/>
            <a:chOff x="3276720" y="4114800"/>
            <a:chExt cx="2895480" cy="2362320"/>
          </a:xfrm>
        </p:grpSpPr>
        <p:sp>
          <p:nvSpPr>
            <p:cNvPr id="334" name=""/>
            <p:cNvSpPr/>
            <p:nvPr/>
          </p:nvSpPr>
          <p:spPr>
            <a:xfrm>
              <a:off x="3276720" y="4114800"/>
              <a:ext cx="2895480" cy="2362320"/>
            </a:xfrm>
            <a:prstGeom prst="triangle">
              <a:avLst>
                <a:gd name="adj" fmla="val 50000"/>
              </a:avLst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81640" y="5486040"/>
              <a:ext cx="2170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mechanizm interwencj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57200" y="10666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3399"/>
                </a:solidFill>
                <a:latin typeface="Times New Roman"/>
              </a:rPr>
              <a:t>Plan integracji</a:t>
            </a:r>
            <a:r>
              <a:rPr b="1" lang="pl-PL" sz="3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3399"/>
                </a:solidFill>
                <a:latin typeface="Times New Roman"/>
              </a:rPr>
              <a:t>gospodarczej i walutowej – Raport Delorsa</a:t>
            </a:r>
            <a:r>
              <a:rPr b="0" lang="pl-P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88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09880" y="0"/>
            <a:ext cx="1447920" cy="155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Bookman Old Style"/>
              </a:rPr>
              <a:t>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8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3520" y="487692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- jednolity rynek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- polityka konkurencji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- wspólna polityka dotycząca przemian w gospodar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Times New Roman"/>
              </a:rPr>
              <a:t>- polityka antyinflacyj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95680" y="49370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- wymienialność walu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- liberalizacja transakcji kapitałowy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- eliminacja wahań kursów walutowy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- integracja rynku finansowe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181480" y="2133720"/>
            <a:ext cx="2971800" cy="2666880"/>
            <a:chOff x="5181480" y="2133720"/>
            <a:chExt cx="2971800" cy="2666880"/>
          </a:xfrm>
        </p:grpSpPr>
        <p:sp>
          <p:nvSpPr>
            <p:cNvPr id="347" name=""/>
            <p:cNvSpPr/>
            <p:nvPr/>
          </p:nvSpPr>
          <p:spPr>
            <a:xfrm>
              <a:off x="5333760" y="2133720"/>
              <a:ext cx="2666880" cy="26668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81480" y="2741040"/>
              <a:ext cx="297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Unia Walutowa - obszar walutowy na którym zapewnione są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09480" y="2133720"/>
            <a:ext cx="2971800" cy="2666880"/>
            <a:chOff x="609480" y="2133720"/>
            <a:chExt cx="2971800" cy="2666880"/>
          </a:xfrm>
        </p:grpSpPr>
        <p:sp>
          <p:nvSpPr>
            <p:cNvPr id="350" name=""/>
            <p:cNvSpPr/>
            <p:nvPr/>
          </p:nvSpPr>
          <p:spPr>
            <a:xfrm>
              <a:off x="761760" y="2133720"/>
              <a:ext cx="2667240" cy="26668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480" y="2762640"/>
              <a:ext cx="2971800" cy="15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99"/>
                  </a:solidFill>
                  <a:latin typeface="Times New Roman"/>
                </a:rPr>
                <a:t>Unia Gospodarcza - obszar gospodarczy na którym zapewnione są:</a:t>
              </a: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67320" y="6445800"/>
            <a:ext cx="863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828800" y="2409840"/>
            <a:ext cx="685800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Utworzenie jednolitego rynku wewnętrznego było tylko etapem niezbędnym do osiągnięcia wyższego poziomu integracji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66"/>
                </a:solidFill>
                <a:latin typeface="Times New Roman"/>
              </a:rPr>
              <a:t>Unia Europejs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3960" y="380880"/>
            <a:ext cx="24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91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86200" y="0"/>
            <a:ext cx="1447920" cy="155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Bookman Old Style"/>
              </a:rPr>
              <a:t>lut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9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0" y="1143000"/>
            <a:ext cx="2209680" cy="3200400"/>
            <a:chOff x="0" y="1143000"/>
            <a:chExt cx="2209680" cy="3200400"/>
          </a:xfrm>
        </p:grpSpPr>
        <p:pic>
          <p:nvPicPr>
            <p:cNvPr id="362" name="Traktat" descr=""/>
            <p:cNvPicPr/>
            <p:nvPr/>
          </p:nvPicPr>
          <p:blipFill>
            <a:blip r:embed="rId2"/>
            <a:stretch/>
          </p:blipFill>
          <p:spPr>
            <a:xfrm>
              <a:off x="0" y="1143000"/>
              <a:ext cx="220968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0" y="1687320"/>
              <a:ext cx="1990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Trakt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Maastrich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080" y="6417720"/>
            <a:ext cx="997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3200400" y="2819160"/>
            <a:ext cx="60199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buClr>
                <a:srgbClr val="0033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3399"/>
                </a:solidFill>
                <a:latin typeface="Times New Roman"/>
              </a:rPr>
              <a:t>Stworzenie podstaw prawnych dla UG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91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0"/>
            <a:ext cx="1447920" cy="155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Bookman Old Style"/>
              </a:rPr>
              <a:t>lut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9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66880" y="3656520"/>
            <a:ext cx="510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buClr>
                <a:srgbClr val="0033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Harmonogram tworzenia UGW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567432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buClr>
                <a:srgbClr val="0033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Zasady funkcjonowania Europejskiego Banku Centralne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76520" y="4647600"/>
            <a:ext cx="5257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buClr>
                <a:srgbClr val="0033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Kryteria członkostwa w UGW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828800" y="1809720"/>
            <a:ext cx="7315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w Sprawach Unii Gospodarczej i  Walutowe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600" y="6499800"/>
            <a:ext cx="865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0" y="1143000"/>
            <a:ext cx="2209680" cy="3200400"/>
            <a:chOff x="0" y="1143000"/>
            <a:chExt cx="2209680" cy="3200400"/>
          </a:xfrm>
        </p:grpSpPr>
        <p:pic>
          <p:nvPicPr>
            <p:cNvPr id="379" name="Traktat" descr=""/>
            <p:cNvPicPr/>
            <p:nvPr/>
          </p:nvPicPr>
          <p:blipFill>
            <a:blip r:embed="rId2"/>
            <a:stretch/>
          </p:blipFill>
          <p:spPr>
            <a:xfrm>
              <a:off x="0" y="1143000"/>
              <a:ext cx="220968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0" y="1687320"/>
              <a:ext cx="1990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Trakt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Maastrich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320" y="38088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Bookman Old Style"/>
              </a:rPr>
              <a:t>     </a:t>
            </a:r>
            <a:r>
              <a:rPr b="1" lang="pl-PL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32680" y="38088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0" y="820080"/>
            <a:ext cx="4419720" cy="27691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imes New Roman"/>
              </a:rPr>
              <a:t>Unia  Gospodarcza i Walutow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oznacz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419720" y="3733920"/>
            <a:ext cx="4495680" cy="2590560"/>
            <a:chOff x="4419720" y="3733920"/>
            <a:chExt cx="4495680" cy="2590560"/>
          </a:xfrm>
        </p:grpSpPr>
        <p:sp>
          <p:nvSpPr>
            <p:cNvPr id="389" name=""/>
            <p:cNvSpPr/>
            <p:nvPr/>
          </p:nvSpPr>
          <p:spPr>
            <a:xfrm>
              <a:off x="4419720" y="3733920"/>
              <a:ext cx="4419360" cy="2590560"/>
            </a:xfrm>
            <a:prstGeom prst="flowChartDelay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72000" y="4066560"/>
              <a:ext cx="4343400" cy="18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3399"/>
                  </a:solidFill>
                  <a:latin typeface="Times New Roman"/>
                </a:rPr>
                <a:t>nieodwracalne ustalenie kursów walut państw członkowskich między sobą i wprowadzenie jednolitej jednostki walutowej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04920" y="3733920"/>
            <a:ext cx="3962160" cy="2590560"/>
            <a:chOff x="304920" y="3733920"/>
            <a:chExt cx="3962160" cy="2590560"/>
          </a:xfrm>
        </p:grpSpPr>
        <p:sp>
          <p:nvSpPr>
            <p:cNvPr id="392" name=""/>
            <p:cNvSpPr/>
            <p:nvPr/>
          </p:nvSpPr>
          <p:spPr>
            <a:xfrm flipH="1">
              <a:off x="304920" y="3733920"/>
              <a:ext cx="3962160" cy="2590560"/>
            </a:xfrm>
            <a:prstGeom prst="flowChartDelay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7200" y="4210560"/>
              <a:ext cx="350532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3399"/>
                  </a:solidFill>
                  <a:latin typeface="Times New Roman"/>
                </a:rPr>
                <a:t>uzgadnianie i prowadzenie jednolitej polityki monetarnej i fiskalnej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304920" y="2057400"/>
            <a:ext cx="411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Zaczyna funkcjonowa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10" descr=""/>
          <p:cNvPicPr/>
          <p:nvPr/>
        </p:nvPicPr>
        <p:blipFill>
          <a:blip r:embed="rId2"/>
          <a:stretch/>
        </p:blipFill>
        <p:spPr>
          <a:xfrm>
            <a:off x="5562720" y="762120"/>
            <a:ext cx="3581280" cy="23349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04920" y="2957400"/>
            <a:ext cx="8305560" cy="10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Jednolity ryne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(obszar bez granic wewnętrznych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9880" y="0"/>
            <a:ext cx="1676520" cy="156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Bookman Old Style"/>
              </a:rPr>
              <a:t>stycz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9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0880" y="440676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Utworzenie wspólnego rynku umożliwiło zwiększenie skali produkcji i osiąganie z tego większych korzyści, zapewnienie swobodnej konkurencji, stwarzanie zachęt do inwestowa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Program budowy jednolitego rynku wewnętrznego wpłynął na poprawę wyników gospodarczych państw członkowsk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80880" y="1017720"/>
            <a:ext cx="510552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Drugi etap realizacj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UGW (1994 - 1998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93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9880" y="0"/>
            <a:ext cx="1600200" cy="156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Bookman Old Style"/>
              </a:rPr>
              <a:t>stycz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9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11" descr=""/>
          <p:cNvPicPr/>
          <p:nvPr/>
        </p:nvPicPr>
        <p:blipFill>
          <a:blip r:embed="rId2"/>
          <a:stretch/>
        </p:blipFill>
        <p:spPr>
          <a:xfrm>
            <a:off x="0" y="3186000"/>
            <a:ext cx="2395440" cy="36720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2514600" y="2514600"/>
            <a:ext cx="6629400" cy="40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umacnianie współpracy między narodowymi bankami   centralnym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dążenie do zapewnienia stabilności c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kontrola funkcjonowania Europejskiego Systemu Walutowe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przygotowania do prowadzenia w UGW jednolitej polityki walutowej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przygotowania do funkcjonowania Europejskiego Systemu   Banków Centralny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przygotowanie emisji banknotów nowego pieniąd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0880" y="2133720"/>
            <a:ext cx="6629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Działania Europejskiego Instytutu Monetarn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239960" y="6095160"/>
            <a:ext cx="997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CRTHOU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666880" y="985680"/>
            <a:ext cx="3810240" cy="576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IA EUROPEJ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19320" y="1600200"/>
            <a:ext cx="67816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333399"/>
                </a:solidFill>
                <a:latin typeface="Times New Roman"/>
              </a:rPr>
              <a:t>Traktat z Maastricht - 1992;</a:t>
            </a:r>
            <a:r>
              <a:rPr b="1" lang="pl-PL" sz="2000" spc="-1" strike="noStrike">
                <a:solidFill>
                  <a:srgbClr val="333399"/>
                </a:solidFill>
                <a:latin typeface="Times New Roman"/>
              </a:rPr>
              <a:t> Traktat Amsterdamski - 1997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2819520"/>
            <a:ext cx="2133360" cy="3047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3560" y="3276720"/>
            <a:ext cx="21589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Dziedz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Times New Roman"/>
              </a:rPr>
              <a:t>wspólnotow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29000" y="2819520"/>
            <a:ext cx="2133720" cy="304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5880" y="2819520"/>
            <a:ext cx="2133720" cy="3047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895480" y="2819520"/>
            <a:ext cx="533520" cy="304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562720" y="2819520"/>
            <a:ext cx="533160" cy="304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4320" y="2819520"/>
            <a:ext cx="2421000" cy="30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ziedz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spółp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 spraw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wewnętrzny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sprawiedliwośc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52680" y="2819520"/>
            <a:ext cx="2346480" cy="30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ziedz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wspóln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olity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zagraniczne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imes New Roman"/>
              </a:rPr>
              <a:t>bezpieczeństw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Flaga_UE" descr=""/>
          <p:cNvPicPr/>
          <p:nvPr/>
        </p:nvPicPr>
        <p:blipFill>
          <a:blip r:embed="rId5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40" y="-27360"/>
            <a:ext cx="2432160" cy="64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rzy Fi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666880" y="452160"/>
            <a:ext cx="3810240" cy="576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IA EUROPEJ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40" y="-27360"/>
            <a:ext cx="2432160" cy="64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rzy Fi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57200" y="1219320"/>
            <a:ext cx="8305920" cy="5043240"/>
            <a:chOff x="457200" y="1219320"/>
            <a:chExt cx="8305920" cy="5043240"/>
          </a:xfrm>
        </p:grpSpPr>
        <p:sp>
          <p:nvSpPr>
            <p:cNvPr id="436" name=""/>
            <p:cNvSpPr/>
            <p:nvPr/>
          </p:nvSpPr>
          <p:spPr>
            <a:xfrm>
              <a:off x="457200" y="1752480"/>
              <a:ext cx="8305920" cy="4496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11120" y="1219320"/>
              <a:ext cx="46627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I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Wspólnoty Europejski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7240" y="1752480"/>
              <a:ext cx="7713720" cy="45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WE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EWWS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    EWE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unia celna i rynek wewnętrzn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polityka rol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polityka struktural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polityka handlow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Nowe lub zmienione dyspozycje dotyczą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obywatelstwa Un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edukacji i kultu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sieci transeuropejski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ochrony konsumen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zdrow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badań naukowych i środowisk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polityki socjalne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polityki azyl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granic zewnętrzny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- polityki imigracyjne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87960" y="5441400"/>
              <a:ext cx="37872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99"/>
                  </a:solidFill>
                  <a:latin typeface="Times New Roman"/>
                </a:rPr>
                <a:t>I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666880" y="452160"/>
            <a:ext cx="3810240" cy="576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IA EUROPEJ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40" y="-27360"/>
            <a:ext cx="2432160" cy="64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rzy Fi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57200" y="1219320"/>
            <a:ext cx="8413560" cy="5029200"/>
            <a:chOff x="457200" y="1219320"/>
            <a:chExt cx="8413560" cy="5029200"/>
          </a:xfrm>
        </p:grpSpPr>
        <p:sp>
          <p:nvSpPr>
            <p:cNvPr id="446" name=""/>
            <p:cNvSpPr/>
            <p:nvPr/>
          </p:nvSpPr>
          <p:spPr>
            <a:xfrm>
              <a:off x="457200" y="1752480"/>
              <a:ext cx="8305920" cy="4496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8280" y="1219320"/>
              <a:ext cx="83052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II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Wspólna polityka zagraniczna i bezpieczeństw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0440" y="2044800"/>
              <a:ext cx="8410320" cy="31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99"/>
                  </a:solidFill>
                  <a:latin typeface="Times New Roman"/>
                </a:rPr>
                <a:t>Polityka zagraniczna</a:t>
              </a:r>
              <a:r>
                <a:rPr b="1" lang="en-US" sz="23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3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3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300" spc="-1" strike="noStrike">
                  <a:solidFill>
                    <a:srgbClr val="003399"/>
                  </a:solidFill>
                  <a:latin typeface="Times New Roman"/>
                </a:rPr>
                <a:t>Polityka bezpieczeństwa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współpraca, wspólne stanowiska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ze wsparciem UZE; kwesti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  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i działania - utrzymanie pokoju,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 dotyczące bezpieczeństwa UE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prawa człowieka,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rozbrojenie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demokracja,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ekonomiczne aspek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pomoc krajom trzecim.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  zbrojeń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długoterminowo; europejsk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  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system bezpieczeństwa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89680" y="5441400"/>
              <a:ext cx="57708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99"/>
                  </a:solidFill>
                  <a:latin typeface="Times New Roman"/>
                </a:rPr>
                <a:t>II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30040" y="1876320"/>
            <a:ext cx="2835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I. Strefa wol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hand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II. Unia cel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30600" y="2590920"/>
            <a:ext cx="461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. brak ceł wewnętrz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2. wspólna taryfa cel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2362320"/>
            <a:ext cx="381240" cy="1447560"/>
          </a:xfrm>
          <a:custGeom>
            <a:avLst/>
            <a:gdLst>
              <a:gd name="textAreaLeft" fmla="*/ 243720 w 381240"/>
              <a:gd name="textAreaRight" fmla="*/ 381600 w 38124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0"/>
            <a:ext cx="4800600" cy="103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Etapy integ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gospodarczej i walutowej 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666880" y="452160"/>
            <a:ext cx="3810240" cy="576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IA EUROPEJ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40" y="-27360"/>
            <a:ext cx="2432160" cy="64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rzy Fi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57200" y="1143000"/>
            <a:ext cx="8305920" cy="5105520"/>
            <a:chOff x="457200" y="1143000"/>
            <a:chExt cx="8305920" cy="5105520"/>
          </a:xfrm>
        </p:grpSpPr>
        <p:sp>
          <p:nvSpPr>
            <p:cNvPr id="456" name=""/>
            <p:cNvSpPr/>
            <p:nvPr/>
          </p:nvSpPr>
          <p:spPr>
            <a:xfrm>
              <a:off x="457200" y="1905120"/>
              <a:ext cx="8305920" cy="4343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15840" y="1143000"/>
              <a:ext cx="738324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III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Współpraca w dziedzinie sprawiedliwośc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i spraw wewnętrznyc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0120" y="2590920"/>
              <a:ext cx="7514280" cy="25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współpraca sądowa w materii cywilnej i karnej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współpraca policyjna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walka z rasizmem i ksenofobią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walka z narkomanią i przemytem broni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walka z przestępczością zorganizowaną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walka z terroryzmem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- walka ze zbrodniami popełnianymi na dzieciach i z handle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  </a:t>
              </a:r>
              <a:r>
                <a:rPr b="1" lang="en-US" sz="2200" spc="-1" strike="noStrike">
                  <a:solidFill>
                    <a:srgbClr val="003399"/>
                  </a:solidFill>
                  <a:latin typeface="Times New Roman"/>
                </a:rPr>
                <a:t>żywym towarem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91400" y="5441400"/>
              <a:ext cx="77508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99"/>
                  </a:solidFill>
                  <a:latin typeface="Times New Roman"/>
                </a:rPr>
                <a:t>III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97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5619600" y="3930480"/>
            <a:ext cx="3295800" cy="1860840"/>
            <a:chOff x="5619600" y="3930480"/>
            <a:chExt cx="3295800" cy="1860840"/>
          </a:xfrm>
        </p:grpSpPr>
        <p:pic>
          <p:nvPicPr>
            <p:cNvPr id="467" name="100EUROR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5619600" y="3930480"/>
              <a:ext cx="3295800" cy="186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5791320" y="4010040"/>
              <a:ext cx="289548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3399"/>
                  </a:solidFill>
                  <a:latin typeface="Times New Roman"/>
                </a:rPr>
                <a:t>EBC ma wyłączne prawo wydawania zgody na emisję banknotów euro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9" name="EBC-eurotower" descr=""/>
          <p:cNvPicPr/>
          <p:nvPr/>
        </p:nvPicPr>
        <p:blipFill>
          <a:blip r:embed="rId3"/>
          <a:stretch/>
        </p:blipFill>
        <p:spPr>
          <a:xfrm>
            <a:off x="7682040" y="838080"/>
            <a:ext cx="1461960" cy="25909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76320" y="1920960"/>
            <a:ext cx="81532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We Frankfurcie nad Menem - kieruje polityką monetarną państw Unii, w których obowiązuje waluta eu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EBC jest niezależny od jakichkolwiek wpływów politycznyc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76320" y="3179880"/>
            <a:ext cx="5333760" cy="3263760"/>
            <a:chOff x="76320" y="3179880"/>
            <a:chExt cx="5333760" cy="3263760"/>
          </a:xfrm>
        </p:grpSpPr>
        <p:pic>
          <p:nvPicPr>
            <p:cNvPr id="472" name="Zloto-0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152280" y="3179880"/>
              <a:ext cx="5105160" cy="32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76320" y="3276720"/>
              <a:ext cx="5333760" cy="29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Zadania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- EBC zarządza rezerwami walutowymi 12 państw członkowskich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- ustala poziom stóp procentowych w strefie euro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- przeprowadza operacje dewizowe i dba o sprawne działanie systemów płatniczyc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- pełni funkcje doradcze - opini wobec organów UE i organów narodowych.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380880" y="914400"/>
            <a:ext cx="3200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Europejsk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Bank Centraln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733920" y="0"/>
            <a:ext cx="1600200" cy="149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Bookman Old Style"/>
              </a:rPr>
              <a:t>czer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9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52280" y="1171440"/>
            <a:ext cx="388620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uropejski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anków Central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97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2825640"/>
            <a:ext cx="6324480" cy="33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zadani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- definiowanie i realizacja polityki walutowej Wspólnoty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- przeprowadzanie operacji dewizowych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- przechowywanie oficjalnych rezerw dewizowych państw członkowskich i zarządzanie nimi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imes New Roman"/>
              </a:rPr>
              <a:t>- wspieranie sprawnego działania systemów płatniczyc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33920" y="0"/>
            <a:ext cx="1600200" cy="149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9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Euro-na-dloni" descr=""/>
          <p:cNvPicPr/>
          <p:nvPr/>
        </p:nvPicPr>
        <p:blipFill>
          <a:blip r:embed="rId2"/>
          <a:stretch/>
        </p:blipFill>
        <p:spPr>
          <a:xfrm>
            <a:off x="0" y="3200400"/>
            <a:ext cx="2533680" cy="36576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04920" y="17622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-  tworzy go Europejski Bank Centralny wraz z narodowymi bankami central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98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4920" y="11872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Utworzenie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Un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Gospodarczej i Walutowej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- </a:t>
            </a: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Trzeci etap realizacji UG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828800" y="2286000"/>
            <a:ext cx="662940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Kryteria wejścia kraju do UG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3399"/>
                </a:solidFill>
                <a:latin typeface="Times New Roman"/>
              </a:rPr>
              <a:t>określone w Traktacie z Maastrich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876"/>
              </a:spcBef>
              <a:buClr>
                <a:srgbClr val="003399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Średnia stopa inflacj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003399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</a:t>
            </a: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eficyt budżet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003399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</a:t>
            </a: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ług publiczn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003399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Średnia nominalna długookresowa stopa procentow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003399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99"/>
                </a:solidFill>
                <a:latin typeface="Times New Roman"/>
              </a:rPr>
              <a:t>Państwo musi zachować przedział wahań kursów walu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09880" y="0"/>
            <a:ext cx="1600200" cy="149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Bookman Old Style"/>
              </a:rPr>
              <a:t>stycz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080" y="6417720"/>
            <a:ext cx="997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MONEY1" descr=""/>
          <p:cNvPicPr/>
          <p:nvPr/>
        </p:nvPicPr>
        <p:blipFill>
          <a:blip r:embed="rId2"/>
          <a:stretch/>
        </p:blipFill>
        <p:spPr>
          <a:xfrm>
            <a:off x="7367760" y="5029200"/>
            <a:ext cx="1776240" cy="1444680"/>
          </a:xfrm>
          <a:prstGeom prst="rect">
            <a:avLst/>
          </a:prstGeom>
          <a:ln w="0">
            <a:noFill/>
          </a:ln>
        </p:spPr>
      </p:pic>
      <p:pic>
        <p:nvPicPr>
          <p:cNvPr id="498" name="MONEY1" descr=""/>
          <p:cNvPicPr/>
          <p:nvPr/>
        </p:nvPicPr>
        <p:blipFill>
          <a:blip r:embed="rId3"/>
          <a:stretch/>
        </p:blipFill>
        <p:spPr>
          <a:xfrm>
            <a:off x="0" y="5032440"/>
            <a:ext cx="177624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1EUROR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4572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160" y="380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1998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 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09880" y="0"/>
            <a:ext cx="1600200" cy="149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Bookman Old Style"/>
              </a:rPr>
              <a:t>stycz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4480" y="879480"/>
            <a:ext cx="2487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ańst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złonkowsk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G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-4494240" y="5105520"/>
            <a:ext cx="9675720" cy="3507480"/>
            <a:chOff x="-4494240" y="5105520"/>
            <a:chExt cx="9675720" cy="3507480"/>
          </a:xfrm>
        </p:grpSpPr>
        <p:sp>
          <p:nvSpPr>
            <p:cNvPr id="506" name=""/>
            <p:cNvSpPr/>
            <p:nvPr/>
          </p:nvSpPr>
          <p:spPr>
            <a:xfrm>
              <a:off x="0" y="5425920"/>
              <a:ext cx="51814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Do strefy euro nie należą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003399"/>
                  </a:solidFill>
                  <a:latin typeface="Times New Roman"/>
                </a:rPr>
                <a:t>Dania, Wielka Brytania i Szwecja.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7" name="" descr=""/>
            <p:cNvPicPr/>
            <p:nvPr/>
          </p:nvPicPr>
          <p:blipFill>
            <a:blip r:embed="rId2"/>
            <a:stretch/>
          </p:blipFill>
          <p:spPr>
            <a:xfrm>
              <a:off x="1371600" y="5867280"/>
              <a:ext cx="73836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3"/>
            <a:stretch/>
          </p:blipFill>
          <p:spPr>
            <a:xfrm>
              <a:off x="100080" y="5867280"/>
              <a:ext cx="73800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" descr=""/>
            <p:cNvPicPr/>
            <p:nvPr/>
          </p:nvPicPr>
          <p:blipFill>
            <a:blip r:embed="rId4"/>
            <a:stretch/>
          </p:blipFill>
          <p:spPr>
            <a:xfrm>
              <a:off x="2819520" y="5867280"/>
              <a:ext cx="7380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-4494240" y="5105520"/>
              <a:ext cx="8991360" cy="350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9" y="0"/>
                  </a:moveTo>
                  <a:arcTo wR="10800" hR="10800" stAng="-5419286" swAng="54192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9" y="0"/>
                  </a:moveTo>
                  <a:arcTo wR="10800" hR="10800" stAng="-5419286" swAng="5419286"/>
                </a:path>
              </a:pathLst>
            </a:cu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6400800" y="2133720"/>
            <a:ext cx="19051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Finland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57400" y="1876320"/>
            <a:ext cx="152388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Aust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447920" y="2514600"/>
            <a:ext cx="152388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Grec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934320" y="4419720"/>
            <a:ext cx="152388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Holand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057400" y="4648320"/>
            <a:ext cx="106668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Belg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781680" y="2895480"/>
            <a:ext cx="18288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Franc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4038480"/>
            <a:ext cx="220968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Portugal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10280" y="3581280"/>
            <a:ext cx="17528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Hiszpa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410080" y="1523880"/>
            <a:ext cx="11430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Niem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943600" y="5029200"/>
            <a:ext cx="16765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Irland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14800" y="5638680"/>
            <a:ext cx="18288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Luksembur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143000" y="3276720"/>
            <a:ext cx="14479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Włoch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145000" y="6417720"/>
            <a:ext cx="997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=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514600" y="1600200"/>
            <a:ext cx="4713120" cy="4044960"/>
            <a:chOff x="2514600" y="1600200"/>
            <a:chExt cx="4713120" cy="4044960"/>
          </a:xfrm>
        </p:grpSpPr>
        <p:pic>
          <p:nvPicPr>
            <p:cNvPr id="525" name="" descr=""/>
            <p:cNvPicPr/>
            <p:nvPr/>
          </p:nvPicPr>
          <p:blipFill>
            <a:blip r:embed="rId5"/>
            <a:stretch/>
          </p:blipFill>
          <p:spPr>
            <a:xfrm>
              <a:off x="4572000" y="1600200"/>
              <a:ext cx="8269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6"/>
            <a:stretch/>
          </p:blipFill>
          <p:spPr>
            <a:xfrm>
              <a:off x="6248520" y="2819520"/>
              <a:ext cx="8269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" descr=""/>
            <p:cNvPicPr/>
            <p:nvPr/>
          </p:nvPicPr>
          <p:blipFill>
            <a:blip r:embed="rId7"/>
            <a:stretch/>
          </p:blipFill>
          <p:spPr>
            <a:xfrm>
              <a:off x="4191120" y="5105520"/>
              <a:ext cx="8269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" descr=""/>
            <p:cNvPicPr/>
            <p:nvPr/>
          </p:nvPicPr>
          <p:blipFill>
            <a:blip r:embed="rId8"/>
            <a:stretch/>
          </p:blipFill>
          <p:spPr>
            <a:xfrm>
              <a:off x="2514600" y="3200400"/>
              <a:ext cx="8269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" descr=""/>
            <p:cNvPicPr/>
            <p:nvPr/>
          </p:nvPicPr>
          <p:blipFill>
            <a:blip r:embed="rId9"/>
            <a:stretch/>
          </p:blipFill>
          <p:spPr>
            <a:xfrm>
              <a:off x="3124080" y="4724280"/>
              <a:ext cx="82728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10"/>
            <a:stretch/>
          </p:blipFill>
          <p:spPr>
            <a:xfrm>
              <a:off x="6172200" y="4343400"/>
              <a:ext cx="8269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11"/>
            <a:stretch/>
          </p:blipFill>
          <p:spPr>
            <a:xfrm>
              <a:off x="5334120" y="4952880"/>
              <a:ext cx="82692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f_por" descr=""/>
            <p:cNvPicPr/>
            <p:nvPr/>
          </p:nvPicPr>
          <p:blipFill>
            <a:blip r:embed="rId12"/>
            <a:stretch/>
          </p:blipFill>
          <p:spPr>
            <a:xfrm>
              <a:off x="2590920" y="3962520"/>
              <a:ext cx="8269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" descr=""/>
            <p:cNvPicPr/>
            <p:nvPr/>
          </p:nvPicPr>
          <p:blipFill>
            <a:blip r:embed="rId13"/>
            <a:stretch/>
          </p:blipFill>
          <p:spPr>
            <a:xfrm>
              <a:off x="5715000" y="2057400"/>
              <a:ext cx="826920" cy="5396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534" name="" descr=""/>
            <p:cNvPicPr/>
            <p:nvPr/>
          </p:nvPicPr>
          <p:blipFill>
            <a:blip r:embed="rId14"/>
            <a:stretch/>
          </p:blipFill>
          <p:spPr>
            <a:xfrm>
              <a:off x="3505320" y="1828800"/>
              <a:ext cx="8269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f_his" descr=""/>
            <p:cNvPicPr/>
            <p:nvPr/>
          </p:nvPicPr>
          <p:blipFill>
            <a:blip r:embed="rId15"/>
            <a:stretch/>
          </p:blipFill>
          <p:spPr>
            <a:xfrm>
              <a:off x="6400800" y="3581280"/>
              <a:ext cx="82692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f_gre" descr=""/>
            <p:cNvPicPr/>
            <p:nvPr/>
          </p:nvPicPr>
          <p:blipFill>
            <a:blip r:embed="rId16"/>
            <a:stretch/>
          </p:blipFill>
          <p:spPr>
            <a:xfrm>
              <a:off x="2819520" y="2514600"/>
              <a:ext cx="826920" cy="539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523880" y="838080"/>
            <a:ext cx="58676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Fazy wprowadzania eur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79360" y="3808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294240" y="3808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1480" y="1827000"/>
            <a:ext cx="85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Ogłoszenie listy krajów zakwalifikowanych do UG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Przyjęcie prawodawstwa niezbędnego do wprowadzania 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3399"/>
                </a:solidFill>
                <a:latin typeface="Times New Roman"/>
              </a:rPr>
              <a:t>Przyjęcie systemu finansowego do przyjęcia nowej walu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3610080"/>
            <a:ext cx="868680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80880" indent="-380880">
              <a:lnSpc>
                <a:spcPct val="95000"/>
              </a:lnSpc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uro samodzielną walut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Nieodwołalne usztywnianie kursów walut państw UGW względem 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ozpoczęcie działalności Europejskiego Banku Centraln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uro używane tylko w rozliczeniach bezgotówk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Nowe emisje instrumentów finansowych – włączanie 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Osoby prywatne i przedsiębiorstwa mogą mieć rachunek bankowy w 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76320" y="2895480"/>
            <a:ext cx="9065520" cy="762120"/>
            <a:chOff x="76320" y="2895480"/>
            <a:chExt cx="9065520" cy="762120"/>
          </a:xfrm>
        </p:grpSpPr>
        <p:sp>
          <p:nvSpPr>
            <p:cNvPr id="547" name=""/>
            <p:cNvSpPr/>
            <p:nvPr/>
          </p:nvSpPr>
          <p:spPr>
            <a:xfrm>
              <a:off x="984600" y="3123000"/>
              <a:ext cx="815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80"/>
                  </a:solidFill>
                  <a:latin typeface="Times New Roman"/>
                </a:rPr>
                <a:t>OKRES PRZEJŚCIOWY (1</a:t>
              </a:r>
              <a:r>
                <a:rPr b="1" lang="pl-PL" sz="2400" spc="-1" strike="noStrike">
                  <a:solidFill>
                    <a:srgbClr val="000080"/>
                  </a:solidFill>
                  <a:latin typeface="Times New Roman"/>
                </a:rPr>
                <a:t> stycznia </a:t>
              </a:r>
              <a:r>
                <a:rPr b="1" lang="en-GB" sz="2400" spc="-1" strike="noStrike">
                  <a:solidFill>
                    <a:srgbClr val="000080"/>
                  </a:solidFill>
                  <a:latin typeface="Times New Roman"/>
                </a:rPr>
                <a:t>1999 - 31 </a:t>
              </a:r>
              <a:r>
                <a:rPr b="1" lang="pl-PL" sz="2400" spc="-1" strike="noStrike">
                  <a:solidFill>
                    <a:srgbClr val="000080"/>
                  </a:solidFill>
                  <a:latin typeface="Times New Roman"/>
                </a:rPr>
                <a:t>grudnia </a:t>
              </a:r>
              <a:r>
                <a:rPr b="1" lang="en-GB" sz="2400" spc="-1" strike="noStrike">
                  <a:solidFill>
                    <a:srgbClr val="000080"/>
                  </a:solidFill>
                  <a:latin typeface="Times New Roman"/>
                </a:rPr>
                <a:t>200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8" name="1EUROR" descr=""/>
            <p:cNvPicPr/>
            <p:nvPr/>
          </p:nvPicPr>
          <p:blipFill>
            <a:blip r:embed="rId2"/>
            <a:stretch/>
          </p:blipFill>
          <p:spPr>
            <a:xfrm>
              <a:off x="76320" y="289548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9" name=""/>
          <p:cNvGrpSpPr/>
          <p:nvPr/>
        </p:nvGrpSpPr>
        <p:grpSpPr>
          <a:xfrm>
            <a:off x="76320" y="1143000"/>
            <a:ext cx="6345000" cy="762120"/>
            <a:chOff x="76320" y="1143000"/>
            <a:chExt cx="6345000" cy="762120"/>
          </a:xfrm>
        </p:grpSpPr>
        <p:sp>
          <p:nvSpPr>
            <p:cNvPr id="550" name=""/>
            <p:cNvSpPr/>
            <p:nvPr/>
          </p:nvSpPr>
          <p:spPr>
            <a:xfrm>
              <a:off x="993600" y="1294200"/>
              <a:ext cx="542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80"/>
                  </a:solidFill>
                  <a:latin typeface="Times New Roman"/>
                </a:rPr>
                <a:t>OKRES PRZYGOTOWAWCZY (1998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1" name="1EUROR" descr=""/>
            <p:cNvPicPr/>
            <p:nvPr/>
          </p:nvPicPr>
          <p:blipFill>
            <a:blip r:embed="rId3"/>
            <a:stretch/>
          </p:blipFill>
          <p:spPr>
            <a:xfrm>
              <a:off x="76320" y="114300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523880" y="838080"/>
            <a:ext cx="58676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Times New Roman"/>
              </a:rPr>
              <a:t>Fazy wprowadzania eur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179360" y="3808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94240" y="3808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6960" y="2282760"/>
            <a:ext cx="8717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80880" indent="-380880"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Banknoty i monety wprowadzone do obie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Narodowe banknoty i monety stopniowo wycofywane z obie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Płace, świadczenia socjalne i transakcje detaliczne dokonywane w 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Zakończenie procesów dostawczych w instytucjach publicznych i jednostkach usługowych, narodowe waluty przestają być prawnym środkiem płatnicz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ff00"/>
              </a:buClr>
              <a:buSzPct val="130000"/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Od 28 lutego  2002 euro jedynym środkiem płatniczym UG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76320" y="1371600"/>
            <a:ext cx="7422840" cy="762120"/>
            <a:chOff x="76320" y="1371600"/>
            <a:chExt cx="7422840" cy="762120"/>
          </a:xfrm>
        </p:grpSpPr>
        <p:sp>
          <p:nvSpPr>
            <p:cNvPr id="560" name=""/>
            <p:cNvSpPr/>
            <p:nvPr/>
          </p:nvSpPr>
          <p:spPr>
            <a:xfrm>
              <a:off x="989280" y="1522800"/>
              <a:ext cx="65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Times New Roman"/>
                </a:rPr>
                <a:t>OKRES KOŃCOWY (1 stycznia - 31 lipca 200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1" name="1EUROR" descr=""/>
            <p:cNvPicPr/>
            <p:nvPr/>
          </p:nvPicPr>
          <p:blipFill>
            <a:blip r:embed="rId2"/>
            <a:stretch/>
          </p:blipFill>
          <p:spPr>
            <a:xfrm>
              <a:off x="76320" y="137160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2" name=""/>
          <p:cNvGrpSpPr/>
          <p:nvPr/>
        </p:nvGrpSpPr>
        <p:grpSpPr>
          <a:xfrm>
            <a:off x="0" y="5638680"/>
            <a:ext cx="8305920" cy="838440"/>
            <a:chOff x="0" y="5638680"/>
            <a:chExt cx="8305920" cy="838440"/>
          </a:xfrm>
        </p:grpSpPr>
        <p:sp>
          <p:nvSpPr>
            <p:cNvPr id="563" name=""/>
            <p:cNvSpPr/>
            <p:nvPr/>
          </p:nvSpPr>
          <p:spPr>
            <a:xfrm>
              <a:off x="0" y="6477120"/>
              <a:ext cx="8305920" cy="0"/>
            </a:xfrm>
            <a:prstGeom prst="line">
              <a:avLst/>
            </a:prstGeom>
            <a:ln w="64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4" name="100EUROR" descr=""/>
            <p:cNvPicPr/>
            <p:nvPr/>
          </p:nvPicPr>
          <p:blipFill>
            <a:blip r:embed="rId3"/>
            <a:stretch/>
          </p:blipFill>
          <p:spPr>
            <a:xfrm>
              <a:off x="2844720" y="5638680"/>
              <a:ext cx="127008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10EUROR" descr=""/>
            <p:cNvPicPr/>
            <p:nvPr/>
          </p:nvPicPr>
          <p:blipFill>
            <a:blip r:embed="rId4"/>
            <a:stretch/>
          </p:blipFill>
          <p:spPr>
            <a:xfrm>
              <a:off x="6934320" y="5638680"/>
              <a:ext cx="1277640" cy="72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200EUROR" descr=""/>
            <p:cNvPicPr/>
            <p:nvPr/>
          </p:nvPicPr>
          <p:blipFill>
            <a:blip r:embed="rId5"/>
            <a:stretch/>
          </p:blipFill>
          <p:spPr>
            <a:xfrm>
              <a:off x="1447920" y="5638680"/>
              <a:ext cx="131760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20EUROR" descr=""/>
            <p:cNvPicPr/>
            <p:nvPr/>
          </p:nvPicPr>
          <p:blipFill>
            <a:blip r:embed="rId6"/>
            <a:stretch/>
          </p:blipFill>
          <p:spPr>
            <a:xfrm>
              <a:off x="5562720" y="5638680"/>
              <a:ext cx="128088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500EUROR" descr=""/>
            <p:cNvPicPr/>
            <p:nvPr/>
          </p:nvPicPr>
          <p:blipFill>
            <a:blip r:embed="rId7"/>
            <a:stretch/>
          </p:blipFill>
          <p:spPr>
            <a:xfrm>
              <a:off x="0" y="5638680"/>
              <a:ext cx="137808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50EUROR" descr=""/>
            <p:cNvPicPr/>
            <p:nvPr/>
          </p:nvPicPr>
          <p:blipFill>
            <a:blip r:embed="rId8"/>
            <a:stretch/>
          </p:blipFill>
          <p:spPr>
            <a:xfrm>
              <a:off x="4191120" y="5638680"/>
              <a:ext cx="125892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0" y="1752480"/>
            <a:ext cx="914400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Zaczyna funkcjonować wspól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europejska waluta: EU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01" descr=""/>
          <p:cNvPicPr/>
          <p:nvPr/>
        </p:nvPicPr>
        <p:blipFill>
          <a:blip r:embed="rId2"/>
          <a:stretch/>
        </p:blipFill>
        <p:spPr>
          <a:xfrm>
            <a:off x="2514600" y="2514600"/>
            <a:ext cx="4343400" cy="315432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3809880" y="0"/>
            <a:ext cx="1600200" cy="149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Bookman Old Style"/>
              </a:rPr>
              <a:t>stycz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179360" y="3808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94240" y="3808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0" y="5506920"/>
            <a:ext cx="9144000" cy="817560"/>
            <a:chOff x="0" y="5506920"/>
            <a:chExt cx="9144000" cy="817560"/>
          </a:xfrm>
        </p:grpSpPr>
        <p:sp>
          <p:nvSpPr>
            <p:cNvPr id="584" name=""/>
            <p:cNvSpPr/>
            <p:nvPr/>
          </p:nvSpPr>
          <p:spPr>
            <a:xfrm>
              <a:off x="1219320" y="5572080"/>
              <a:ext cx="792468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0880" indent="-380880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3399"/>
                  </a:solidFill>
                  <a:latin typeface="Times New Roman"/>
                </a:rPr>
                <a:t>konsolidacja narodowych rynków kapitałowych.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5" name="OK_kciuk" descr=""/>
            <p:cNvPicPr/>
            <p:nvPr/>
          </p:nvPicPr>
          <p:blipFill>
            <a:blip r:embed="rId2"/>
            <a:stretch/>
          </p:blipFill>
          <p:spPr>
            <a:xfrm>
              <a:off x="0" y="5506920"/>
              <a:ext cx="1219320" cy="81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6" name=""/>
          <p:cNvSpPr/>
          <p:nvPr/>
        </p:nvSpPr>
        <p:spPr>
          <a:xfrm>
            <a:off x="990720" y="990720"/>
            <a:ext cx="792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66"/>
                </a:solidFill>
                <a:latin typeface="Times New Roman"/>
              </a:rPr>
              <a:t>Efekty i korzyści utworzenia UGW</a:t>
            </a:r>
            <a:r>
              <a:rPr b="1" lang="pl-PL" sz="27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0" y="1676520"/>
            <a:ext cx="9144000" cy="817560"/>
            <a:chOff x="0" y="1676520"/>
            <a:chExt cx="9144000" cy="817560"/>
          </a:xfrm>
        </p:grpSpPr>
        <p:pic>
          <p:nvPicPr>
            <p:cNvPr id="588" name="OK_kciuk" descr=""/>
            <p:cNvPicPr/>
            <p:nvPr/>
          </p:nvPicPr>
          <p:blipFill>
            <a:blip r:embed="rId3"/>
            <a:stretch/>
          </p:blipFill>
          <p:spPr>
            <a:xfrm>
              <a:off x="0" y="1676520"/>
              <a:ext cx="121932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1219320" y="1676520"/>
              <a:ext cx="7924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0880" indent="-3808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700" spc="-1" strike="noStrike">
                  <a:solidFill>
                    <a:srgbClr val="003399"/>
                  </a:solidFill>
                  <a:latin typeface="Times New Roman"/>
                </a:rPr>
                <a:t>likwidacja kosztów wymiany walut,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0" y="2344680"/>
            <a:ext cx="9144000" cy="911160"/>
            <a:chOff x="0" y="2344680"/>
            <a:chExt cx="9144000" cy="911160"/>
          </a:xfrm>
        </p:grpSpPr>
        <p:pic>
          <p:nvPicPr>
            <p:cNvPr id="591" name="OK_kciuk" descr=""/>
            <p:cNvPicPr/>
            <p:nvPr/>
          </p:nvPicPr>
          <p:blipFill>
            <a:blip r:embed="rId4"/>
            <a:stretch/>
          </p:blipFill>
          <p:spPr>
            <a:xfrm>
              <a:off x="0" y="2438280"/>
              <a:ext cx="121932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1219320" y="2344680"/>
              <a:ext cx="7924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0880" indent="-3808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3399"/>
                  </a:solidFill>
                  <a:latin typeface="Times New Roman"/>
                </a:rPr>
                <a:t>eliminacja ryzyka kursowego,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0" y="3182760"/>
            <a:ext cx="9144000" cy="835200"/>
            <a:chOff x="0" y="3182760"/>
            <a:chExt cx="9144000" cy="835200"/>
          </a:xfrm>
        </p:grpSpPr>
        <p:pic>
          <p:nvPicPr>
            <p:cNvPr id="594" name="OK_kciuk" descr=""/>
            <p:cNvPicPr/>
            <p:nvPr/>
          </p:nvPicPr>
          <p:blipFill>
            <a:blip r:embed="rId5"/>
            <a:stretch/>
          </p:blipFill>
          <p:spPr>
            <a:xfrm>
              <a:off x="0" y="3200400"/>
              <a:ext cx="121932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1219320" y="3182760"/>
              <a:ext cx="79246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0880" indent="-3808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3399"/>
                  </a:solidFill>
                  <a:latin typeface="Times New Roman"/>
                </a:rPr>
                <a:t>łatwiejszy dostęp do rynku europejskiego,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0" y="3962520"/>
            <a:ext cx="9144000" cy="817560"/>
            <a:chOff x="0" y="3962520"/>
            <a:chExt cx="9144000" cy="817560"/>
          </a:xfrm>
        </p:grpSpPr>
        <p:pic>
          <p:nvPicPr>
            <p:cNvPr id="597" name="OK_kciuk" descr=""/>
            <p:cNvPicPr/>
            <p:nvPr/>
          </p:nvPicPr>
          <p:blipFill>
            <a:blip r:embed="rId6"/>
            <a:stretch/>
          </p:blipFill>
          <p:spPr>
            <a:xfrm>
              <a:off x="0" y="3962520"/>
              <a:ext cx="121932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1219320" y="3971880"/>
              <a:ext cx="7924680" cy="5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0880" indent="-380880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700" spc="-1" strike="noStrike">
                  <a:solidFill>
                    <a:srgbClr val="003399"/>
                  </a:solidFill>
                  <a:latin typeface="Times New Roman"/>
                </a:rPr>
                <a:t>większa przejrzystość cen,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0" y="4606920"/>
            <a:ext cx="9144000" cy="957960"/>
            <a:chOff x="0" y="4606920"/>
            <a:chExt cx="9144000" cy="957960"/>
          </a:xfrm>
        </p:grpSpPr>
        <p:pic>
          <p:nvPicPr>
            <p:cNvPr id="600" name="OK_kciuk" descr=""/>
            <p:cNvPicPr/>
            <p:nvPr/>
          </p:nvPicPr>
          <p:blipFill>
            <a:blip r:embed="rId7"/>
            <a:stretch/>
          </p:blipFill>
          <p:spPr>
            <a:xfrm>
              <a:off x="0" y="4648320"/>
              <a:ext cx="121932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219320" y="4606920"/>
              <a:ext cx="7924680" cy="95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3399"/>
                  </a:solidFill>
                  <a:latin typeface="Times New Roman"/>
                </a:rPr>
                <a:t>szybszy wzrost gospodarczy w państwach członkowskich,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01520" y="5835600"/>
            <a:ext cx="90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333399"/>
                </a:solidFill>
                <a:latin typeface="Times New Roman"/>
              </a:rPr>
              <a:t>Budżet UE w 2002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333399"/>
                </a:solidFill>
                <a:latin typeface="Times New Roman"/>
              </a:rPr>
              <a:t>- Publikacja Pełnomocnika Rządu ds. Informacji Europejski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98160" y="690120"/>
            <a:ext cx="3058200" cy="644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truktura wpł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2819520" y="2133720"/>
            <a:ext cx="2576520" cy="3333600"/>
            <a:chOff x="2819520" y="2133720"/>
            <a:chExt cx="2576520" cy="3333600"/>
          </a:xfrm>
        </p:grpSpPr>
        <p:pic>
          <p:nvPicPr>
            <p:cNvPr id="608" name="Worek-do-pieniedzy" descr=""/>
            <p:cNvPicPr/>
            <p:nvPr/>
          </p:nvPicPr>
          <p:blipFill>
            <a:blip r:embed="rId2"/>
            <a:stretch/>
          </p:blipFill>
          <p:spPr>
            <a:xfrm>
              <a:off x="2819520" y="2133720"/>
              <a:ext cx="2576520" cy="333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Z-Euro" descr=""/>
            <p:cNvPicPr/>
            <p:nvPr/>
          </p:nvPicPr>
          <p:blipFill>
            <a:blip r:embed="rId3"/>
            <a:stretch/>
          </p:blipFill>
          <p:spPr>
            <a:xfrm>
              <a:off x="3581280" y="373356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0" name=""/>
          <p:cNvSpPr/>
          <p:nvPr/>
        </p:nvSpPr>
        <p:spPr>
          <a:xfrm>
            <a:off x="266400" y="2525760"/>
            <a:ext cx="3331440" cy="2942640"/>
          </a:xfrm>
          <a:prstGeom prst="rightArrowCallout">
            <a:avLst>
              <a:gd name="adj1" fmla="val 25002"/>
              <a:gd name="adj2" fmla="val 25000"/>
              <a:gd name="adj3" fmla="val 18869"/>
              <a:gd name="adj4" fmla="val 66667"/>
            </a:avLst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Times New Roman"/>
              </a:rPr>
              <a:t>- rolne opła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300" spc="-1" strike="noStrike">
                <a:solidFill>
                  <a:srgbClr val="000099"/>
                </a:solidFill>
                <a:latin typeface="Times New Roman"/>
              </a:rPr>
              <a:t>wyrównawcz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300" spc="-1" strike="noStrike">
                <a:solidFill>
                  <a:srgbClr val="000099"/>
                </a:solidFill>
                <a:latin typeface="Times New Roman"/>
              </a:rPr>
              <a:t>oraz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Times New Roman"/>
              </a:rPr>
              <a:t>- cła wynikają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300" spc="-1" strike="noStrike">
                <a:solidFill>
                  <a:srgbClr val="000099"/>
                </a:solidFill>
                <a:latin typeface="Times New Roman"/>
              </a:rPr>
              <a:t>ze stosowan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300" spc="-1" strike="noStrike">
                <a:solidFill>
                  <a:srgbClr val="000099"/>
                </a:solidFill>
                <a:latin typeface="Times New Roman"/>
              </a:rPr>
              <a:t>wspólnej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300" spc="-1" strike="noStrike">
                <a:solidFill>
                  <a:srgbClr val="000099"/>
                </a:solidFill>
                <a:latin typeface="Times New Roman"/>
              </a:rPr>
              <a:t>taryfy celnej;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Razem  16,6 %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989440" y="215640"/>
            <a:ext cx="2285280" cy="2700360"/>
          </a:xfrm>
          <a:prstGeom prst="downArrowCallout">
            <a:avLst>
              <a:gd name="adj1" fmla="val 25002"/>
              <a:gd name="adj2" fmla="val 25000"/>
              <a:gd name="adj3" fmla="val 19694"/>
              <a:gd name="adj4" fmla="val 66667"/>
            </a:avLst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ochody 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ytuł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odatku V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8,3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4280" y="309240"/>
            <a:ext cx="1845000" cy="1454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Budż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726080" y="2482920"/>
            <a:ext cx="4189320" cy="3018240"/>
          </a:xfrm>
          <a:prstGeom prst="leftArrowCallout">
            <a:avLst>
              <a:gd name="adj1" fmla="val 25002"/>
              <a:gd name="adj2" fmla="val 25000"/>
              <a:gd name="adj3" fmla="val 23133"/>
              <a:gd name="adj4" fmla="val 66673"/>
            </a:avLst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Wpła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państ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złonkowsk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(1,27 % PKB danego kraj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43,0 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3429000" y="4952880"/>
            <a:ext cx="1600200" cy="1098720"/>
            <a:chOff x="3429000" y="4952880"/>
            <a:chExt cx="1600200" cy="1098720"/>
          </a:xfrm>
        </p:grpSpPr>
        <p:sp>
          <p:nvSpPr>
            <p:cNvPr id="615" name=""/>
            <p:cNvSpPr/>
            <p:nvPr/>
          </p:nvSpPr>
          <p:spPr>
            <a:xfrm>
              <a:off x="3429000" y="4952880"/>
              <a:ext cx="1600200" cy="1067040"/>
            </a:xfrm>
            <a:prstGeom prst="upArrowCallout">
              <a:avLst>
                <a:gd name="adj1" fmla="val 37495"/>
                <a:gd name="adj2" fmla="val 37492"/>
                <a:gd name="adj3" fmla="val 16667"/>
                <a:gd name="adj4" fmla="val 66660"/>
              </a:avLst>
            </a:prstGeom>
            <a:noFill/>
            <a:ln w="1908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95600" y="5226120"/>
              <a:ext cx="140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Pozostał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Times New Roman"/>
                </a:rPr>
                <a:t>3,1 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640" y="1876320"/>
            <a:ext cx="3929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I. Strefa wol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hand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II. Unia ce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III. Wspólny ryn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32680" y="2514600"/>
            <a:ext cx="4714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. brak ceł wewnętrz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2. wspólna taryfa cel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3. swobodny przepły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kapitału, usług, ludnoś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2514600"/>
            <a:ext cx="304920" cy="2057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0"/>
            <a:ext cx="4800600" cy="103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Etapy integ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gospodarczej i walutowej 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20" y="6431040"/>
            <a:ext cx="177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Dane: 1999 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5460840" y="414360"/>
            <a:ext cx="863640" cy="57636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7670880" y="231948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3581280" y="685800"/>
            <a:ext cx="827280" cy="53964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6019920" y="577224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5"/>
          <a:stretch/>
        </p:blipFill>
        <p:spPr>
          <a:xfrm>
            <a:off x="380880" y="5359320"/>
            <a:ext cx="827280" cy="54000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6"/>
          <a:stretch/>
        </p:blipFill>
        <p:spPr>
          <a:xfrm>
            <a:off x="2133720" y="6354720"/>
            <a:ext cx="826920" cy="53964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7"/>
          <a:stretch/>
        </p:blipFill>
        <p:spPr>
          <a:xfrm>
            <a:off x="7315200" y="3767040"/>
            <a:ext cx="863640" cy="57636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8"/>
          <a:stretch/>
        </p:blipFill>
        <p:spPr>
          <a:xfrm>
            <a:off x="2590920" y="380880"/>
            <a:ext cx="826920" cy="54000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9"/>
          <a:stretch/>
        </p:blipFill>
        <p:spPr>
          <a:xfrm>
            <a:off x="380880" y="3048120"/>
            <a:ext cx="827280" cy="539640"/>
          </a:xfrm>
          <a:prstGeom prst="rect">
            <a:avLst/>
          </a:prstGeom>
          <a:ln w="0">
            <a:noFill/>
          </a:ln>
        </p:spPr>
      </p:pic>
      <p:pic>
        <p:nvPicPr>
          <p:cNvPr id="628" name="f_por" descr=""/>
          <p:cNvPicPr/>
          <p:nvPr/>
        </p:nvPicPr>
        <p:blipFill>
          <a:blip r:embed="rId10"/>
          <a:stretch/>
        </p:blipFill>
        <p:spPr>
          <a:xfrm>
            <a:off x="380880" y="1600200"/>
            <a:ext cx="827280" cy="539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1"/>
          <a:stretch/>
        </p:blipFill>
        <p:spPr>
          <a:xfrm>
            <a:off x="380880" y="863640"/>
            <a:ext cx="827280" cy="539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630" name="f_gre" descr=""/>
          <p:cNvPicPr/>
          <p:nvPr/>
        </p:nvPicPr>
        <p:blipFill>
          <a:blip r:embed="rId12"/>
          <a:stretch/>
        </p:blipFill>
        <p:spPr>
          <a:xfrm>
            <a:off x="380880" y="2286000"/>
            <a:ext cx="827280" cy="53964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13"/>
          <a:stretch/>
        </p:blipFill>
        <p:spPr>
          <a:xfrm>
            <a:off x="380880" y="3809880"/>
            <a:ext cx="827280" cy="54000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14"/>
          <a:stretch/>
        </p:blipFill>
        <p:spPr>
          <a:xfrm>
            <a:off x="380880" y="4572000"/>
            <a:ext cx="827280" cy="539640"/>
          </a:xfrm>
          <a:prstGeom prst="rect">
            <a:avLst/>
          </a:prstGeom>
          <a:ln w="0">
            <a:noFill/>
          </a:ln>
        </p:spPr>
      </p:pic>
      <p:pic>
        <p:nvPicPr>
          <p:cNvPr id="633" name="Flaga_UE" descr=""/>
          <p:cNvPicPr/>
          <p:nvPr/>
        </p:nvPicPr>
        <p:blipFill>
          <a:blip r:embed="rId15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00" y="-5400"/>
            <a:ext cx="2609280" cy="779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Budżet 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266240" y="-4680"/>
            <a:ext cx="1426680" cy="1184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dzia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wpł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600200" y="914400"/>
          <a:ext cx="6807240" cy="5454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600200" y="914400"/>
                    <a:ext cx="68072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9" name=""/>
          <p:cNvGrpSpPr/>
          <p:nvPr/>
        </p:nvGrpSpPr>
        <p:grpSpPr>
          <a:xfrm>
            <a:off x="4038480" y="3048120"/>
            <a:ext cx="1219320" cy="1523880"/>
            <a:chOff x="4038480" y="3048120"/>
            <a:chExt cx="1219320" cy="1523880"/>
          </a:xfrm>
        </p:grpSpPr>
        <p:pic>
          <p:nvPicPr>
            <p:cNvPr id="640" name="Worek-do-pieniedzy" descr=""/>
            <p:cNvPicPr/>
            <p:nvPr/>
          </p:nvPicPr>
          <p:blipFill>
            <a:blip r:embed="rId18"/>
            <a:stretch/>
          </p:blipFill>
          <p:spPr>
            <a:xfrm>
              <a:off x="4038480" y="3048120"/>
              <a:ext cx="121932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Z-Euro" descr=""/>
            <p:cNvPicPr/>
            <p:nvPr/>
          </p:nvPicPr>
          <p:blipFill>
            <a:blip r:embed="rId19"/>
            <a:stretch/>
          </p:blipFill>
          <p:spPr>
            <a:xfrm>
              <a:off x="4398840" y="3779280"/>
              <a:ext cx="504720" cy="487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2" name="f_his" descr=""/>
          <p:cNvPicPr/>
          <p:nvPr/>
        </p:nvPicPr>
        <p:blipFill>
          <a:blip r:embed="rId20"/>
          <a:stretch/>
        </p:blipFill>
        <p:spPr>
          <a:xfrm>
            <a:off x="4114800" y="5943600"/>
            <a:ext cx="826920" cy="53964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 flipH="1" rot="1623600">
            <a:off x="6138000" y="1278360"/>
            <a:ext cx="274248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03040">
            <a:solidFill>
              <a:srgbClr val="003399"/>
            </a:solidFill>
            <a:prstDash val="sysDot"/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 flipV="1">
            <a:off x="6172200" y="5028480"/>
            <a:ext cx="5028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03040">
            <a:solidFill>
              <a:srgbClr val="003399"/>
            </a:solidFill>
            <a:prstDash val="sysDot"/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 rot="11079000">
            <a:off x="-1954800" y="5156280"/>
            <a:ext cx="3961440" cy="111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52280">
            <a:solidFill>
              <a:srgbClr val="00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266240" y="-4680"/>
            <a:ext cx="1426680" cy="1184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dzia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wpł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" y="2971800"/>
            <a:ext cx="2286000" cy="0"/>
          </a:xfrm>
          <a:prstGeom prst="line">
            <a:avLst/>
          </a:prstGeom>
          <a:ln w="152280">
            <a:solidFill>
              <a:srgbClr val="00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420080" y="304920"/>
            <a:ext cx="45648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52280">
            <a:solidFill>
              <a:srgbClr val="00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0" y="6431040"/>
            <a:ext cx="177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Dane: 1997 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4049640" y="298440"/>
            <a:ext cx="827280" cy="53964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5334120" y="298440"/>
            <a:ext cx="826920" cy="5396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3"/>
          <a:stretch/>
        </p:blipFill>
        <p:spPr>
          <a:xfrm>
            <a:off x="2678040" y="374760"/>
            <a:ext cx="827280" cy="53964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4"/>
          <a:stretch/>
        </p:blipFill>
        <p:spPr>
          <a:xfrm>
            <a:off x="7935840" y="3346560"/>
            <a:ext cx="827280" cy="5396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5"/>
          <a:stretch/>
        </p:blipFill>
        <p:spPr>
          <a:xfrm>
            <a:off x="4648320" y="5867280"/>
            <a:ext cx="826920" cy="54000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6"/>
          <a:stretch/>
        </p:blipFill>
        <p:spPr>
          <a:xfrm>
            <a:off x="6553080" y="5861160"/>
            <a:ext cx="827280" cy="53964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7"/>
          <a:stretch/>
        </p:blipFill>
        <p:spPr>
          <a:xfrm>
            <a:off x="7543800" y="1898640"/>
            <a:ext cx="831960" cy="53964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8"/>
          <a:stretch/>
        </p:blipFill>
        <p:spPr>
          <a:xfrm>
            <a:off x="609480" y="1247760"/>
            <a:ext cx="827280" cy="53964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9"/>
          <a:stretch/>
        </p:blipFill>
        <p:spPr>
          <a:xfrm>
            <a:off x="685800" y="4343400"/>
            <a:ext cx="826920" cy="539640"/>
          </a:xfrm>
          <a:prstGeom prst="rect">
            <a:avLst/>
          </a:prstGeom>
          <a:ln w="0">
            <a:noFill/>
          </a:ln>
        </p:spPr>
      </p:pic>
      <p:pic>
        <p:nvPicPr>
          <p:cNvPr id="660" name="f_por" descr=""/>
          <p:cNvPicPr/>
          <p:nvPr/>
        </p:nvPicPr>
        <p:blipFill>
          <a:blip r:embed="rId10"/>
          <a:stretch/>
        </p:blipFill>
        <p:spPr>
          <a:xfrm>
            <a:off x="609480" y="2819520"/>
            <a:ext cx="827280" cy="53964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11"/>
          <a:stretch/>
        </p:blipFill>
        <p:spPr>
          <a:xfrm>
            <a:off x="609480" y="2057400"/>
            <a:ext cx="827280" cy="539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662" name="f_gre" descr=""/>
          <p:cNvPicPr/>
          <p:nvPr/>
        </p:nvPicPr>
        <p:blipFill>
          <a:blip r:embed="rId12"/>
          <a:stretch/>
        </p:blipFill>
        <p:spPr>
          <a:xfrm>
            <a:off x="609480" y="3581280"/>
            <a:ext cx="827280" cy="5400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13"/>
          <a:stretch/>
        </p:blipFill>
        <p:spPr>
          <a:xfrm>
            <a:off x="696960" y="5105520"/>
            <a:ext cx="826920" cy="53964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14"/>
          <a:stretch/>
        </p:blipFill>
        <p:spPr>
          <a:xfrm>
            <a:off x="1839960" y="5861160"/>
            <a:ext cx="826920" cy="539640"/>
          </a:xfrm>
          <a:prstGeom prst="rect">
            <a:avLst/>
          </a:prstGeom>
          <a:ln w="0">
            <a:noFill/>
          </a:ln>
        </p:spPr>
      </p:pic>
      <p:pic>
        <p:nvPicPr>
          <p:cNvPr id="665" name="Flaga_UE" descr=""/>
          <p:cNvPicPr/>
          <p:nvPr/>
        </p:nvPicPr>
        <p:blipFill>
          <a:blip r:embed="rId15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800" y="-5400"/>
            <a:ext cx="2609280" cy="779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Budżet 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742080" y="-5400"/>
            <a:ext cx="2408760" cy="1724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Udzia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korzyści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1219320" y="477720"/>
          <a:ext cx="6805440" cy="5923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219320" y="477720"/>
                    <a:ext cx="6805440" cy="592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1" name="Z-Euro" descr=""/>
          <p:cNvPicPr/>
          <p:nvPr/>
        </p:nvPicPr>
        <p:blipFill>
          <a:blip r:embed="rId18"/>
          <a:stretch/>
        </p:blipFill>
        <p:spPr>
          <a:xfrm>
            <a:off x="3962520" y="3124080"/>
            <a:ext cx="1315800" cy="12700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672" name="f_his" descr=""/>
          <p:cNvPicPr/>
          <p:nvPr/>
        </p:nvPicPr>
        <p:blipFill>
          <a:blip r:embed="rId19"/>
          <a:stretch/>
        </p:blipFill>
        <p:spPr>
          <a:xfrm>
            <a:off x="7848720" y="4572000"/>
            <a:ext cx="826920" cy="53964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rot="18246600">
            <a:off x="4347720" y="1780560"/>
            <a:ext cx="4266000" cy="131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03040">
            <a:solidFill>
              <a:srgbClr val="cc0066"/>
            </a:solidFill>
            <a:prstDash val="sysDot"/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 rot="1725600">
            <a:off x="4183200" y="3869640"/>
            <a:ext cx="4876560" cy="121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52280">
            <a:solidFill>
              <a:srgbClr val="cc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 rot="20821200">
            <a:off x="381960" y="5419800"/>
            <a:ext cx="518112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52280">
            <a:solidFill>
              <a:srgbClr val="cc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04560" y="3505320"/>
            <a:ext cx="2057400" cy="0"/>
          </a:xfrm>
          <a:prstGeom prst="line">
            <a:avLst/>
          </a:prstGeom>
          <a:ln w="152280">
            <a:solidFill>
              <a:srgbClr val="cc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3733920" y="-1677240"/>
            <a:ext cx="608400" cy="335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52280">
            <a:solidFill>
              <a:srgbClr val="cc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742080" y="-5400"/>
            <a:ext cx="2408760" cy="1724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Udzia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korzyści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376200" y="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Saldo wpłat i uzyskanych korzy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0" y="2362320"/>
          <a:ext cx="8994600" cy="406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362320"/>
                    <a:ext cx="899460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609480" y="838080"/>
          <a:ext cx="8294760" cy="1559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838080"/>
                    <a:ext cx="8294760" cy="15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"/>
          <p:cNvSpPr/>
          <p:nvPr/>
        </p:nvSpPr>
        <p:spPr>
          <a:xfrm>
            <a:off x="1904040" y="3276720"/>
            <a:ext cx="1569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jako % PK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95400" y="838080"/>
          <a:ext cx="901044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838080"/>
                    <a:ext cx="90104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1" name="Flaga_UE" descr=""/>
          <p:cNvPicPr/>
          <p:nvPr/>
        </p:nvPicPr>
        <p:blipFill>
          <a:blip r:embed="rId3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95480" y="147240"/>
            <a:ext cx="3643560" cy="779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Budżet 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82000" y="756720"/>
            <a:ext cx="3873600" cy="644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truktura wydatk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048120" y="60199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Budżet UE w 2002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500EURO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600200"/>
            <a:ext cx="7848720" cy="401940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Flaga_UE" descr=""/>
          <p:cNvPicPr/>
          <p:nvPr/>
        </p:nvPicPr>
        <p:blipFill>
          <a:blip r:embed="rId2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522360" y="309240"/>
            <a:ext cx="1845000" cy="1454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Budż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080" y="721800"/>
            <a:ext cx="2483640" cy="644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erspektyw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623880" y="2008080"/>
          <a:ext cx="7861320" cy="3256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3880" y="2008080"/>
                    <a:ext cx="7861320" cy="32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a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1929600" y="3921120"/>
            <a:ext cx="5280120" cy="24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ul.E.Plater 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Warszawskie Centrum Finans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00-113 Warsza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el. (22) 520 82 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www.europa.delpol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LOGO%20kolorowe%20%20Punktu%20Informacyjnego" descr=""/>
          <p:cNvPicPr/>
          <p:nvPr/>
        </p:nvPicPr>
        <p:blipFill>
          <a:blip r:embed="rId2"/>
          <a:stretch/>
        </p:blipFill>
        <p:spPr>
          <a:xfrm>
            <a:off x="1901880" y="1030320"/>
            <a:ext cx="5334120" cy="277956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973080" y="6431040"/>
            <a:ext cx="6500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© Przedstawicielstwo Komisji Europejskiej w Pols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450160" y="196920"/>
            <a:ext cx="424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Dziękujemy za uwag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6120" y="6029280"/>
            <a:ext cx="714852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Prezentację na podstawie materiałów z Przedstawicielstw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Komisji Europejskiej w Polsce opracował: Marek Chał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2133720" y="380880"/>
          <a:ext cx="7010280" cy="535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380880"/>
                    <a:ext cx="7010280" cy="535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"/>
          <p:cNvSpPr/>
          <p:nvPr/>
        </p:nvSpPr>
        <p:spPr>
          <a:xfrm>
            <a:off x="608040" y="1674720"/>
            <a:ext cx="80787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99"/>
                </a:solidFill>
                <a:latin typeface="Bookman Old Style"/>
              </a:rPr>
              <a:t>Do zobaczen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99"/>
                </a:solidFill>
                <a:latin typeface="Bookman Old Style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3399"/>
                </a:solidFill>
                <a:latin typeface="Bookman Old Style"/>
              </a:rPr>
              <a:t>Unii Europejskiej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3720" y="1876320"/>
            <a:ext cx="35337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I. Strefa wol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hand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II. Unia ce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III. Wspólny ry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IV. Un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Gospodarcza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32680" y="2514600"/>
            <a:ext cx="4714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. brak ceł wewnętrz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2. wspólna taryfa cel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3. swobodny przepły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kapitału, usług, ludnoś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4. harmonizacja polity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gospodarcz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2438280"/>
            <a:ext cx="609840" cy="3353040"/>
          </a:xfrm>
          <a:custGeom>
            <a:avLst/>
            <a:gdLst>
              <a:gd name="textAreaLeft" fmla="*/ 389520 w 609840"/>
              <a:gd name="textAreaRight" fmla="*/ 610200 w 60984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0"/>
            <a:ext cx="4800600" cy="103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Etapy integ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gospodarczej i walutowej 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5160" y="1219320"/>
            <a:ext cx="39250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I. Strefa wol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   </a:t>
            </a: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hand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II. Unia ce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III. Wspólny ry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66ccff"/>
                </a:solidFill>
                <a:latin typeface="Times New Roman"/>
              </a:rPr>
              <a:t>IV. Unia Gospodarcza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V. Pełna integrac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- U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Gospodarc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lang="pl-PL" sz="3600" spc="-1" strike="noStrike">
                <a:solidFill>
                  <a:srgbClr val="000066"/>
                </a:solidFill>
                <a:latin typeface="Times New Roman"/>
              </a:rPr>
              <a:t>i Walutowa</a:t>
            </a:r>
            <a:r>
              <a:rPr b="1" lang="pl-PL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32680" y="1828800"/>
            <a:ext cx="4714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. brak ceł wewnętrz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2. wspólna taryfa cel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3. swobodny przepły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kapitału, usług, ludnoś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4. harmonizacja polity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gospodarczej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5. wspólna walut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jedna polityk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kursowa i pienięż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1905120"/>
            <a:ext cx="533160" cy="4343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0"/>
            <a:ext cx="4800600" cy="103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Etapy integr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gospodarczej i walutowej 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334120" y="842760"/>
            <a:ext cx="3581280" cy="2866320"/>
            <a:chOff x="5334120" y="842760"/>
            <a:chExt cx="3581280" cy="2866320"/>
          </a:xfrm>
        </p:grpSpPr>
        <p:sp>
          <p:nvSpPr>
            <p:cNvPr id="94" name=""/>
            <p:cNvSpPr/>
            <p:nvPr/>
          </p:nvSpPr>
          <p:spPr>
            <a:xfrm>
              <a:off x="6248520" y="2579040"/>
              <a:ext cx="2666880" cy="1130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99"/>
                  </a:solidFill>
                  <a:latin typeface="Arial"/>
                </a:rPr>
                <a:t>Wspólna waluta; jednolita polityka pieniężna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5334120" y="842040"/>
              <a:ext cx="2438280" cy="1373400"/>
            </a:xfrm>
            <a:prstGeom prst="wedgeRectCallout">
              <a:avLst>
                <a:gd name="adj1" fmla="val -14796"/>
                <a:gd name="adj2" fmla="val -73763"/>
              </a:avLst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V  Unia Gospodarcza i Walutow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0"/>
            <a:ext cx="8686800" cy="685800"/>
          </a:xfrm>
          <a:prstGeom prst="flowChartAlternateProcess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Etapy integracji gospodarczej i walutowej 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Flaga_UE" descr=""/>
          <p:cNvPicPr/>
          <p:nvPr/>
        </p:nvPicPr>
        <p:blipFill>
          <a:blip r:embed="rId2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28600" y="1147680"/>
            <a:ext cx="8686800" cy="5244120"/>
            <a:chOff x="228600" y="1147680"/>
            <a:chExt cx="8686800" cy="5244120"/>
          </a:xfrm>
        </p:grpSpPr>
        <p:sp>
          <p:nvSpPr>
            <p:cNvPr id="101" name=""/>
            <p:cNvSpPr/>
            <p:nvPr/>
          </p:nvSpPr>
          <p:spPr>
            <a:xfrm>
              <a:off x="228600" y="5871240"/>
              <a:ext cx="8686800" cy="520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Brak ceł wewnętrznyc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28600" y="1146960"/>
              <a:ext cx="1523880" cy="1373400"/>
            </a:xfrm>
            <a:prstGeom prst="wedgeRectCallout">
              <a:avLst>
                <a:gd name="adj1" fmla="val -37412"/>
                <a:gd name="adj2" fmla="val -270620"/>
              </a:avLst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I Stref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wolneg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</a:rPr>
                <a:t>handl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04920" y="1294920"/>
              <a:ext cx="8534160" cy="434340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990720" y="2824200"/>
            <a:ext cx="7924680" cy="2958120"/>
            <a:chOff x="990720" y="2824200"/>
            <a:chExt cx="7924680" cy="2958120"/>
          </a:xfrm>
        </p:grpSpPr>
        <p:sp>
          <p:nvSpPr>
            <p:cNvPr id="105" name=""/>
            <p:cNvSpPr/>
            <p:nvPr/>
          </p:nvSpPr>
          <p:spPr>
            <a:xfrm>
              <a:off x="1600200" y="5261760"/>
              <a:ext cx="7315200" cy="520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Wspólna taryfa cel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990720" y="2824200"/>
              <a:ext cx="1295280" cy="946800"/>
            </a:xfrm>
            <a:prstGeom prst="wedgeRectCallout">
              <a:avLst>
                <a:gd name="adj1" fmla="val -2101"/>
                <a:gd name="adj2" fmla="val -175615"/>
              </a:avLst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II Unia cel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905120" y="1147680"/>
            <a:ext cx="7010280" cy="4024440"/>
            <a:chOff x="1905120" y="1147680"/>
            <a:chExt cx="7010280" cy="4024440"/>
          </a:xfrm>
        </p:grpSpPr>
        <p:sp>
          <p:nvSpPr>
            <p:cNvPr id="108" name=""/>
            <p:cNvSpPr/>
            <p:nvPr/>
          </p:nvSpPr>
          <p:spPr>
            <a:xfrm>
              <a:off x="2971800" y="4346640"/>
              <a:ext cx="5943600" cy="825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Swobodny przepływ ludzi, towarów, usług i kapitał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905120" y="1146960"/>
              <a:ext cx="1600200" cy="1373400"/>
            </a:xfrm>
            <a:prstGeom prst="wedgeRectCallout">
              <a:avLst>
                <a:gd name="adj1" fmla="val 15856"/>
                <a:gd name="adj2" fmla="val -180106"/>
              </a:avLst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III Wspólny ryne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657600" y="1071360"/>
            <a:ext cx="5257800" cy="3171240"/>
            <a:chOff x="3657600" y="1071360"/>
            <a:chExt cx="5257800" cy="3171240"/>
          </a:xfrm>
        </p:grpSpPr>
        <p:sp>
          <p:nvSpPr>
            <p:cNvPr id="111" name=""/>
            <p:cNvSpPr/>
            <p:nvPr/>
          </p:nvSpPr>
          <p:spPr>
            <a:xfrm>
              <a:off x="3962520" y="3813480"/>
              <a:ext cx="4952880" cy="4291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99"/>
                  </a:solidFill>
                  <a:latin typeface="Arial"/>
                </a:rPr>
                <a:t>Harmonizacja polityki gospodarczej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657600" y="1070640"/>
              <a:ext cx="1523880" cy="1373400"/>
            </a:xfrm>
            <a:prstGeom prst="wedgeRectCallout">
              <a:avLst>
                <a:gd name="adj1" fmla="val -26171"/>
                <a:gd name="adj2" fmla="val -144287"/>
              </a:avLst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3399"/>
                  </a:solidFill>
                  <a:latin typeface="Times New Roman"/>
                </a:rPr>
                <a:t>IV Unia Gospo-darcz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99800" y="1054080"/>
            <a:ext cx="51444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99"/>
                </a:solidFill>
                <a:latin typeface="Times New Roman"/>
              </a:rPr>
              <a:t>Integracj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3581280"/>
            <a:ext cx="8993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8080"/>
                </a:solidFill>
                <a:latin typeface="Times New Roman"/>
              </a:rPr>
              <a:t>Przedstawienie historii UE dotyczy najczęściej faktów polityczny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8080"/>
                </a:solidFill>
                <a:latin typeface="Times New Roman"/>
              </a:rPr>
              <a:t>Teraz też o historii, ale dotyczącej kolejn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8080"/>
                </a:solidFill>
                <a:latin typeface="Times New Roman"/>
              </a:rPr>
              <a:t>pogłębiania współpracy i więzi gospodarczy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477120"/>
            <a:ext cx="830592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52200" y="3808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Integracja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4d4d4d"/>
                </a:solidFill>
                <a:latin typeface="Bookman Old Style"/>
              </a:rPr>
              <a:t>  19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7160" y="2286000"/>
            <a:ext cx="21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Utworzeni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8160" y="6019920"/>
            <a:ext cx="70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Postanowienia Traktatu weszły w życie 1 stycznia 19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0" y="0"/>
            <a:ext cx="2133720" cy="3124080"/>
            <a:chOff x="0" y="0"/>
            <a:chExt cx="2133720" cy="3124080"/>
          </a:xfrm>
        </p:grpSpPr>
        <p:pic>
          <p:nvPicPr>
            <p:cNvPr id="126" name="Traktat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37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9280" y="730800"/>
              <a:ext cx="1821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Trakta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zymski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809880" y="0"/>
            <a:ext cx="1447920" cy="155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5e1"/>
              </a:gs>
            </a:gsLst>
            <a:path path="rect">
              <a:fillToRect l="50000" t="50000" r="50000" b="50000"/>
            </a:path>
          </a:gradFill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Bookman Old Style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Bookman Old Style"/>
              </a:rPr>
              <a:t>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Bookman Old Style"/>
              </a:rPr>
              <a:t>195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6120" y="5562720"/>
            <a:ext cx="804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Rozpoczął się proces tworzen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Wspólnego ryn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04920" y="3257640"/>
            <a:ext cx="8839080" cy="2220480"/>
            <a:chOff x="304920" y="3257640"/>
            <a:chExt cx="8839080" cy="2220480"/>
          </a:xfrm>
        </p:grpSpPr>
        <p:sp>
          <p:nvSpPr>
            <p:cNvPr id="131" name=""/>
            <p:cNvSpPr/>
            <p:nvPr/>
          </p:nvSpPr>
          <p:spPr>
            <a:xfrm>
              <a:off x="2590920" y="3257640"/>
              <a:ext cx="4419360" cy="22204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333399"/>
                  </a:solidFill>
                  <a:latin typeface="Times New Roman"/>
                </a:rPr>
                <a:t>Europejska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333399"/>
                  </a:solidFill>
                  <a:latin typeface="Times New Roman"/>
                </a:rPr>
                <a:t>Wspólnota Gospodarcza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4"/>
            <a:stretch/>
          </p:blipFill>
          <p:spPr>
            <a:xfrm>
              <a:off x="6324480" y="3962520"/>
              <a:ext cx="86364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5"/>
            <a:stretch/>
          </p:blipFill>
          <p:spPr>
            <a:xfrm>
              <a:off x="6248520" y="3309840"/>
              <a:ext cx="86364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467480" y="3429000"/>
              <a:ext cx="1676520" cy="15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Francja Niemc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Włoch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6"/>
            <a:stretch/>
          </p:blipFill>
          <p:spPr>
            <a:xfrm>
              <a:off x="2590920" y="3309840"/>
              <a:ext cx="826920" cy="5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04920" y="3429000"/>
              <a:ext cx="2209680" cy="15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</a:rPr>
                <a:t>Belgia Holandia Luksembur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7"/>
            <a:stretch/>
          </p:blipFill>
          <p:spPr>
            <a:xfrm>
              <a:off x="6248520" y="4648320"/>
              <a:ext cx="8269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8"/>
            <a:stretch/>
          </p:blipFill>
          <p:spPr>
            <a:xfrm>
              <a:off x="2590920" y="4648320"/>
              <a:ext cx="826920" cy="5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9"/>
            <a:stretch/>
          </p:blipFill>
          <p:spPr>
            <a:xfrm>
              <a:off x="2438280" y="3962520"/>
              <a:ext cx="827280" cy="53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07:18:49Z</dcterms:created>
  <dc:creator>Marek Chałas</dc:creator>
  <dc:description/>
  <dc:language>en-US</dc:language>
  <cp:lastModifiedBy>Rafał</cp:lastModifiedBy>
  <dcterms:modified xsi:type="dcterms:W3CDTF">2002-12-04T11:54:59Z</dcterms:modified>
  <cp:revision>11</cp:revision>
  <dc:subject/>
  <dc:title>Bez tytułu slajdu</dc:title>
</cp:coreProperties>
</file>