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5930-CDEE-43DE-BFDC-4E889CD4A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4D68-FAAF-4427-936C-F1D5623F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65CC-AC06-4969-9AB1-B89B11ACC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832C-C2A9-4C21-AFEB-E6BC3C6A8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188B-EA32-4C35-A07A-B3679F1F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6CCF-131C-4F87-A581-D3B5965C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0CED-8157-4D57-8934-07F3007B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B91B-DBC9-492A-AB7B-5DAB9A8C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6CF4-AA48-4178-9E59-8A9B5CC9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92B1-B4F7-49BA-B76E-5823D9E8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A0FA-9EFC-40D5-9AD2-997A4033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D53B-805E-41BE-B576-7A3312DC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A240-8F30-4655-8386-7599B30C2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200" y="762120"/>
            <a:ext cx="39571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4c2600"/>
                </a:solidFill>
                <a:latin typeface="Times New Roman"/>
              </a:rPr>
              <a:t>Q u i z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87680" y="4419720"/>
            <a:ext cx="3962520" cy="99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c2600"/>
                </a:solidFill>
                <a:latin typeface="Times New Roman"/>
              </a:rPr>
              <a:t>Funkcjonowan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3520" y="228600"/>
            <a:ext cx="861048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9. Czy rybołówstwo jest elementem polityki rolnej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9920" y="2438280"/>
            <a:ext cx="216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n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ta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83240" y="2666880"/>
            <a:ext cx="278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n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3520" y="228600"/>
            <a:ext cx="861048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0. Wspólna polityka 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konkurencji oznacza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4280" y="2362320"/>
            <a:ext cx="775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wspieranie upadającyc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fir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zakazy zawierani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porozumie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2680" y="2971800"/>
            <a:ext cx="8850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zakaz zawierania porozumie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228600"/>
            <a:ext cx="8763120" cy="21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1. Wspólną walutę wprowadzono 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począwszy od: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58120" y="2438280"/>
            <a:ext cx="5252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 stycznia 200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 stycznia 200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 lipca 200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00920" y="3124080"/>
            <a:ext cx="5938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1 stycznia 200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304920"/>
            <a:ext cx="861048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12. Ochrona środowiska 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oznacza m.in.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2209680"/>
            <a:ext cx="8318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ochronę wó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likwidację  zanieczyszczeń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tmosfe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obniżenie poziomu hałas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6280" y="2209680"/>
            <a:ext cx="793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ochronę wó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likwidację zanieczyszczeń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atmosfe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obniżenie poziomu hałas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3520" y="0"/>
            <a:ext cx="8610480" cy="42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3. Czy uczniowie, którzy 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zdadzą maturę europejską 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mają możliwość podjęcia 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studiów na każdym 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uniwersytecie U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17120" y="4343400"/>
            <a:ext cx="216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ta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n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40080" y="4724280"/>
            <a:ext cx="292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tak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27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7160" indent="-85716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4c2600"/>
                </a:solidFill>
                <a:latin typeface="Times New Roman"/>
              </a:rPr>
              <a:t>14. Które spośród poniższych </a:t>
            </a:r>
            <a:r>
              <a:rPr b="1" lang="en-US" sz="46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6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600" spc="-1" strike="noStrike">
                <a:solidFill>
                  <a:srgbClr val="4c2600"/>
                </a:solidFill>
                <a:latin typeface="Times New Roman"/>
              </a:rPr>
              <a:t>oznaczają programy pomocowe dla szkolnictwa i młodzieży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6040" y="2590920"/>
            <a:ext cx="79102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Socra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Młodzież dla Europ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Tempu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d.)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Leonardo da Vinc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e.)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Maria Skłodowska-Cur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2819520"/>
            <a:ext cx="8077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a.)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Socra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b.)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Młodzież dla Europ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c.)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Tempu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d.)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Leonardo da Vinc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04920" y="228600"/>
            <a:ext cx="8839080" cy="27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2560" indent="-95256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4c2600"/>
                </a:solidFill>
                <a:latin typeface="Times New Roman"/>
              </a:rPr>
              <a:t>15. Jakie polskie miasto było jednym z miast, które otrzymały tytuł Europejskiego Miasta Kultury w 2000 roku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66520" y="3352680"/>
            <a:ext cx="4068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Pozna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Krakó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Warszaw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35160" y="3657600"/>
            <a:ext cx="414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Krakó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3520" y="431640"/>
            <a:ext cx="8610480" cy="7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16. Co to jest Europo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213372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Fundusz dla Polsk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Policja Europejsk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Europejsko-Polskie 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Stowarzyszen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3560" y="2895480"/>
            <a:ext cx="749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Policja Europejska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929600" y="3645000"/>
            <a:ext cx="528012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2600"/>
                </a:solidFill>
                <a:latin typeface="Arial"/>
              </a:rPr>
              <a:t>ul.E.Plater 5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c2600"/>
                </a:solidFill>
                <a:latin typeface="Arial"/>
              </a:rPr>
              <a:t>(Warszawskie Centrum Finanso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2600"/>
                </a:solidFill>
                <a:latin typeface="Arial"/>
              </a:rPr>
              <a:t>00-113 Warszaw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2600"/>
                </a:solidFill>
                <a:latin typeface="Arial"/>
              </a:rPr>
              <a:t>tel. (22) 520 82 6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2600"/>
                </a:solidFill>
                <a:latin typeface="Arial"/>
              </a:rPr>
              <a:t>www.europa.delpol.p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LOGO%20kolorowe%20%20Punktu%20Informacyjnego" descr=""/>
          <p:cNvPicPr/>
          <p:nvPr/>
        </p:nvPicPr>
        <p:blipFill>
          <a:blip r:embed="rId2"/>
          <a:stretch/>
        </p:blipFill>
        <p:spPr>
          <a:xfrm>
            <a:off x="1901880" y="878040"/>
            <a:ext cx="5334120" cy="2779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-6120" y="6188040"/>
            <a:ext cx="65008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c2600"/>
                </a:solidFill>
                <a:latin typeface="Arial"/>
              </a:rPr>
              <a:t>© Przedstawicielstwo Komisji Europejskiej w Pols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c2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4c2600"/>
                </a:solidFill>
                <a:latin typeface="Arial"/>
              </a:rPr>
              <a:t>Prezentację przygotował:  Marek Chał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46920" y="87480"/>
            <a:ext cx="4243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c2600"/>
                </a:solidFill>
                <a:latin typeface="Times New Roman"/>
              </a:rPr>
              <a:t>Dziękujemy za uwag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228600"/>
            <a:ext cx="883908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4c2600"/>
                </a:solidFill>
                <a:latin typeface="Times New Roman"/>
              </a:rPr>
              <a:t>1. Które z poniższych, są aktami prawnymi stanowionymi przez UE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2666880"/>
            <a:ext cx="59925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rozporządzen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dyrektyw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decyzj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d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zalecenia i opin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e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ustaw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8840" y="3048120"/>
            <a:ext cx="6445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rozporządzen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dyrektyw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decyzj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d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zalecenia i opin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228600"/>
            <a:ext cx="861048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2. Akt prawny o najwyższej randze to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5280" y="2514600"/>
            <a:ext cx="5321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dekr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rozporządzen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zalecen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0880" y="3200400"/>
            <a:ext cx="6006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rozporządzen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228600"/>
            <a:ext cx="8610480" cy="21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3. Najważniejsze spośród wspólnych polityk Unii Europejskiej to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8720" y="2743200"/>
            <a:ext cx="7892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rol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regionalna i struktural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zagranicz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d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telekomunikacyj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1880" y="2971800"/>
            <a:ext cx="8410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rol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regionalna i strukturalna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228600"/>
            <a:ext cx="8610480" cy="7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4. Skrót FEOGA oznacza: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1676520"/>
            <a:ext cx="8839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4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4c2600"/>
                </a:solidFill>
                <a:latin typeface="Times New Roman"/>
              </a:rPr>
              <a:t>Europejski Fundusz Orientacj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4c2600"/>
                </a:solidFill>
                <a:latin typeface="Times New Roman"/>
              </a:rPr>
              <a:t>i Gwarancji dla Rolnictw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4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4c2600"/>
                </a:solidFill>
                <a:latin typeface="Times New Roman"/>
              </a:rPr>
              <a:t>Europejska Agencja Rozwoju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4c2600"/>
                </a:solidFill>
                <a:latin typeface="Times New Roman"/>
              </a:rPr>
              <a:t>Rolnictw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4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4c2600"/>
                </a:solidFill>
                <a:latin typeface="Times New Roman"/>
              </a:rPr>
              <a:t>Europejski Związek Gmi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4c2600"/>
                </a:solidFill>
                <a:latin typeface="Times New Roman"/>
              </a:rPr>
              <a:t>Rolniczy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20" y="2286000"/>
            <a:ext cx="9339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Europejski Fundusz Orientacji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i Gwarancji dla Rolnictw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228600"/>
            <a:ext cx="86104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5. Dla wyrównania poziomów między różnymi regionami w różnych krajach UE stworzono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22920" y="3505320"/>
            <a:ext cx="7096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pomoc kredytow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fundusze struktural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ank pomoc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5720" y="3505320"/>
            <a:ext cx="7782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fundusze struktural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228600"/>
            <a:ext cx="86104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6. Czy z pomocy z funduszy strukturalnych korzystają tylko regiony z najbiedniejszych krajów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8520" y="3429000"/>
            <a:ext cx="216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ta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n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35160" y="3581280"/>
            <a:ext cx="292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nie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3520" y="228600"/>
            <a:ext cx="8610480" cy="21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7. Europejski Fundusz Rozwoju Regionalnego dysponuje rocznie funduszem rzędu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3400" y="3200400"/>
            <a:ext cx="6403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1 miliarda eur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10 miliardów eur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100 miliardów eur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21120" y="3429000"/>
            <a:ext cx="6784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b.)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10 miliardów eur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3520" y="228600"/>
            <a:ext cx="8610480" cy="21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8. Największy udział w produkcji przemysłowej UE ma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7760" y="2438280"/>
            <a:ext cx="4202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Grecj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Szwajcar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Niemc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48280" y="3429000"/>
            <a:ext cx="5650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Niemcy   30%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7T05:50:11Z</dcterms:created>
  <dc:creator>Marek Chałas</dc:creator>
  <dc:description>Quiz
Funkcjonowanie UE</dc:description>
  <dc:language>en-US</dc:language>
  <cp:lastModifiedBy>Marek Chałas</cp:lastModifiedBy>
  <dcterms:modified xsi:type="dcterms:W3CDTF">2002-09-01T11:02:17Z</dcterms:modified>
  <cp:revision>23</cp:revision>
  <dc:subject/>
  <dc:title>Quiz</dc:title>
</cp:coreProperties>
</file>