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DDE-B2B4-4C85-81B1-736AD545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281A-25B9-44AA-BD0C-9D2D29AE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7EAB-DF55-467F-9F71-6F373B0A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1CAE-3FFC-440F-8C38-90C3E097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434-20D5-4FB2-88C8-2C63744D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F73-A2A6-4C16-92E2-DCA21930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B19-0971-4B64-BC9E-AA3EB126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84F-4281-4A52-9AAA-30497492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C7C-D8FC-4FDE-84E3-2391C394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2F9-8CCD-405A-8A2B-1013089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9CE-B589-45EC-8A5F-E67750A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1BE-ADBF-46EF-BB66-BE28B18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35CE-9400-4D1D-8AC9-DFEC845C3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200" y="762120"/>
            <a:ext cx="3957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4c2600"/>
                </a:solidFill>
                <a:latin typeface="Times New Roman"/>
              </a:rPr>
              <a:t>Q u i z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Flaga_UE" descr=""/>
          <p:cNvPicPr/>
          <p:nvPr/>
        </p:nvPicPr>
        <p:blipFill>
          <a:blip r:embed="rId1"/>
          <a:stretch/>
        </p:blipFill>
        <p:spPr>
          <a:xfrm>
            <a:off x="822312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124080" y="64911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Przedstawicielstwo Komisji Europejskiej w Pols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71800" y="4419720"/>
            <a:ext cx="3200400" cy="990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c2600"/>
                </a:solidFill>
                <a:latin typeface="Times New Roman"/>
              </a:rPr>
              <a:t>Instytuc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9. Parlament Europejski ma swoją siedzibę w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5360" y="2590920"/>
            <a:ext cx="426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erli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Strasbur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Mona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2720" y="3124080"/>
            <a:ext cx="495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Strasburg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0. Ile mandatów ma aktualn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olska w Parlamencie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i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79640" y="2895480"/>
            <a:ext cx="501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jeszcze nie 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2000" y="2666880"/>
            <a:ext cx="6919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jeszcze nie ma, p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rzystąpieniu do Unii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Europejskiej dostani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50 mandató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. Ilu sędziów liczy Europejski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rybunał Sprawiedliwośc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9200" y="243828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9200" y="320040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2. Siedzibą Europejskiego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rybunału Sprawiedliwości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59920" y="2438280"/>
            <a:ext cx="4676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uksembu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ichtenste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Lozan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5000" y="3276720"/>
            <a:ext cx="536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Luksembur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228600"/>
            <a:ext cx="86104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4c2600"/>
                </a:solidFill>
                <a:latin typeface="Times New Roman"/>
              </a:rPr>
              <a:t>13. Czy Trybunał Obrachunkowy można porównać do instytucji NIK w Polsce?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9400" y="33526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8520" y="3352680"/>
            <a:ext cx="285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4. Które spośród poniższych również są instytucjami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9560" y="2438280"/>
            <a:ext cx="6418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Społeczno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-Ekonomicz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Regionó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Central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 Nadzor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2819520"/>
            <a:ext cx="7391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tet Społeczno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-Ekonomicz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tet Regionów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5. Gdzie mieści się siedziba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Europejskiego Banku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entralneg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7600" y="3048120"/>
            <a:ext cx="5336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Hadz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e Frankfurc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w Zurych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9000" y="3429000"/>
            <a:ext cx="6022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we Frankfurc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6. Jak nazywa się ostatnia inicjatywa europejska, w której Polska ma trzech swoich przedstawiciel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0" y="3505320"/>
            <a:ext cx="7774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mitet Przyłączeni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n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Komisja Przedakcesy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2971800"/>
            <a:ext cx="83055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Konw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- przedstawiciele Polski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Danuta Hübn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Józef Olek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pl-PL" sz="4400" spc="-1" strike="noStrike">
                <a:solidFill>
                  <a:srgbClr val="990000"/>
                </a:solidFill>
                <a:latin typeface="Times New Roman"/>
              </a:rPr>
              <a:t>Edmunt Wittbro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Flaga_UE" descr=""/>
          <p:cNvPicPr/>
          <p:nvPr/>
        </p:nvPicPr>
        <p:blipFill>
          <a:blip r:embed="rId1"/>
          <a:stretch/>
        </p:blipFill>
        <p:spPr>
          <a:xfrm>
            <a:off x="8229600" y="6243480"/>
            <a:ext cx="914400" cy="614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29600" y="3645000"/>
            <a:ext cx="52801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ul.E.Plater 5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2600"/>
                </a:solidFill>
                <a:latin typeface="Arial"/>
              </a:rPr>
              <a:t>(Warszawskie Centrum Finansow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00-113 Warsz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tel. (22) 520 82 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2600"/>
                </a:solidFill>
                <a:latin typeface="Arial"/>
              </a:rPr>
              <a:t>www.europa.delpol.p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O%20kolorowe%20%20Punktu%20Informacyjnego" descr=""/>
          <p:cNvPicPr/>
          <p:nvPr/>
        </p:nvPicPr>
        <p:blipFill>
          <a:blip r:embed="rId2"/>
          <a:stretch/>
        </p:blipFill>
        <p:spPr>
          <a:xfrm>
            <a:off x="1901880" y="878040"/>
            <a:ext cx="5334120" cy="2779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6120" y="6188040"/>
            <a:ext cx="65008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© Przedstawicielstwo Komisji Europejskiej w Pols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c2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c2600"/>
                </a:solidFill>
                <a:latin typeface="Arial"/>
              </a:rPr>
              <a:t>Prezentację przygotował:  Marek Chał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46920" y="87480"/>
            <a:ext cx="4243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4c2600"/>
                </a:solidFill>
                <a:latin typeface="Times New Roman"/>
              </a:rPr>
              <a:t>Dziękujemy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. Najwyższą instytucją Uni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320" y="2438280"/>
            <a:ext cx="763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Ogólno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Unij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2880" y="3048120"/>
            <a:ext cx="65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Rad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2. Określenia Rady Ministrów UE używa się czasami dla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3600" y="2438280"/>
            <a:ext cx="7486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y Związkow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y Uni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tetu 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2971800"/>
            <a:ext cx="841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   Rady Uni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3. Instytucją wykonawczą i prawodawczą Uni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21480" y="2971800"/>
            <a:ext cx="669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a Un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Rada Ministrów 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4280" y="3200400"/>
            <a:ext cx="7377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sja Europejsk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. Siedzibą Komisji Europejskiej je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8480" y="2438280"/>
            <a:ext cx="3661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y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enew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rukse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7600" y="2971800"/>
            <a:ext cx="434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rukse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28600"/>
            <a:ext cx="8610480" cy="21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5. Ile jest oficjalnych języków, w których sporządzane są dokumenty U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11480" y="2819520"/>
            <a:ext cx="19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6920" y="312408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228600"/>
            <a:ext cx="8610480" cy="7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6. Dyrekcje generalne to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610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parat administracyj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Komisj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azwy komórek 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Parlamentu Europejskie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rzędy w stolicach państw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Unii Europejskiej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680" y="213372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aparat administracyj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Komisji Europejskiej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228600"/>
            <a:ext cx="8610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7. Które państw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aktualnie </a:t>
            </a:r>
            <a:r>
              <a:rPr b="1" lang="pl-PL" sz="4000" spc="-1" strike="noStrike">
                <a:solidFill>
                  <a:srgbClr val="4c2600"/>
                </a:solidFill>
                <a:latin typeface="Times New Roman"/>
              </a:rPr>
              <a:t>(II połowa 2002)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pl-PL" sz="4800" spc="-1" strike="noStrike">
                <a:solidFill>
                  <a:srgbClr val="4c2600"/>
                </a:solidFill>
                <a:latin typeface="Times New Roman"/>
              </a:rPr>
              <a:t>przewodniczy (prezydencja) Unii Europejskiej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40800" y="3429000"/>
            <a:ext cx="342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Island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D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c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Grecj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3600" y="3657600"/>
            <a:ext cx="35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an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28600"/>
            <a:ext cx="8610480" cy="14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8. Czy Rada Europejska i Rada Europy to to samo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9920" y="2438280"/>
            <a:ext cx="216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a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t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4c26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960" y="2514600"/>
            <a:ext cx="278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b.)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n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7T05:50:11Z</dcterms:created>
  <dc:creator>Marek Chałas</dc:creator>
  <dc:description>Quiz
Instytucje UE</dc:description>
  <dc:language>en-US</dc:language>
  <cp:lastModifiedBy>Marek Chałas</cp:lastModifiedBy>
  <dcterms:modified xsi:type="dcterms:W3CDTF">2002-09-01T10:48:20Z</dcterms:modified>
  <cp:revision>25</cp:revision>
  <dc:subject/>
  <dc:title>Quiz</dc:title>
</cp:coreProperties>
</file>