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252-0597-4A65-843F-CCED818F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354-EF02-4A00-9DD9-39C897F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D85-6745-42D2-B0EA-B8B6CDD9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3AF-EACA-4C62-9E45-3E1B04FD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014-884D-4E50-8715-89861386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19E-D058-4E4B-A636-778F30B7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396-7615-4135-AB46-C168857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A9E-09AB-4615-A3E7-CC7D2225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B2E-ED57-4562-A8D4-D099ED23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B2F-FBEA-4D2E-B88E-259D70A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279-843A-445D-82EC-97FD396C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2BF-A906-4CD8-8F0C-591ED4B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3AA-EDD4-4331-ACB5-FED87E95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4880" y="4419720"/>
            <a:ext cx="304812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Integrac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4680" y="380880"/>
            <a:ext cx="8869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9. Gdzie jest siedziba Europejskiego Banku Centralnego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3600" y="3048120"/>
            <a:ext cx="379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e Frankfur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 Brukse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 Paryż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05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a.) we Frankfurcie nad Men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38088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Dochody Unii Europejskiej pochodzą w największej części z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5053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płat państw członkowskic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różnych podatków pobieranych przez Uni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łasnej działalności gospodarcz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52560" y="390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.) wpłat państw członkowsk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. Które z państw daje największy wkład do budżetu Uni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3600" y="3048120"/>
            <a:ext cx="284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Portug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Hiszp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Niem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73392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.) Niem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2. Na jaki cel zostaje przeznaczona największa część wydatków z budżet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595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polityka struktura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spólna polityka ro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działania zewnętrz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733920"/>
            <a:ext cx="62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wspólna polityka ro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3. Nowa europejska walu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ałkowicie zastąpiła waluty narodowe z dni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2160" y="3048120"/>
            <a:ext cx="373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1 sierpnia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1 grudnia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1 sierpnia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505320"/>
            <a:ext cx="519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.) 1 sierpnia 200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4. W której ze stol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 możemy zapłacić eu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00640" y="2589120"/>
            <a:ext cx="244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Madry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Helsin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Ber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d.) Rzy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e.) Londy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92200" y="4387680"/>
            <a:ext cx="378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e.) Londy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228600"/>
            <a:ext cx="83818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Wymień etapy integracji gospodarczej i walutow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9000" y="213372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1. Strefa wolnego hand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8000" y="289548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2. Unia ce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5360" y="449568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4. Unia gospodarc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9000" y="5334120"/>
            <a:ext cx="63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Unia gospodarcza i walut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4080" y="3581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3. Wspólny ryn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Kiedy rozpoczął się proces tworzenia wspólnego rynk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2160" y="3048120"/>
            <a:ext cx="21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 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 19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 19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59092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a.) 25 marca 1957 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w Traktacie Rzymsk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808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Unia celna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cła w handlu wewnętrznym między krajami Wspólnoty przestają obowiązywa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znosi się wszelkie cła z wszystkimi kraj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pozostają wszystkie dotychczasowe cła, a jedynie w ramach unii uzgadnia się ich wysokoś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86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.) cła w handlu wewnętrznym między krajami Wspólnoty przestają obowiązywa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80880"/>
            <a:ext cx="88390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Jakie są zasadnicze cele jednolitego rynku wewnętrzne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1320" y="266688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Swobodny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rzepływ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0440" y="2944800"/>
            <a:ext cx="249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towarów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osób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usłu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kapitału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Kiedy został zapoczątkowany jednolity rynek europejsk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2520" y="3048120"/>
            <a:ext cx="249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 1990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 1993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 1997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50532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1 stycznia 1993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Jaki jest cel zewnętrzny jednolitego rynku wewnętrzne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3638520"/>
            <a:ext cx="72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.) wzmocnienie konkurencyjności państw UE na świec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63680" y="34876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zmocnienie konkurencyjności państw 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ochrona ce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Do Unii Gospodarczej i Walutowej </a:t>
            </a: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(od2001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) należy</a:t>
            </a:r>
            <a:r>
              <a:rPr b="1" lang="en-US" sz="6000" spc="-1" strike="noStrike">
                <a:solidFill>
                  <a:srgbClr val="4c26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2160" y="3048120"/>
            <a:ext cx="296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10 państ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12 państ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15 państ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505320"/>
            <a:ext cx="519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1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wszystkie państwa UE, z wyjątkiem Danii, Szwecji i Wielkiej Brytan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Współpracę Unii Europejskiej podzielono n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5040" y="3048120"/>
            <a:ext cx="35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„dwa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„trzy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„cztery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8280" y="3557520"/>
            <a:ext cx="57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„trzy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1:15:34Z</dcterms:created>
  <dc:creator>Marek Chałas</dc:creator>
  <dc:description>Quiz Integracja</dc:description>
  <dc:language>en-US</dc:language>
  <cp:lastModifiedBy>Marek Chałas</cp:lastModifiedBy>
  <dcterms:modified xsi:type="dcterms:W3CDTF">2002-09-01T11:08:58Z</dcterms:modified>
  <cp:revision>19</cp:revision>
  <dc:subject/>
  <dc:title>Quiz</dc:title>
</cp:coreProperties>
</file>