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6E0-519A-4E0C-9243-FCDEE3D5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EBC-EAC9-462E-8960-3E588E3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40D-2E99-4622-AB9B-DF1A6BE7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C62-D8B0-4506-9683-9BAC9381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0C3-E225-4657-B6B8-70046812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AB3-145B-467D-B6F5-AA5ECEF7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300-3618-4AFB-A0F0-B3AFD919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BEE-F0C3-45BC-86F3-30BCBB41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CB3-5545-437E-AF27-A786D548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2FF-8031-4730-9539-9751CB24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876-0923-46FD-B45C-A9B5D37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E59-2888-43B0-B407-CCF0C08D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80F4-B871-47D7-AB41-5F0DFB7AB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712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3581280" cy="99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Rozszerze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9. Kryteria przyjęcia nowego kraju do UE to kryter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60640" y="2438280"/>
            <a:ext cx="457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penhask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rask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arysk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9760" y="2971800"/>
            <a:ext cx="480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kopenhask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. Z Europy Środkowej i Wschodniej do Unii Europejskiej kandyduj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3600" y="3124080"/>
            <a:ext cx="39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5000" y="3429000"/>
            <a:ext cx="46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0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1. Programy pomocy przedakcesyjnej noszą nazwę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8840" y="2438280"/>
            <a:ext cx="379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P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IS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SAP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HEL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7960" y="243828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P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IS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SAP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2. Twinning oznacz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560" y="2286000"/>
            <a:ext cx="80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rogram współprac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liźniacz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rogram dla rybołóws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800" y="2666880"/>
            <a:ext cx="653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rogram współpra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liźniaczej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28600"/>
            <a:ext cx="89154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3. Do którego, spośród krajów kandydujących, Unia Europejska najwięcej eksportu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5040" y="2666880"/>
            <a:ext cx="3760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łow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umu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28954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lsk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22,4%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0040" y="228600"/>
            <a:ext cx="89139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4. Z którego, spośród krajów kandydujących, Unia Europejska najwięcej importu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9200" y="3276720"/>
            <a:ext cx="366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ułga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łowa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2900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lsk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9,8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5. Program SAPARD wspier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7120" y="2286000"/>
            <a:ext cx="858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modernizację 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ofinansowanie szk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440" y="2666880"/>
            <a:ext cx="724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modernizację 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. Początki Unii Europejskiej tworzył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9920" y="2438280"/>
            <a:ext cx="36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7960" y="297180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6 państw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Aktualnie Unię Europejską tworz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9560" y="2438280"/>
            <a:ext cx="39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2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5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1 państ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9718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5 państw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. W krajach Unii Europejskiej mieszk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61720" y="2438280"/>
            <a:ext cx="484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275 mln ludz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75 mln ludz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475 mln ludz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97180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375 mln ludzi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Które z poniższych państw są członkami Unii Europejskie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2057400"/>
            <a:ext cx="406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rtug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ran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m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Irland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unez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Gre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9760" y="1981080"/>
            <a:ext cx="383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rtug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Fran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m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Irland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e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f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Grecj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. Czy Unia Europejska jest gotowa przyjąć każde państw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8520" y="28954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080" y="2743200"/>
            <a:ext cx="744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ak, każde państwo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tóre respektuje zasa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Unii Europejskiej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610480" cy="34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6. Okres przygotowania kraju kandydującego jest opisany w umowie o stowarzyszeniu danego kraju z UE. Jak się nazywa taka umowa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0" y="3962520"/>
            <a:ext cx="7843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Układ Europejsk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Układ Stowarzyszeni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Układ Przystąpieni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343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Układ Europejsk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. Polska złożyła wniosek o przyjęcie do UE w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9560" y="2438280"/>
            <a:ext cx="39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994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997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000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8480" y="2971800"/>
            <a:ext cx="74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8 kwietnia 1994 roku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Polska rozpoczęła negocjacje z Unią Europejską w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560" y="2438280"/>
            <a:ext cx="39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995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998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000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8680" y="2971800"/>
            <a:ext cx="46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998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5:50:11Z</dcterms:created>
  <dc:creator>Marek Chałas</dc:creator>
  <dc:description>Quiz
Rozszerzenie</dc:description>
  <dc:language>en-US</dc:language>
  <cp:lastModifiedBy>Marek Chałas</cp:lastModifiedBy>
  <dcterms:modified xsi:type="dcterms:W3CDTF">2002-09-01T11:15:19Z</dcterms:modified>
  <cp:revision>34</cp:revision>
  <dc:subject/>
  <dc:title>Quiz</dc:title>
</cp:coreProperties>
</file>