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ED4-A344-4A34-B30F-512AD696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A35-9EEA-408D-9933-40990E8B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6C4-609A-4AC4-9042-E41A7130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ADC-1738-4019-B927-5B73A6D2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74E-79AA-4C34-8C11-5C29F50B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29B-D4AB-4C70-84D5-9BF513F7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6DD5-F229-41CB-BF49-6C5E0934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CF2-CB60-4E41-99EF-3F07F084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FFB-8979-4C3B-B1CC-A0A8AC9D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D7C-1397-44CE-84C3-27C584D1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51FA-8783-40D0-8758-CBFCDE8A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6EC-F85B-4AAB-AEC6-9EB2394B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39EF-0A4E-4A37-BFA5-92116E018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200" y="762120"/>
            <a:ext cx="39571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4c2600"/>
                </a:solidFill>
                <a:latin typeface="Times New Roman"/>
              </a:rPr>
              <a:t>Q u i z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58800" y="4495680"/>
            <a:ext cx="601992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2600"/>
                </a:solidFill>
                <a:latin typeface="Times New Roman"/>
              </a:rPr>
              <a:t>Polska a Unia Europejs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9. Ile miejsc będzie miała Polska w Parlamencie Europejskim  po wejściu do Unii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2880" y="3124080"/>
            <a:ext cx="1933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5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4280" y="3962520"/>
            <a:ext cx="292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  50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28600"/>
            <a:ext cx="861048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10. Phare to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228600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4160" indent="-115416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rogram pomoc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115416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opłaty cel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115416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zestaw przepisów prawny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2209680"/>
            <a:ext cx="7467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0" indent="-1047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program pomocy finansowej dla krajów kandydujących do UE, w tym Polsk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11. Określenie Twinning oznacz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2438280"/>
            <a:ext cx="723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4160" indent="-115416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odzaj sportu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115416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spółpracę bliźniacz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115416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dyscyplinę naukow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33526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współpracę bliźniacz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228600"/>
            <a:ext cx="891540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12. Czy po wejściu do Unii dla młodzieży pojawią się nowe możliwości edukacyjn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3600" y="2666880"/>
            <a:ext cx="216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a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30600" y="2895480"/>
            <a:ext cx="292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  tak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30040" y="228600"/>
            <a:ext cx="891396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13. Z którego, spośród krajów kandydujących, Unia Europejska najwięcej importuj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9200" y="3276720"/>
            <a:ext cx="366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l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ułgar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Słowac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9360" y="3429000"/>
            <a:ext cx="64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   Polska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19,8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228600"/>
            <a:ext cx="89154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14. Czy po wejściu do Unii można oczekiwać, że obniżą się ce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2057400"/>
            <a:ext cx="7696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9680" indent="-103968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ak, wszystkich artykułów i usłu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ak, niektórych artykułów i usłu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 obniżą si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2743200"/>
            <a:ext cx="7696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9680" indent="-1039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tak obniżą się ceny niektórych towarów i niektórych usłu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29600" y="3645000"/>
            <a:ext cx="52801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ul.E.Plater 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2600"/>
                </a:solidFill>
                <a:latin typeface="Arial"/>
              </a:rPr>
              <a:t>(Warszawskie Centrum Finans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00-113 Warsz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tel. (22) 520 82 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www.europa.delpol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LOGO%20kolorowe%20%20Punktu%20Informacyjnego" descr=""/>
          <p:cNvPicPr/>
          <p:nvPr/>
        </p:nvPicPr>
        <p:blipFill>
          <a:blip r:embed="rId2"/>
          <a:stretch/>
        </p:blipFill>
        <p:spPr>
          <a:xfrm>
            <a:off x="1901880" y="878040"/>
            <a:ext cx="5334120" cy="2779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-6120" y="6188040"/>
            <a:ext cx="6500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600"/>
                </a:solidFill>
                <a:latin typeface="Arial"/>
              </a:rPr>
              <a:t>© Przedstawicielstwo Komisji Europejskiej w Pol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4c2600"/>
                </a:solidFill>
                <a:latin typeface="Arial"/>
              </a:rPr>
              <a:t>Prezentację przygotował:  Marek Chał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46920" y="87480"/>
            <a:ext cx="424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c2600"/>
                </a:solidFill>
                <a:latin typeface="Times New Roman"/>
              </a:rPr>
              <a:t>Dziękujemy za uwag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. Polska rozpoczęła starania o członkostwo w Unii Europejskiej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7800" y="2971800"/>
            <a:ext cx="4541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 1984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 1994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 1999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6760" y="3962520"/>
            <a:ext cx="607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8 kwietnia 199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2. Układem Europejskim nazywamy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9810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umowę o stowarzyszeniu Polski ze Wspólnotami Europejskim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międzynarodową umowę wszystkich krajów w Europ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666880"/>
            <a:ext cx="8305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umowę o stowarzyszeniu Polski ze Wspólnotami Europejskimi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3. Konwent ds. przyszłości Unii Europejskiej powołano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9200" y="2438280"/>
            <a:ext cx="4541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 1992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 1995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 2002 ro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8320" y="2971800"/>
            <a:ext cx="461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 w 2002 roku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28600"/>
            <a:ext cx="861048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4. Ile ludności jest w Polsc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60280" y="2438280"/>
            <a:ext cx="371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36,8 ml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38,6 ml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39,8 ml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9400" y="2971800"/>
            <a:ext cx="348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 38,6 ml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28600"/>
            <a:ext cx="861048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5. Kto jest największym partnerem handlowym Unii Europejskiej spośród krajów kandydujący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9920" y="2971800"/>
            <a:ext cx="366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l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Słowe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Island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6240" y="3581280"/>
            <a:ext cx="282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Pol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86104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6. Które z poniższych są nazwami programów pomocy dla krajów kandydujących - w tym Polsk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11480" y="3200400"/>
            <a:ext cx="3795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Ph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ISP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SAPA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d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Goda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5160" y="3429000"/>
            <a:ext cx="3719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Ph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ISP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SAPAR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7. Program SAPARD jest przeznaczony głównie dl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8120" y="2438280"/>
            <a:ext cx="574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leśnictw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olnictw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hodowli zwierzą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futerkowy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7960" y="2971800"/>
            <a:ext cx="37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 rolnictw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8. Ilu komisarzy w Komisji Europejskiej będzie miała Polska po wejściu do Unii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2880" y="3124080"/>
            <a:ext cx="1628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4280" y="3429000"/>
            <a:ext cx="170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 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7T05:50:11Z</dcterms:created>
  <dc:creator>Marek Chałas</dc:creator>
  <dc:description>Quiz
Polska a Unia Europejska</dc:description>
  <dc:language>en-US</dc:language>
  <cp:lastModifiedBy>Marek Chałas</cp:lastModifiedBy>
  <dcterms:modified xsi:type="dcterms:W3CDTF">2002-09-01T11:13:09Z</dcterms:modified>
  <cp:revision>40</cp:revision>
  <dc:subject/>
  <dc:title>Quiz</dc:title>
</cp:coreProperties>
</file>