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10F-345D-499B-9975-0AF9DBF4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216-3312-4FAB-AEAB-E1BA13EE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53E-7117-4786-BC80-DBA528D0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A2D-CBD5-4581-917C-3A0F1603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DAA6-23BA-4CDD-9E96-21928A19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31CA-7F02-47E3-BEA1-24E6ED71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0A0A-01DE-4B16-BE1C-F8CB7C28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773E-8130-48D6-B4AC-9E700BFE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DC5E-4A85-47C2-8592-2923F957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77F1-CBC6-4623-85EF-B7DAA519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801D-100A-4ED4-BD0A-37788BE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23F-ADB4-4ED9-B384-67D329BC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03CE-191B-40DF-9F8B-2981657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F644-9766-4014-9C42-C95EDCD6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3575-0357-455C-9AB1-43602B81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69CE-948A-4D71-8B08-F6BB4916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E494-43EB-4578-B028-E1936FBA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86B-36C4-4465-8B15-CF505142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435-EDC5-4629-9498-109C16C4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8DA-D8D4-48F2-8768-99CAED7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69B-34BC-452C-8696-DED4FDFA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0A0-85E0-4F98-9019-F1CACB1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BE8-8E08-4F07-98C8-5C9BFF4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527-ADDC-4A82-8A2B-F831A2FB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F595-EC4F-4DFA-85D9-1C912D68FF49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8E0D-5627-46C0-9763-D56C18C5E583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Monotype Corsiva"/>
              </a:rPr>
              <a:t>Adam Mickiewic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51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Arial"/>
              </a:rPr>
              <a:t>Życie i twórczość.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kres drezdeń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333333"/>
                </a:solidFill>
                <a:latin typeface="Arial"/>
              </a:rPr>
              <a:t>W roku 1829, dzięki przyjaciołom, udało się Mickiewiczowi załatwić wyjazd do Europy. Półtoraroczna podróż objęła Niemcy, Włochy i Szwajcarię. We Włoszech(1830) zastaje go informacja o powstaniu listopadowym. Mickiewicz zdecydował się wyruszyć           do Polski, dotarł do Wielkopolski, lecz do Kró-lestwa nie udało się mu przedostać. Wraz z falą emigracji znalazł się w Dreźnie. 31.VII.1832 przybył do Paryża, gdzie osiedlił się na dłużej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kres pary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W Paryżu Mickiewicz przebywał już  na stałe. W 1834 ożenił się z Celiną Szymanowską. Rok 1839/40 spędził      w Lozannie w Szwajcarii jako profesor literatury łacińskiej. W 1840 objął katedrę literatur słowiańskich w College de France w Paryżu. W roku 1844 wykłady zawieszono, między innymi                  za polityczną wymowę wykładów            i propagowanie towianizmu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Na emigracj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ozwijał wśród emigracji polskiej żywą działalność polityczną i publicystyczną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ktywnie włączył się w wydarzenia Wiosny Ludów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 1848 roku utworzył we Włoszech Legion Polski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Kres ży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W życiu prywatnym układało mu się źle. Żona ciężko chorowała , Mickiewicz stracił pracę i musiał podjąć stanowisko bibliotekarza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26.XI.1855 roku w Stanbule wielki polski poeta niespodziewanie zakończył życi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Ciało znanego już wtedy twórcy pochowano w Paryżu, a w 1890 roku przeniesiono trumnę do katedry wawelskiej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Portret wieszc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040" y="2209680"/>
            <a:ext cx="4800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 Unicode MS"/>
              </a:rPr>
              <a:t>  </a:t>
            </a:r>
            <a:r>
              <a:rPr b="1" i="1" lang="en-US" sz="2800" spc="-1" strike="noStrike">
                <a:solidFill>
                  <a:srgbClr val="333333"/>
                </a:solidFill>
                <a:latin typeface="Arial Unicode MS"/>
              </a:rPr>
              <a:t>(...) Razem, młodzi    przyjaciele!... W szczęściu wszystkiego są wszystkich cele; Jednością silni, rozumni szałem, Razem, młodzi przyjaciele!... (...)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 Unicode MS"/>
              </a:rPr>
              <a:t>                    </a:t>
            </a:r>
            <a:r>
              <a:rPr b="1" i="1" lang="en-US" sz="1400" spc="-1" strike="noStrike">
                <a:solidFill>
                  <a:srgbClr val="333333"/>
                </a:solidFill>
                <a:latin typeface="Arial Unicode MS"/>
              </a:rPr>
              <a:t>„</a:t>
            </a:r>
            <a:r>
              <a:rPr b="1" i="1" lang="en-US" sz="1400" spc="-1" strike="noStrike">
                <a:solidFill>
                  <a:srgbClr val="333333"/>
                </a:solidFill>
                <a:latin typeface="Arial Unicode MS"/>
              </a:rPr>
              <a:t>Oda do młodości”- fragmen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ortret%20mickiewicza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31417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5791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24.XII.1798-26.XI.185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Największe dzieła i rok ich powstani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Oda do młodości            - 182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Ballady i romanse           - 1822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Grażyna                          -1823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Dziady cz.II,IV                  - 1823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Sonety krymskie               - 18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Konrad Wallenrod            - 1828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Dziady cz.III                      - 1832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333333"/>
                </a:solidFill>
                <a:latin typeface="Monotype Corsiva"/>
              </a:rPr>
              <a:t>Pan Tadeusz                     - 1834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tapy życia i ich charakterysty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I Etap – dzieciństwo i lata szkoln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II Etap – wileńsko-kowieński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III Etap – rosyjski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IV Etap – 1829-1832 (zwany drezdeńskim)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Monotype Corsiva"/>
              </a:rPr>
              <a:t>V Etap - paryski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Dzieciństwo i młodoś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Adam Mickiewicz przyszedł na świat 24 grudnia 1798 r. w Zaosiu. Wychowywał się w pobliskim Nowogródku, gdzie ojciec jego, Mikołaj, zdeklaso-wany szlachcic herbu Poraj, pracował jako obrońca sądowy. Matka Barbara Majewska też wywodziła się z drobnej szlachty. Na własne więc siły i umiejętności - nie zaś na szlacheckie pochodzenie czy też dziedziczne majątki - mógł liczyć również Ada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            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W 1812r. głęboko przeżywa pożar Nowogródka, śmierć ojca i przemarsz wojsk Napoleona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333333"/>
                </a:solidFill>
                <a:latin typeface="Arial"/>
              </a:rPr>
              <a:t>Po ukończeniu miejscowej, prowadzonej przez dominikanów, szkoły (1815) udał się na studia filologiczno-historyczne do Wilna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kres wileńsko-kowień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Nazwą taką określa się ów okres życia Mickiewicza, gdyż związany jest   z dwoma miastami: najpierw studia      w Wilnie 1816-1819, potem praca         w szkole w Kownie. Studiując, u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trzymywał się ze stypendium, które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 po ukończeniu studiów (1819) musiał odpracować jako nauczyciel szkoły powiatowej w Kownie (1819 - 1823)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Kształtowanie się osobowoś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W czasie studiów wpływ na kształto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wanie się jego osobowości, poziomu wiedzy i poetyckiego talentu wywarli zwłaszcza tacy profesorowie, jak filolog klasyczny Ernest Groddeck, historyk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i teoretyk literatury Leon Borowski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  <a:ea typeface="Arial"/>
              </a:rPr>
              <a:t>oraz historyk Joachim Lelewel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Wydarz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Zdominowały ten okres następujące wydarzeni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kontakty i przyjaźnie z młodymi studentami, udział w związkach filomatów i filaretów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nieszczęśliwa miłość do Maryli Wereszczakówny, której rodzina uznała młodego, niezbyt bogatego poetę        za partię nieodpowiednią dla swojej córki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kres rosyj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333333"/>
                </a:solidFill>
                <a:latin typeface="Arial"/>
              </a:rPr>
              <a:t>Rok 1823 odmienił żywot Mickiewicza. Wykryto organizację filomatów, rozpoczął się proces, Mickiewicz został uwięziony w Wilnie, a potem zesłany     w głąb Rosji – stąd nazwa tego okresu (rosyjski). W tym okresie spotykał         w Rosji i zaprzyjaźnił się z tamtejszymi romantykami – buntownikami (K.Relejewem, A. Puszkinem)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kub Przybylski</cp:lastModifiedBy>
  <dcterms:modified xsi:type="dcterms:W3CDTF">2003-01-17T21:11:04Z</dcterms:modified>
  <cp:revision>26</cp:revision>
  <dc:subject/>
  <dc:title>Adam Mickiewicz</dc:title>
</cp:coreProperties>
</file>