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2E0-FE23-485F-B222-6AF86CB9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5E9-68E6-415D-BC2A-EE72E7D2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06D-BCB5-403D-B1E9-7B140EAC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457-3AFB-47B4-998C-208D4341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009-CC98-4FDD-9979-CF1E3BEA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F5E6-2B83-47B0-BED2-015B2A3A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026D-2FE0-4AA2-A9A7-C89C3D2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555D-8FA0-4903-A5D0-5278C4E0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691F-9276-4822-8F93-BB0FD97D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C1C4-9538-4A51-BBC5-2F850225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D3B-1870-413A-A9CF-E57B35B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540-1130-4344-AB12-D8F5A91F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DB6-0B06-4A95-BB89-66AA244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334-FF94-4FEE-814B-FAE03DA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E764-3DC3-4378-9995-D4F5323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9EBD-78B8-4A46-974F-B1F3BD6F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C65B-20E9-4558-9103-5F35A002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A47-199B-445F-BA24-8858E24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15E-860E-42BD-B79B-128C8BAD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D88-8355-4FF9-8280-F18FF56C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2C8-F033-413C-93F9-046EAAF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CD9-525E-4454-AB8A-7F1A40C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555-9201-42F8-BC68-3ACE81E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8E1-1F62-4A49-9600-54489A81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B162-5DD2-4C4E-BF1D-91832101D33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EEA3-AE9C-467F-84E4-D825E0F01A0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990000"/>
                </a:solidFill>
                <a:latin typeface="Monotype Corsiva"/>
              </a:rPr>
              <a:t>Prezentacja filmowej adaptacji       </a:t>
            </a:r>
            <a:br>
              <a:rPr sz="6600"/>
            </a:br>
            <a:r>
              <a:rPr b="1" i="1" lang="pl-PL" sz="6600" spc="-1" strike="noStrike">
                <a:solidFill>
                  <a:srgbClr val="990000"/>
                </a:solidFill>
                <a:latin typeface="Monotype Corsiva"/>
              </a:rPr>
              <a:t>„Pana Tadeusza”</a:t>
            </a:r>
            <a:r>
              <a:rPr b="1" lang="pl-PL" sz="6600" spc="-1" strike="noStrike">
                <a:solidFill>
                  <a:srgbClr val="990000"/>
                </a:solidFill>
                <a:latin typeface="Monotype Corsiva"/>
              </a:rPr>
              <a:t> Andrzeja Wajd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990000"/>
                </a:solidFill>
                <a:latin typeface="Monotype Corsiva"/>
              </a:rPr>
              <a:t>Telime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f10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15" name="f8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16" name="pan_tadeusz27" descr=""/>
          <p:cNvPicPr/>
          <p:nvPr/>
        </p:nvPicPr>
        <p:blipFill>
          <a:blip r:embed="rId4"/>
          <a:stretch/>
        </p:blipFill>
        <p:spPr>
          <a:xfrm>
            <a:off x="5562720" y="1447920"/>
            <a:ext cx="325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Zosi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an_tadeusz14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f11" descr=""/>
          <p:cNvPicPr/>
          <p:nvPr/>
        </p:nvPicPr>
        <p:blipFill>
          <a:blip r:embed="rId3"/>
          <a:stretch/>
        </p:blipFill>
        <p:spPr>
          <a:xfrm>
            <a:off x="5257800" y="15238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20" name="f2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21" name="f18" descr=""/>
          <p:cNvPicPr/>
          <p:nvPr/>
        </p:nvPicPr>
        <p:blipFill>
          <a:blip r:embed="rId5"/>
          <a:stretch/>
        </p:blipFill>
        <p:spPr>
          <a:xfrm>
            <a:off x="5257800" y="4191120"/>
            <a:ext cx="33829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Sceny z filmu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f6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382920" cy="2438640"/>
          </a:xfrm>
          <a:prstGeom prst="rect">
            <a:avLst/>
          </a:prstGeom>
          <a:ln w="0">
            <a:noFill/>
          </a:ln>
        </p:spPr>
      </p:pic>
      <p:pic>
        <p:nvPicPr>
          <p:cNvPr id="125" name="f1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382920" cy="2556000"/>
          </a:xfrm>
          <a:prstGeom prst="rect">
            <a:avLst/>
          </a:prstGeom>
          <a:ln w="0">
            <a:noFill/>
          </a:ln>
        </p:spPr>
      </p:pic>
      <p:pic>
        <p:nvPicPr>
          <p:cNvPr id="126" name="pan_tadeusz29" descr=""/>
          <p:cNvPicPr/>
          <p:nvPr/>
        </p:nvPicPr>
        <p:blipFill>
          <a:blip r:embed="rId4"/>
          <a:stretch/>
        </p:blipFill>
        <p:spPr>
          <a:xfrm>
            <a:off x="1219320" y="26668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Sceny batalistyczn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f12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an_tadeusz26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Statystyk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podczas pierwszego weekendu wyświetlania filmu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0 ty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ń, w którym film obejrzał milionowy widz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.10.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po drugim weekendzie wyświetlania (31.10.99)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53.5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do 21 listopada 1999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800 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do 5 grudnia 1999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814 12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do czerwca 2000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110.706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Wide Latin"/>
              </a:rPr>
              <a:t>KONIEC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Lucida Handwriting"/>
              </a:rPr>
              <a:t>Informacja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1600"/>
            <a:ext cx="7620120" cy="53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data premiery:  22 października 199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gatunek: melodramat / historyczny / kostiumow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produkcja:  pols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data produkcji:  199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reżyseria:  Andrzej Waj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scenariusz: Andrzej Wajda, Piotr Wereśni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na podstawie:  „Pana Tadeusza” Adama Mickiewic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zdjęcia: Paweł Edel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muzyka: Wojciech Ki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scenografia: Allan Starsk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Lucida Handwriting"/>
              </a:rPr>
              <a:t>Obsa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Ksiądz Robak 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Bogusław Lin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Tadeusz Soplic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Michał Żebrowski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Sędzi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Andrzej Sewery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osi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Alicja Bachleda-Curuś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Telimena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Grażyna Szapołows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Hrabi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Marek Kondrat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Gerwazy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Daniel Olbrychs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04920"/>
            <a:ext cx="74674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odkomorzy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Jerzy Tre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Wojski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Jerzy Grał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Jankiel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: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Władysław Kowals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ciej Królik-Rózeczk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Jerzy Bińczyc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ciej Chrzciciel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Marek Perepeczk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Bartek Brzytewka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Cezary Kosiński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Konewka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Piotr Cyrw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jor Płut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Krzysztof Globis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Adam Mickiewicz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Krzysztof Kolber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990000"/>
                </a:solidFill>
                <a:latin typeface="Monotype Corsiva"/>
              </a:rPr>
              <a:t>Jacek Soplica   (Ksiądz Robak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an_tadeusz20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f16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an_tadeusz28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Gerwazy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pan_tadeusz32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102" name="pan_tadeusz33" descr=""/>
          <p:cNvPicPr/>
          <p:nvPr/>
        </p:nvPicPr>
        <p:blipFill>
          <a:blip r:embed="rId3"/>
          <a:stretch/>
        </p:blipFill>
        <p:spPr>
          <a:xfrm>
            <a:off x="6603840" y="99072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ędz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f9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6019920" cy="4222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2320" y="5867280"/>
            <a:ext cx="5790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S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Monotype Corsiva"/>
              </a:rPr>
              <a:t>Hrabia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pan_tadeusz03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an_tadeusz06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3098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Tadeusz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an_tadeusz37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3810240" cy="2539800"/>
          </a:xfrm>
          <a:prstGeom prst="rect">
            <a:avLst/>
          </a:prstGeom>
          <a:ln w="0">
            <a:noFill/>
          </a:ln>
        </p:spPr>
      </p:pic>
      <p:pic>
        <p:nvPicPr>
          <p:cNvPr id="111" name="pan_tadeusz02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112" name="pan_tadeusz08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 Przybylski</cp:lastModifiedBy>
  <dcterms:modified xsi:type="dcterms:W3CDTF">2003-01-17T22:08:32Z</dcterms:modified>
  <cp:revision>18</cp:revision>
  <dc:subject/>
  <dc:title>Adam Mickiewicz</dc:title>
</cp:coreProperties>
</file>