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51F-BC64-4C5D-B87F-EB6AD3C6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FE7-4DF7-481D-86DF-F832F518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213-EA43-469D-A7B9-43CFFB72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6BE-98FF-4A95-8A6F-9F1D2393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0C8-6F91-4DCB-B0B2-0EED893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990-4419-481D-A158-1E004624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531-4312-4F99-A349-F36182F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5F7-0A29-4E64-8C5B-D8DBE35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B9C-F61E-4D2B-BB6B-CD5442F0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6A3-6149-4E06-A626-ED33145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B74-9FD8-45A7-8A2D-7DC4165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8B0-245D-4596-B643-933183F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CAEE-3FB4-46C9-9041-A2A4EF199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CZĄTKI EUROPEJSKIEGO TEATR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rzędy ku czci Dionizosa genezą teatru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43600" y="44953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 dla chóru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5" descr=""/>
          <p:cNvPicPr/>
          <p:nvPr/>
        </p:nvPicPr>
        <p:blipFill>
          <a:blip r:embed="rId1"/>
          <a:stretch/>
        </p:blipFill>
        <p:spPr>
          <a:xfrm>
            <a:off x="457200" y="2041560"/>
            <a:ext cx="5410080" cy="379260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533160"/>
          </a:xfrm>
          <a:prstGeom prst="upArrow">
            <a:avLst>
              <a:gd name="adj1" fmla="val 45315"/>
              <a:gd name="adj2" fmla="val 357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787560" y="4444560"/>
            <a:ext cx="1568520" cy="4064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ROŻYT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T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EC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5880" y="18288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eatr Dionizosa   w Aten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u odbyła się prapremiera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„Antygon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8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dowa teatru ateński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9280" y="308916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85800" y="3733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kene i Proske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5053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5053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762120" y="4800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t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762120" y="2666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56383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ktorzy występowali w maska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aska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20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eatr w Epidaur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9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Rozmieszczenie ośrodków teatralnych Gre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do III w. p.n.e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a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18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tr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90960" y="34286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zęść obi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la widz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5105520" cy="36795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533160"/>
          </a:xfrm>
          <a:prstGeom prst="upArrow">
            <a:avLst>
              <a:gd name="adj1" fmla="val 45315"/>
              <a:gd name="adj2" fmla="val 357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979160" y="2633400"/>
            <a:ext cx="1471680" cy="676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kene i Proske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3352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udyn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legają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o orchestry wr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 podwyższen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la akto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5" descr=""/>
          <p:cNvPicPr/>
          <p:nvPr/>
        </p:nvPicPr>
        <p:blipFill>
          <a:blip r:embed="rId1"/>
          <a:stretch/>
        </p:blipFill>
        <p:spPr>
          <a:xfrm>
            <a:off x="3886200" y="2170080"/>
            <a:ext cx="4572000" cy="36212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533160"/>
          </a:xfrm>
          <a:prstGeom prst="upArrow">
            <a:avLst>
              <a:gd name="adj1" fmla="val 45315"/>
              <a:gd name="adj2" fmla="val 357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324600" y="3632400"/>
            <a:ext cx="1580400" cy="3549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5:24:08Z</dcterms:created>
  <dc:creator>Jakub Przybylski</dc:creator>
  <dc:description/>
  <dc:language>en-US</dc:language>
  <cp:lastModifiedBy>Jakub Przybylski</cp:lastModifiedBy>
  <dcterms:modified xsi:type="dcterms:W3CDTF">2003-01-18T23:51:21Z</dcterms:modified>
  <cp:revision>9</cp:revision>
  <dc:subject/>
  <dc:title>POCZĄTKI EUROPEJSKIEGO TEATRU</dc:title>
</cp:coreProperties>
</file>