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74A0E-8D5E-49D6-B269-18E17DC33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9EB96-FAF5-408B-B9BD-E5F05994B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17B63-A8EB-495A-8F63-2CEA807BF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7BABB-CC1F-42E8-9900-0C203B37F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610E4-56F1-4AC0-B66F-CBC468084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5EDF4-7328-45C6-9791-2EE12726D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826E8-07BB-4641-B8A2-F001A948E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ADA41-D6DD-419C-9ED2-C92C5FE61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C624F-B3F8-4D14-80AF-2A8B09242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09C59-AFA8-49A1-B4A3-906CB7771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8D7A6-26EC-45FE-9C06-74C816D71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C8CB7-3EDD-4CC8-90EF-3AE25B07D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3BDC2-A13B-42B8-9739-4428120FD3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" Target="slide14.xml"/><Relationship Id="rId3" Type="http://schemas.openxmlformats.org/officeDocument/2006/relationships/slide" Target="slide15.xml"/><Relationship Id="rId4" Type="http://schemas.openxmlformats.org/officeDocument/2006/relationships/slide" Target="slide16.xml"/><Relationship Id="rId5" Type="http://schemas.openxmlformats.org/officeDocument/2006/relationships/slide" Target="slide17.xml"/><Relationship Id="rId6" Type="http://schemas.openxmlformats.org/officeDocument/2006/relationships/slide" Target="slide18.xml"/><Relationship Id="rId7" Type="http://schemas.openxmlformats.org/officeDocument/2006/relationships/slide" Target="slide18.xml"/><Relationship Id="rId8" Type="http://schemas.openxmlformats.org/officeDocument/2006/relationships/slide" Target="slide19.xml"/><Relationship Id="rId9" Type="http://schemas.openxmlformats.org/officeDocument/2006/relationships/slide" Target="slide19.xml"/><Relationship Id="rId10" Type="http://schemas.openxmlformats.org/officeDocument/2006/relationships/slide" Target="slide20.xml"/><Relationship Id="rId11" Type="http://schemas.openxmlformats.org/officeDocument/2006/relationships/slide" Target="slide20.xml"/><Relationship Id="rId12" Type="http://schemas.openxmlformats.org/officeDocument/2006/relationships/slide" Target="slide21.xml"/><Relationship Id="rId13" Type="http://schemas.openxmlformats.org/officeDocument/2006/relationships/slide" Target="slide21.xml"/><Relationship Id="rId14" Type="http://schemas.openxmlformats.org/officeDocument/2006/relationships/slide" Target="slide22.xml"/><Relationship Id="rId15" Type="http://schemas.openxmlformats.org/officeDocument/2006/relationships/slide" Target="slide22.xml"/><Relationship Id="rId16" Type="http://schemas.openxmlformats.org/officeDocument/2006/relationships/slide" Target="slide23.xml"/><Relationship Id="rId17" Type="http://schemas.openxmlformats.org/officeDocument/2006/relationships/slide" Target="slide23.xml"/><Relationship Id="rId18" Type="http://schemas.openxmlformats.org/officeDocument/2006/relationships/slide" Target="slide24.xml"/><Relationship Id="rId19" Type="http://schemas.openxmlformats.org/officeDocument/2006/relationships/slide" Target="slide24.xml"/><Relationship Id="rId20" Type="http://schemas.openxmlformats.org/officeDocument/2006/relationships/slide" Target="slide25.xml"/><Relationship Id="rId21" Type="http://schemas.openxmlformats.org/officeDocument/2006/relationships/slide" Target="slide25.xml"/><Relationship Id="rId22" Type="http://schemas.openxmlformats.org/officeDocument/2006/relationships/slide" Target="slide26.xml"/><Relationship Id="rId23" Type="http://schemas.openxmlformats.org/officeDocument/2006/relationships/slide" Target="slide26.xml"/><Relationship Id="rId24" Type="http://schemas.openxmlformats.org/officeDocument/2006/relationships/slide" Target="slide27.xml"/><Relationship Id="rId25" Type="http://schemas.openxmlformats.org/officeDocument/2006/relationships/slide" Target="slide27.xml"/><Relationship Id="rId26" Type="http://schemas.openxmlformats.org/officeDocument/2006/relationships/slide" Target="slide28.xml"/><Relationship Id="rId27" Type="http://schemas.openxmlformats.org/officeDocument/2006/relationships/slide" Target="slide28.xml"/><Relationship Id="rId2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" Target="slide14.xml"/><Relationship Id="rId3" Type="http://schemas.openxmlformats.org/officeDocument/2006/relationships/slide" Target="slide15.xml"/><Relationship Id="rId4" Type="http://schemas.openxmlformats.org/officeDocument/2006/relationships/slide" Target="slide16.xml"/><Relationship Id="rId5" Type="http://schemas.openxmlformats.org/officeDocument/2006/relationships/slide" Target="slide17.xml"/><Relationship Id="rId6" Type="http://schemas.openxmlformats.org/officeDocument/2006/relationships/slide" Target="slide18.xml"/><Relationship Id="rId7" Type="http://schemas.openxmlformats.org/officeDocument/2006/relationships/slide" Target="slide18.xml"/><Relationship Id="rId8" Type="http://schemas.openxmlformats.org/officeDocument/2006/relationships/slide" Target="slide19.xml"/><Relationship Id="rId9" Type="http://schemas.openxmlformats.org/officeDocument/2006/relationships/slide" Target="slide19.xml"/><Relationship Id="rId10" Type="http://schemas.openxmlformats.org/officeDocument/2006/relationships/slide" Target="slide20.xml"/><Relationship Id="rId11" Type="http://schemas.openxmlformats.org/officeDocument/2006/relationships/slide" Target="slide20.xml"/><Relationship Id="rId12" Type="http://schemas.openxmlformats.org/officeDocument/2006/relationships/slide" Target="slide21.xml"/><Relationship Id="rId13" Type="http://schemas.openxmlformats.org/officeDocument/2006/relationships/slide" Target="slide21.xml"/><Relationship Id="rId14" Type="http://schemas.openxmlformats.org/officeDocument/2006/relationships/slide" Target="slide22.xml"/><Relationship Id="rId15" Type="http://schemas.openxmlformats.org/officeDocument/2006/relationships/slide" Target="slide22.xml"/><Relationship Id="rId16" Type="http://schemas.openxmlformats.org/officeDocument/2006/relationships/slide" Target="slide23.xml"/><Relationship Id="rId17" Type="http://schemas.openxmlformats.org/officeDocument/2006/relationships/slide" Target="slide23.xml"/><Relationship Id="rId18" Type="http://schemas.openxmlformats.org/officeDocument/2006/relationships/slide" Target="slide24.xml"/><Relationship Id="rId19" Type="http://schemas.openxmlformats.org/officeDocument/2006/relationships/slide" Target="slide24.xml"/><Relationship Id="rId20" Type="http://schemas.openxmlformats.org/officeDocument/2006/relationships/slide" Target="slide25.xml"/><Relationship Id="rId21" Type="http://schemas.openxmlformats.org/officeDocument/2006/relationships/slide" Target="slide25.xml"/><Relationship Id="rId22" Type="http://schemas.openxmlformats.org/officeDocument/2006/relationships/slide" Target="slide26.xml"/><Relationship Id="rId23" Type="http://schemas.openxmlformats.org/officeDocument/2006/relationships/slide" Target="slide26.xml"/><Relationship Id="rId24" Type="http://schemas.openxmlformats.org/officeDocument/2006/relationships/slide" Target="slide27.xml"/><Relationship Id="rId25" Type="http://schemas.openxmlformats.org/officeDocument/2006/relationships/slide" Target="slide27.xml"/><Relationship Id="rId26" Type="http://schemas.openxmlformats.org/officeDocument/2006/relationships/slide" Target="slide28.xml"/><Relationship Id="rId27" Type="http://schemas.openxmlformats.org/officeDocument/2006/relationships/slide" Target="slide28.xml"/><Relationship Id="rId28" Type="http://schemas.openxmlformats.org/officeDocument/2006/relationships/image" Target="../media/image4.jpeg"/><Relationship Id="rId2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slide13.xml"/><Relationship Id="rId3" Type="http://schemas.openxmlformats.org/officeDocument/2006/relationships/slide" Target="slide14.xml"/><Relationship Id="rId4" Type="http://schemas.openxmlformats.org/officeDocument/2006/relationships/slide" Target="slide15.xml"/><Relationship Id="rId5" Type="http://schemas.openxmlformats.org/officeDocument/2006/relationships/slide" Target="slide16.xml"/><Relationship Id="rId6" Type="http://schemas.openxmlformats.org/officeDocument/2006/relationships/slide" Target="slide17.xml"/><Relationship Id="rId7" Type="http://schemas.openxmlformats.org/officeDocument/2006/relationships/slide" Target="slide18.xml"/><Relationship Id="rId8" Type="http://schemas.openxmlformats.org/officeDocument/2006/relationships/slide" Target="slide18.xml"/><Relationship Id="rId9" Type="http://schemas.openxmlformats.org/officeDocument/2006/relationships/slide" Target="slide19.xml"/><Relationship Id="rId10" Type="http://schemas.openxmlformats.org/officeDocument/2006/relationships/slide" Target="slide19.xml"/><Relationship Id="rId11" Type="http://schemas.openxmlformats.org/officeDocument/2006/relationships/slide" Target="slide20.xml"/><Relationship Id="rId12" Type="http://schemas.openxmlformats.org/officeDocument/2006/relationships/slide" Target="slide20.xml"/><Relationship Id="rId13" Type="http://schemas.openxmlformats.org/officeDocument/2006/relationships/slide" Target="slide21.xml"/><Relationship Id="rId14" Type="http://schemas.openxmlformats.org/officeDocument/2006/relationships/slide" Target="slide21.xml"/><Relationship Id="rId15" Type="http://schemas.openxmlformats.org/officeDocument/2006/relationships/slide" Target="slide22.xml"/><Relationship Id="rId16" Type="http://schemas.openxmlformats.org/officeDocument/2006/relationships/slide" Target="slide22.xml"/><Relationship Id="rId17" Type="http://schemas.openxmlformats.org/officeDocument/2006/relationships/slide" Target="slide23.xml"/><Relationship Id="rId18" Type="http://schemas.openxmlformats.org/officeDocument/2006/relationships/slide" Target="slide23.xml"/><Relationship Id="rId19" Type="http://schemas.openxmlformats.org/officeDocument/2006/relationships/slide" Target="slide24.xml"/><Relationship Id="rId20" Type="http://schemas.openxmlformats.org/officeDocument/2006/relationships/slide" Target="slide24.xml"/><Relationship Id="rId21" Type="http://schemas.openxmlformats.org/officeDocument/2006/relationships/slide" Target="slide25.xml"/><Relationship Id="rId22" Type="http://schemas.openxmlformats.org/officeDocument/2006/relationships/slide" Target="slide25.xml"/><Relationship Id="rId23" Type="http://schemas.openxmlformats.org/officeDocument/2006/relationships/slide" Target="slide26.xml"/><Relationship Id="rId24" Type="http://schemas.openxmlformats.org/officeDocument/2006/relationships/slide" Target="slide26.xml"/><Relationship Id="rId25" Type="http://schemas.openxmlformats.org/officeDocument/2006/relationships/slide" Target="slide27.xml"/><Relationship Id="rId26" Type="http://schemas.openxmlformats.org/officeDocument/2006/relationships/slide" Target="slide27.xml"/><Relationship Id="rId27" Type="http://schemas.openxmlformats.org/officeDocument/2006/relationships/slide" Target="slide28.xml"/><Relationship Id="rId28" Type="http://schemas.openxmlformats.org/officeDocument/2006/relationships/slide" Target="slide28.xml"/><Relationship Id="rId2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13.xml"/><Relationship Id="rId3" Type="http://schemas.openxmlformats.org/officeDocument/2006/relationships/slide" Target="slide14.xml"/><Relationship Id="rId4" Type="http://schemas.openxmlformats.org/officeDocument/2006/relationships/slide" Target="slide15.xml"/><Relationship Id="rId5" Type="http://schemas.openxmlformats.org/officeDocument/2006/relationships/slide" Target="slide16.xml"/><Relationship Id="rId6" Type="http://schemas.openxmlformats.org/officeDocument/2006/relationships/slide" Target="slide17.xml"/><Relationship Id="rId7" Type="http://schemas.openxmlformats.org/officeDocument/2006/relationships/slide" Target="slide18.xml"/><Relationship Id="rId8" Type="http://schemas.openxmlformats.org/officeDocument/2006/relationships/slide" Target="slide18.xml"/><Relationship Id="rId9" Type="http://schemas.openxmlformats.org/officeDocument/2006/relationships/slide" Target="slide19.xml"/><Relationship Id="rId10" Type="http://schemas.openxmlformats.org/officeDocument/2006/relationships/slide" Target="slide19.xml"/><Relationship Id="rId11" Type="http://schemas.openxmlformats.org/officeDocument/2006/relationships/slide" Target="slide20.xml"/><Relationship Id="rId12" Type="http://schemas.openxmlformats.org/officeDocument/2006/relationships/slide" Target="slide20.xml"/><Relationship Id="rId13" Type="http://schemas.openxmlformats.org/officeDocument/2006/relationships/slide" Target="slide21.xml"/><Relationship Id="rId14" Type="http://schemas.openxmlformats.org/officeDocument/2006/relationships/slide" Target="slide21.xml"/><Relationship Id="rId15" Type="http://schemas.openxmlformats.org/officeDocument/2006/relationships/slide" Target="slide22.xml"/><Relationship Id="rId16" Type="http://schemas.openxmlformats.org/officeDocument/2006/relationships/slide" Target="slide22.xml"/><Relationship Id="rId17" Type="http://schemas.openxmlformats.org/officeDocument/2006/relationships/slide" Target="slide23.xml"/><Relationship Id="rId18" Type="http://schemas.openxmlformats.org/officeDocument/2006/relationships/slide" Target="slide23.xml"/><Relationship Id="rId19" Type="http://schemas.openxmlformats.org/officeDocument/2006/relationships/slide" Target="slide24.xml"/><Relationship Id="rId20" Type="http://schemas.openxmlformats.org/officeDocument/2006/relationships/slide" Target="slide24.xml"/><Relationship Id="rId21" Type="http://schemas.openxmlformats.org/officeDocument/2006/relationships/slide" Target="slide25.xml"/><Relationship Id="rId22" Type="http://schemas.openxmlformats.org/officeDocument/2006/relationships/slide" Target="slide25.xml"/><Relationship Id="rId23" Type="http://schemas.openxmlformats.org/officeDocument/2006/relationships/slide" Target="slide26.xml"/><Relationship Id="rId24" Type="http://schemas.openxmlformats.org/officeDocument/2006/relationships/slide" Target="slide26.xml"/><Relationship Id="rId25" Type="http://schemas.openxmlformats.org/officeDocument/2006/relationships/slide" Target="slide27.xml"/><Relationship Id="rId26" Type="http://schemas.openxmlformats.org/officeDocument/2006/relationships/slide" Target="slide27.xml"/><Relationship Id="rId27" Type="http://schemas.openxmlformats.org/officeDocument/2006/relationships/slide" Target="slide28.xml"/><Relationship Id="rId28" Type="http://schemas.openxmlformats.org/officeDocument/2006/relationships/slide" Target="slide28.xml"/><Relationship Id="rId2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" Target="slide13.xml"/><Relationship Id="rId3" Type="http://schemas.openxmlformats.org/officeDocument/2006/relationships/slide" Target="slide14.xml"/><Relationship Id="rId4" Type="http://schemas.openxmlformats.org/officeDocument/2006/relationships/slide" Target="slide15.xml"/><Relationship Id="rId5" Type="http://schemas.openxmlformats.org/officeDocument/2006/relationships/slide" Target="slide16.xml"/><Relationship Id="rId6" Type="http://schemas.openxmlformats.org/officeDocument/2006/relationships/slide" Target="slide17.xml"/><Relationship Id="rId7" Type="http://schemas.openxmlformats.org/officeDocument/2006/relationships/slide" Target="slide18.xml"/><Relationship Id="rId8" Type="http://schemas.openxmlformats.org/officeDocument/2006/relationships/slide" Target="slide18.xml"/><Relationship Id="rId9" Type="http://schemas.openxmlformats.org/officeDocument/2006/relationships/slide" Target="slide19.xml"/><Relationship Id="rId10" Type="http://schemas.openxmlformats.org/officeDocument/2006/relationships/slide" Target="slide19.xml"/><Relationship Id="rId11" Type="http://schemas.openxmlformats.org/officeDocument/2006/relationships/slide" Target="slide20.xml"/><Relationship Id="rId12" Type="http://schemas.openxmlformats.org/officeDocument/2006/relationships/slide" Target="slide20.xml"/><Relationship Id="rId13" Type="http://schemas.openxmlformats.org/officeDocument/2006/relationships/slide" Target="slide21.xml"/><Relationship Id="rId14" Type="http://schemas.openxmlformats.org/officeDocument/2006/relationships/slide" Target="slide21.xml"/><Relationship Id="rId15" Type="http://schemas.openxmlformats.org/officeDocument/2006/relationships/slide" Target="slide22.xml"/><Relationship Id="rId16" Type="http://schemas.openxmlformats.org/officeDocument/2006/relationships/slide" Target="slide22.xml"/><Relationship Id="rId17" Type="http://schemas.openxmlformats.org/officeDocument/2006/relationships/slide" Target="slide23.xml"/><Relationship Id="rId18" Type="http://schemas.openxmlformats.org/officeDocument/2006/relationships/slide" Target="slide23.xml"/><Relationship Id="rId19" Type="http://schemas.openxmlformats.org/officeDocument/2006/relationships/slide" Target="slide24.xml"/><Relationship Id="rId20" Type="http://schemas.openxmlformats.org/officeDocument/2006/relationships/slide" Target="slide24.xml"/><Relationship Id="rId21" Type="http://schemas.openxmlformats.org/officeDocument/2006/relationships/slide" Target="slide25.xml"/><Relationship Id="rId22" Type="http://schemas.openxmlformats.org/officeDocument/2006/relationships/slide" Target="slide25.xml"/><Relationship Id="rId23" Type="http://schemas.openxmlformats.org/officeDocument/2006/relationships/slide" Target="slide26.xml"/><Relationship Id="rId24" Type="http://schemas.openxmlformats.org/officeDocument/2006/relationships/slide" Target="slide26.xml"/><Relationship Id="rId25" Type="http://schemas.openxmlformats.org/officeDocument/2006/relationships/slide" Target="slide27.xml"/><Relationship Id="rId26" Type="http://schemas.openxmlformats.org/officeDocument/2006/relationships/slide" Target="slide27.xml"/><Relationship Id="rId27" Type="http://schemas.openxmlformats.org/officeDocument/2006/relationships/slide" Target="slide28.xml"/><Relationship Id="rId28" Type="http://schemas.openxmlformats.org/officeDocument/2006/relationships/slide" Target="slide28.xml"/><Relationship Id="rId29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13.xml"/><Relationship Id="rId3" Type="http://schemas.openxmlformats.org/officeDocument/2006/relationships/slide" Target="slide14.xml"/><Relationship Id="rId4" Type="http://schemas.openxmlformats.org/officeDocument/2006/relationships/slide" Target="slide15.xml"/><Relationship Id="rId5" Type="http://schemas.openxmlformats.org/officeDocument/2006/relationships/slide" Target="slide16.xml"/><Relationship Id="rId6" Type="http://schemas.openxmlformats.org/officeDocument/2006/relationships/slide" Target="slide17.xml"/><Relationship Id="rId7" Type="http://schemas.openxmlformats.org/officeDocument/2006/relationships/slide" Target="slide18.xml"/><Relationship Id="rId8" Type="http://schemas.openxmlformats.org/officeDocument/2006/relationships/slide" Target="slide18.xml"/><Relationship Id="rId9" Type="http://schemas.openxmlformats.org/officeDocument/2006/relationships/slide" Target="slide19.xml"/><Relationship Id="rId10" Type="http://schemas.openxmlformats.org/officeDocument/2006/relationships/slide" Target="slide19.xml"/><Relationship Id="rId11" Type="http://schemas.openxmlformats.org/officeDocument/2006/relationships/slide" Target="slide20.xml"/><Relationship Id="rId12" Type="http://schemas.openxmlformats.org/officeDocument/2006/relationships/slide" Target="slide20.xml"/><Relationship Id="rId13" Type="http://schemas.openxmlformats.org/officeDocument/2006/relationships/slide" Target="slide21.xml"/><Relationship Id="rId14" Type="http://schemas.openxmlformats.org/officeDocument/2006/relationships/slide" Target="slide21.xml"/><Relationship Id="rId15" Type="http://schemas.openxmlformats.org/officeDocument/2006/relationships/slide" Target="slide22.xml"/><Relationship Id="rId16" Type="http://schemas.openxmlformats.org/officeDocument/2006/relationships/slide" Target="slide22.xml"/><Relationship Id="rId17" Type="http://schemas.openxmlformats.org/officeDocument/2006/relationships/slide" Target="slide23.xml"/><Relationship Id="rId18" Type="http://schemas.openxmlformats.org/officeDocument/2006/relationships/slide" Target="slide23.xml"/><Relationship Id="rId19" Type="http://schemas.openxmlformats.org/officeDocument/2006/relationships/slide" Target="slide24.xml"/><Relationship Id="rId20" Type="http://schemas.openxmlformats.org/officeDocument/2006/relationships/slide" Target="slide24.xml"/><Relationship Id="rId21" Type="http://schemas.openxmlformats.org/officeDocument/2006/relationships/slide" Target="slide25.xml"/><Relationship Id="rId22" Type="http://schemas.openxmlformats.org/officeDocument/2006/relationships/slide" Target="slide25.xml"/><Relationship Id="rId23" Type="http://schemas.openxmlformats.org/officeDocument/2006/relationships/slide" Target="slide26.xml"/><Relationship Id="rId24" Type="http://schemas.openxmlformats.org/officeDocument/2006/relationships/slide" Target="slide26.xml"/><Relationship Id="rId25" Type="http://schemas.openxmlformats.org/officeDocument/2006/relationships/slide" Target="slide27.xml"/><Relationship Id="rId26" Type="http://schemas.openxmlformats.org/officeDocument/2006/relationships/slide" Target="slide27.xml"/><Relationship Id="rId27" Type="http://schemas.openxmlformats.org/officeDocument/2006/relationships/slide" Target="slide28.xml"/><Relationship Id="rId28" Type="http://schemas.openxmlformats.org/officeDocument/2006/relationships/slide" Target="slide28.xml"/><Relationship Id="rId29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" Target="slide13.xml"/><Relationship Id="rId3" Type="http://schemas.openxmlformats.org/officeDocument/2006/relationships/slide" Target="slide14.xml"/><Relationship Id="rId4" Type="http://schemas.openxmlformats.org/officeDocument/2006/relationships/slide" Target="slide15.xml"/><Relationship Id="rId5" Type="http://schemas.openxmlformats.org/officeDocument/2006/relationships/slide" Target="slide16.xml"/><Relationship Id="rId6" Type="http://schemas.openxmlformats.org/officeDocument/2006/relationships/slide" Target="slide17.xml"/><Relationship Id="rId7" Type="http://schemas.openxmlformats.org/officeDocument/2006/relationships/slide" Target="slide18.xml"/><Relationship Id="rId8" Type="http://schemas.openxmlformats.org/officeDocument/2006/relationships/slide" Target="slide18.xml"/><Relationship Id="rId9" Type="http://schemas.openxmlformats.org/officeDocument/2006/relationships/slide" Target="slide19.xml"/><Relationship Id="rId10" Type="http://schemas.openxmlformats.org/officeDocument/2006/relationships/slide" Target="slide19.xml"/><Relationship Id="rId11" Type="http://schemas.openxmlformats.org/officeDocument/2006/relationships/slide" Target="slide20.xml"/><Relationship Id="rId12" Type="http://schemas.openxmlformats.org/officeDocument/2006/relationships/slide" Target="slide20.xml"/><Relationship Id="rId13" Type="http://schemas.openxmlformats.org/officeDocument/2006/relationships/slide" Target="slide21.xml"/><Relationship Id="rId14" Type="http://schemas.openxmlformats.org/officeDocument/2006/relationships/slide" Target="slide21.xml"/><Relationship Id="rId15" Type="http://schemas.openxmlformats.org/officeDocument/2006/relationships/slide" Target="slide22.xml"/><Relationship Id="rId16" Type="http://schemas.openxmlformats.org/officeDocument/2006/relationships/slide" Target="slide22.xml"/><Relationship Id="rId17" Type="http://schemas.openxmlformats.org/officeDocument/2006/relationships/slide" Target="slide23.xml"/><Relationship Id="rId18" Type="http://schemas.openxmlformats.org/officeDocument/2006/relationships/slide" Target="slide23.xml"/><Relationship Id="rId19" Type="http://schemas.openxmlformats.org/officeDocument/2006/relationships/slide" Target="slide24.xml"/><Relationship Id="rId20" Type="http://schemas.openxmlformats.org/officeDocument/2006/relationships/slide" Target="slide24.xml"/><Relationship Id="rId21" Type="http://schemas.openxmlformats.org/officeDocument/2006/relationships/slide" Target="slide25.xml"/><Relationship Id="rId22" Type="http://schemas.openxmlformats.org/officeDocument/2006/relationships/slide" Target="slide25.xml"/><Relationship Id="rId23" Type="http://schemas.openxmlformats.org/officeDocument/2006/relationships/slide" Target="slide26.xml"/><Relationship Id="rId24" Type="http://schemas.openxmlformats.org/officeDocument/2006/relationships/slide" Target="slide26.xml"/><Relationship Id="rId25" Type="http://schemas.openxmlformats.org/officeDocument/2006/relationships/slide" Target="slide27.xml"/><Relationship Id="rId26" Type="http://schemas.openxmlformats.org/officeDocument/2006/relationships/slide" Target="slide27.xml"/><Relationship Id="rId27" Type="http://schemas.openxmlformats.org/officeDocument/2006/relationships/slide" Target="slide28.xml"/><Relationship Id="rId28" Type="http://schemas.openxmlformats.org/officeDocument/2006/relationships/slide" Target="slide28.xml"/><Relationship Id="rId29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" Target="slide13.xml"/><Relationship Id="rId3" Type="http://schemas.openxmlformats.org/officeDocument/2006/relationships/slide" Target="slide14.xml"/><Relationship Id="rId4" Type="http://schemas.openxmlformats.org/officeDocument/2006/relationships/slide" Target="slide15.xml"/><Relationship Id="rId5" Type="http://schemas.openxmlformats.org/officeDocument/2006/relationships/slide" Target="slide16.xml"/><Relationship Id="rId6" Type="http://schemas.openxmlformats.org/officeDocument/2006/relationships/slide" Target="slide17.xml"/><Relationship Id="rId7" Type="http://schemas.openxmlformats.org/officeDocument/2006/relationships/slide" Target="slide18.xml"/><Relationship Id="rId8" Type="http://schemas.openxmlformats.org/officeDocument/2006/relationships/slide" Target="slide18.xml"/><Relationship Id="rId9" Type="http://schemas.openxmlformats.org/officeDocument/2006/relationships/slide" Target="slide19.xml"/><Relationship Id="rId10" Type="http://schemas.openxmlformats.org/officeDocument/2006/relationships/slide" Target="slide19.xml"/><Relationship Id="rId11" Type="http://schemas.openxmlformats.org/officeDocument/2006/relationships/slide" Target="slide20.xml"/><Relationship Id="rId12" Type="http://schemas.openxmlformats.org/officeDocument/2006/relationships/slide" Target="slide20.xml"/><Relationship Id="rId13" Type="http://schemas.openxmlformats.org/officeDocument/2006/relationships/slide" Target="slide21.xml"/><Relationship Id="rId14" Type="http://schemas.openxmlformats.org/officeDocument/2006/relationships/slide" Target="slide21.xml"/><Relationship Id="rId15" Type="http://schemas.openxmlformats.org/officeDocument/2006/relationships/slide" Target="slide22.xml"/><Relationship Id="rId16" Type="http://schemas.openxmlformats.org/officeDocument/2006/relationships/slide" Target="slide22.xml"/><Relationship Id="rId17" Type="http://schemas.openxmlformats.org/officeDocument/2006/relationships/slide" Target="slide23.xml"/><Relationship Id="rId18" Type="http://schemas.openxmlformats.org/officeDocument/2006/relationships/slide" Target="slide23.xml"/><Relationship Id="rId19" Type="http://schemas.openxmlformats.org/officeDocument/2006/relationships/slide" Target="slide24.xml"/><Relationship Id="rId20" Type="http://schemas.openxmlformats.org/officeDocument/2006/relationships/slide" Target="slide24.xml"/><Relationship Id="rId21" Type="http://schemas.openxmlformats.org/officeDocument/2006/relationships/slide" Target="slide25.xml"/><Relationship Id="rId22" Type="http://schemas.openxmlformats.org/officeDocument/2006/relationships/slide" Target="slide25.xml"/><Relationship Id="rId23" Type="http://schemas.openxmlformats.org/officeDocument/2006/relationships/slide" Target="slide26.xml"/><Relationship Id="rId24" Type="http://schemas.openxmlformats.org/officeDocument/2006/relationships/slide" Target="slide26.xml"/><Relationship Id="rId25" Type="http://schemas.openxmlformats.org/officeDocument/2006/relationships/slide" Target="slide27.xml"/><Relationship Id="rId26" Type="http://schemas.openxmlformats.org/officeDocument/2006/relationships/slide" Target="slide27.xml"/><Relationship Id="rId27" Type="http://schemas.openxmlformats.org/officeDocument/2006/relationships/slide" Target="slide28.xml"/><Relationship Id="rId28" Type="http://schemas.openxmlformats.org/officeDocument/2006/relationships/slide" Target="slide28.xml"/><Relationship Id="rId2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" Target="slide13.xml"/><Relationship Id="rId3" Type="http://schemas.openxmlformats.org/officeDocument/2006/relationships/slide" Target="slide14.xml"/><Relationship Id="rId4" Type="http://schemas.openxmlformats.org/officeDocument/2006/relationships/slide" Target="slide15.xml"/><Relationship Id="rId5" Type="http://schemas.openxmlformats.org/officeDocument/2006/relationships/slide" Target="slide16.xml"/><Relationship Id="rId6" Type="http://schemas.openxmlformats.org/officeDocument/2006/relationships/slide" Target="slide17.xml"/><Relationship Id="rId7" Type="http://schemas.openxmlformats.org/officeDocument/2006/relationships/slide" Target="slide18.xml"/><Relationship Id="rId8" Type="http://schemas.openxmlformats.org/officeDocument/2006/relationships/slide" Target="slide18.xml"/><Relationship Id="rId9" Type="http://schemas.openxmlformats.org/officeDocument/2006/relationships/slide" Target="slide19.xml"/><Relationship Id="rId10" Type="http://schemas.openxmlformats.org/officeDocument/2006/relationships/slide" Target="slide19.xml"/><Relationship Id="rId11" Type="http://schemas.openxmlformats.org/officeDocument/2006/relationships/slide" Target="slide20.xml"/><Relationship Id="rId12" Type="http://schemas.openxmlformats.org/officeDocument/2006/relationships/slide" Target="slide20.xml"/><Relationship Id="rId13" Type="http://schemas.openxmlformats.org/officeDocument/2006/relationships/slide" Target="slide21.xml"/><Relationship Id="rId14" Type="http://schemas.openxmlformats.org/officeDocument/2006/relationships/slide" Target="slide21.xml"/><Relationship Id="rId15" Type="http://schemas.openxmlformats.org/officeDocument/2006/relationships/slide" Target="slide22.xml"/><Relationship Id="rId16" Type="http://schemas.openxmlformats.org/officeDocument/2006/relationships/slide" Target="slide22.xml"/><Relationship Id="rId17" Type="http://schemas.openxmlformats.org/officeDocument/2006/relationships/slide" Target="slide23.xml"/><Relationship Id="rId18" Type="http://schemas.openxmlformats.org/officeDocument/2006/relationships/slide" Target="slide23.xml"/><Relationship Id="rId19" Type="http://schemas.openxmlformats.org/officeDocument/2006/relationships/slide" Target="slide24.xml"/><Relationship Id="rId20" Type="http://schemas.openxmlformats.org/officeDocument/2006/relationships/slide" Target="slide24.xml"/><Relationship Id="rId21" Type="http://schemas.openxmlformats.org/officeDocument/2006/relationships/slide" Target="slide25.xml"/><Relationship Id="rId22" Type="http://schemas.openxmlformats.org/officeDocument/2006/relationships/slide" Target="slide25.xml"/><Relationship Id="rId23" Type="http://schemas.openxmlformats.org/officeDocument/2006/relationships/slide" Target="slide26.xml"/><Relationship Id="rId24" Type="http://schemas.openxmlformats.org/officeDocument/2006/relationships/slide" Target="slide26.xml"/><Relationship Id="rId25" Type="http://schemas.openxmlformats.org/officeDocument/2006/relationships/slide" Target="slide27.xml"/><Relationship Id="rId26" Type="http://schemas.openxmlformats.org/officeDocument/2006/relationships/slide" Target="slide27.xml"/><Relationship Id="rId27" Type="http://schemas.openxmlformats.org/officeDocument/2006/relationships/slide" Target="slide28.xml"/><Relationship Id="rId28" Type="http://schemas.openxmlformats.org/officeDocument/2006/relationships/slide" Target="slide28.xml"/><Relationship Id="rId29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" Target="slide13.xml"/><Relationship Id="rId3" Type="http://schemas.openxmlformats.org/officeDocument/2006/relationships/slide" Target="slide14.xml"/><Relationship Id="rId4" Type="http://schemas.openxmlformats.org/officeDocument/2006/relationships/slide" Target="slide15.xml"/><Relationship Id="rId5" Type="http://schemas.openxmlformats.org/officeDocument/2006/relationships/slide" Target="slide16.xml"/><Relationship Id="rId6" Type="http://schemas.openxmlformats.org/officeDocument/2006/relationships/slide" Target="slide17.xml"/><Relationship Id="rId7" Type="http://schemas.openxmlformats.org/officeDocument/2006/relationships/slide" Target="slide18.xml"/><Relationship Id="rId8" Type="http://schemas.openxmlformats.org/officeDocument/2006/relationships/slide" Target="slide18.xml"/><Relationship Id="rId9" Type="http://schemas.openxmlformats.org/officeDocument/2006/relationships/slide" Target="slide19.xml"/><Relationship Id="rId10" Type="http://schemas.openxmlformats.org/officeDocument/2006/relationships/slide" Target="slide19.xml"/><Relationship Id="rId11" Type="http://schemas.openxmlformats.org/officeDocument/2006/relationships/slide" Target="slide20.xml"/><Relationship Id="rId12" Type="http://schemas.openxmlformats.org/officeDocument/2006/relationships/slide" Target="slide20.xml"/><Relationship Id="rId13" Type="http://schemas.openxmlformats.org/officeDocument/2006/relationships/slide" Target="slide21.xml"/><Relationship Id="rId14" Type="http://schemas.openxmlformats.org/officeDocument/2006/relationships/slide" Target="slide21.xml"/><Relationship Id="rId15" Type="http://schemas.openxmlformats.org/officeDocument/2006/relationships/slide" Target="slide22.xml"/><Relationship Id="rId16" Type="http://schemas.openxmlformats.org/officeDocument/2006/relationships/slide" Target="slide22.xml"/><Relationship Id="rId17" Type="http://schemas.openxmlformats.org/officeDocument/2006/relationships/slide" Target="slide23.xml"/><Relationship Id="rId18" Type="http://schemas.openxmlformats.org/officeDocument/2006/relationships/slide" Target="slide23.xml"/><Relationship Id="rId19" Type="http://schemas.openxmlformats.org/officeDocument/2006/relationships/slide" Target="slide24.xml"/><Relationship Id="rId20" Type="http://schemas.openxmlformats.org/officeDocument/2006/relationships/slide" Target="slide24.xml"/><Relationship Id="rId21" Type="http://schemas.openxmlformats.org/officeDocument/2006/relationships/slide" Target="slide25.xml"/><Relationship Id="rId22" Type="http://schemas.openxmlformats.org/officeDocument/2006/relationships/slide" Target="slide25.xml"/><Relationship Id="rId23" Type="http://schemas.openxmlformats.org/officeDocument/2006/relationships/slide" Target="slide26.xml"/><Relationship Id="rId24" Type="http://schemas.openxmlformats.org/officeDocument/2006/relationships/slide" Target="slide26.xml"/><Relationship Id="rId25" Type="http://schemas.openxmlformats.org/officeDocument/2006/relationships/slide" Target="slide27.xml"/><Relationship Id="rId26" Type="http://schemas.openxmlformats.org/officeDocument/2006/relationships/slide" Target="slide27.xml"/><Relationship Id="rId27" Type="http://schemas.openxmlformats.org/officeDocument/2006/relationships/slide" Target="slide28.xml"/><Relationship Id="rId28" Type="http://schemas.openxmlformats.org/officeDocument/2006/relationships/slide" Target="slide28.xml"/><Relationship Id="rId29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" Target="slide13.xml"/><Relationship Id="rId3" Type="http://schemas.openxmlformats.org/officeDocument/2006/relationships/slide" Target="slide14.xml"/><Relationship Id="rId4" Type="http://schemas.openxmlformats.org/officeDocument/2006/relationships/slide" Target="slide15.xml"/><Relationship Id="rId5" Type="http://schemas.openxmlformats.org/officeDocument/2006/relationships/slide" Target="slide16.xml"/><Relationship Id="rId6" Type="http://schemas.openxmlformats.org/officeDocument/2006/relationships/slide" Target="slide17.xml"/><Relationship Id="rId7" Type="http://schemas.openxmlformats.org/officeDocument/2006/relationships/slide" Target="slide18.xml"/><Relationship Id="rId8" Type="http://schemas.openxmlformats.org/officeDocument/2006/relationships/slide" Target="slide18.xml"/><Relationship Id="rId9" Type="http://schemas.openxmlformats.org/officeDocument/2006/relationships/slide" Target="slide19.xml"/><Relationship Id="rId10" Type="http://schemas.openxmlformats.org/officeDocument/2006/relationships/slide" Target="slide19.xml"/><Relationship Id="rId11" Type="http://schemas.openxmlformats.org/officeDocument/2006/relationships/slide" Target="slide20.xml"/><Relationship Id="rId12" Type="http://schemas.openxmlformats.org/officeDocument/2006/relationships/slide" Target="slide20.xml"/><Relationship Id="rId13" Type="http://schemas.openxmlformats.org/officeDocument/2006/relationships/slide" Target="slide21.xml"/><Relationship Id="rId14" Type="http://schemas.openxmlformats.org/officeDocument/2006/relationships/slide" Target="slide21.xml"/><Relationship Id="rId15" Type="http://schemas.openxmlformats.org/officeDocument/2006/relationships/slide" Target="slide22.xml"/><Relationship Id="rId16" Type="http://schemas.openxmlformats.org/officeDocument/2006/relationships/slide" Target="slide22.xml"/><Relationship Id="rId17" Type="http://schemas.openxmlformats.org/officeDocument/2006/relationships/slide" Target="slide23.xml"/><Relationship Id="rId18" Type="http://schemas.openxmlformats.org/officeDocument/2006/relationships/slide" Target="slide23.xml"/><Relationship Id="rId19" Type="http://schemas.openxmlformats.org/officeDocument/2006/relationships/slide" Target="slide24.xml"/><Relationship Id="rId20" Type="http://schemas.openxmlformats.org/officeDocument/2006/relationships/slide" Target="slide24.xml"/><Relationship Id="rId21" Type="http://schemas.openxmlformats.org/officeDocument/2006/relationships/slide" Target="slide25.xml"/><Relationship Id="rId22" Type="http://schemas.openxmlformats.org/officeDocument/2006/relationships/slide" Target="slide25.xml"/><Relationship Id="rId23" Type="http://schemas.openxmlformats.org/officeDocument/2006/relationships/slide" Target="slide26.xml"/><Relationship Id="rId24" Type="http://schemas.openxmlformats.org/officeDocument/2006/relationships/slide" Target="slide26.xml"/><Relationship Id="rId25" Type="http://schemas.openxmlformats.org/officeDocument/2006/relationships/slide" Target="slide27.xml"/><Relationship Id="rId26" Type="http://schemas.openxmlformats.org/officeDocument/2006/relationships/slide" Target="slide27.xml"/><Relationship Id="rId27" Type="http://schemas.openxmlformats.org/officeDocument/2006/relationships/slide" Target="slide28.xml"/><Relationship Id="rId28" Type="http://schemas.openxmlformats.org/officeDocument/2006/relationships/slide" Target="slide28.xml"/><Relationship Id="rId29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" Target="slide13.xml"/><Relationship Id="rId3" Type="http://schemas.openxmlformats.org/officeDocument/2006/relationships/slide" Target="slide14.xml"/><Relationship Id="rId4" Type="http://schemas.openxmlformats.org/officeDocument/2006/relationships/slide" Target="slide15.xml"/><Relationship Id="rId5" Type="http://schemas.openxmlformats.org/officeDocument/2006/relationships/slide" Target="slide16.xml"/><Relationship Id="rId6" Type="http://schemas.openxmlformats.org/officeDocument/2006/relationships/slide" Target="slide17.xml"/><Relationship Id="rId7" Type="http://schemas.openxmlformats.org/officeDocument/2006/relationships/slide" Target="slide18.xml"/><Relationship Id="rId8" Type="http://schemas.openxmlformats.org/officeDocument/2006/relationships/slide" Target="slide18.xml"/><Relationship Id="rId9" Type="http://schemas.openxmlformats.org/officeDocument/2006/relationships/slide" Target="slide19.xml"/><Relationship Id="rId10" Type="http://schemas.openxmlformats.org/officeDocument/2006/relationships/slide" Target="slide19.xml"/><Relationship Id="rId11" Type="http://schemas.openxmlformats.org/officeDocument/2006/relationships/slide" Target="slide20.xml"/><Relationship Id="rId12" Type="http://schemas.openxmlformats.org/officeDocument/2006/relationships/slide" Target="slide20.xml"/><Relationship Id="rId13" Type="http://schemas.openxmlformats.org/officeDocument/2006/relationships/slide" Target="slide21.xml"/><Relationship Id="rId14" Type="http://schemas.openxmlformats.org/officeDocument/2006/relationships/slide" Target="slide21.xml"/><Relationship Id="rId15" Type="http://schemas.openxmlformats.org/officeDocument/2006/relationships/slide" Target="slide22.xml"/><Relationship Id="rId16" Type="http://schemas.openxmlformats.org/officeDocument/2006/relationships/slide" Target="slide22.xml"/><Relationship Id="rId17" Type="http://schemas.openxmlformats.org/officeDocument/2006/relationships/slide" Target="slide23.xml"/><Relationship Id="rId18" Type="http://schemas.openxmlformats.org/officeDocument/2006/relationships/slide" Target="slide23.xml"/><Relationship Id="rId19" Type="http://schemas.openxmlformats.org/officeDocument/2006/relationships/slide" Target="slide24.xml"/><Relationship Id="rId20" Type="http://schemas.openxmlformats.org/officeDocument/2006/relationships/slide" Target="slide24.xml"/><Relationship Id="rId21" Type="http://schemas.openxmlformats.org/officeDocument/2006/relationships/slide" Target="slide25.xml"/><Relationship Id="rId22" Type="http://schemas.openxmlformats.org/officeDocument/2006/relationships/slide" Target="slide25.xml"/><Relationship Id="rId23" Type="http://schemas.openxmlformats.org/officeDocument/2006/relationships/slide" Target="slide26.xml"/><Relationship Id="rId24" Type="http://schemas.openxmlformats.org/officeDocument/2006/relationships/slide" Target="slide26.xml"/><Relationship Id="rId25" Type="http://schemas.openxmlformats.org/officeDocument/2006/relationships/slide" Target="slide27.xml"/><Relationship Id="rId26" Type="http://schemas.openxmlformats.org/officeDocument/2006/relationships/slide" Target="slide27.xml"/><Relationship Id="rId27" Type="http://schemas.openxmlformats.org/officeDocument/2006/relationships/slide" Target="slide28.xml"/><Relationship Id="rId28" Type="http://schemas.openxmlformats.org/officeDocument/2006/relationships/slide" Target="slide28.xml"/><Relationship Id="rId2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" Target="slide13.xml"/><Relationship Id="rId3" Type="http://schemas.openxmlformats.org/officeDocument/2006/relationships/slide" Target="slide14.xml"/><Relationship Id="rId4" Type="http://schemas.openxmlformats.org/officeDocument/2006/relationships/slide" Target="slide15.xml"/><Relationship Id="rId5" Type="http://schemas.openxmlformats.org/officeDocument/2006/relationships/slide" Target="slide16.xml"/><Relationship Id="rId6" Type="http://schemas.openxmlformats.org/officeDocument/2006/relationships/slide" Target="slide17.xml"/><Relationship Id="rId7" Type="http://schemas.openxmlformats.org/officeDocument/2006/relationships/slide" Target="slide18.xml"/><Relationship Id="rId8" Type="http://schemas.openxmlformats.org/officeDocument/2006/relationships/slide" Target="slide18.xml"/><Relationship Id="rId9" Type="http://schemas.openxmlformats.org/officeDocument/2006/relationships/slide" Target="slide19.xml"/><Relationship Id="rId10" Type="http://schemas.openxmlformats.org/officeDocument/2006/relationships/slide" Target="slide19.xml"/><Relationship Id="rId11" Type="http://schemas.openxmlformats.org/officeDocument/2006/relationships/slide" Target="slide20.xml"/><Relationship Id="rId12" Type="http://schemas.openxmlformats.org/officeDocument/2006/relationships/slide" Target="slide20.xml"/><Relationship Id="rId13" Type="http://schemas.openxmlformats.org/officeDocument/2006/relationships/slide" Target="slide21.xml"/><Relationship Id="rId14" Type="http://schemas.openxmlformats.org/officeDocument/2006/relationships/slide" Target="slide21.xml"/><Relationship Id="rId15" Type="http://schemas.openxmlformats.org/officeDocument/2006/relationships/slide" Target="slide22.xml"/><Relationship Id="rId16" Type="http://schemas.openxmlformats.org/officeDocument/2006/relationships/slide" Target="slide22.xml"/><Relationship Id="rId17" Type="http://schemas.openxmlformats.org/officeDocument/2006/relationships/slide" Target="slide23.xml"/><Relationship Id="rId18" Type="http://schemas.openxmlformats.org/officeDocument/2006/relationships/slide" Target="slide23.xml"/><Relationship Id="rId19" Type="http://schemas.openxmlformats.org/officeDocument/2006/relationships/slide" Target="slide24.xml"/><Relationship Id="rId20" Type="http://schemas.openxmlformats.org/officeDocument/2006/relationships/slide" Target="slide24.xml"/><Relationship Id="rId21" Type="http://schemas.openxmlformats.org/officeDocument/2006/relationships/slide" Target="slide25.xml"/><Relationship Id="rId22" Type="http://schemas.openxmlformats.org/officeDocument/2006/relationships/slide" Target="slide25.xml"/><Relationship Id="rId23" Type="http://schemas.openxmlformats.org/officeDocument/2006/relationships/slide" Target="slide26.xml"/><Relationship Id="rId24" Type="http://schemas.openxmlformats.org/officeDocument/2006/relationships/slide" Target="slide26.xml"/><Relationship Id="rId25" Type="http://schemas.openxmlformats.org/officeDocument/2006/relationships/slide" Target="slide27.xml"/><Relationship Id="rId26" Type="http://schemas.openxmlformats.org/officeDocument/2006/relationships/slide" Target="slide27.xml"/><Relationship Id="rId27" Type="http://schemas.openxmlformats.org/officeDocument/2006/relationships/slide" Target="slide28.xml"/><Relationship Id="rId28" Type="http://schemas.openxmlformats.org/officeDocument/2006/relationships/slide" Target="slide28.xml"/><Relationship Id="rId29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" Target="slide13.xml"/><Relationship Id="rId3" Type="http://schemas.openxmlformats.org/officeDocument/2006/relationships/slide" Target="slide14.xml"/><Relationship Id="rId4" Type="http://schemas.openxmlformats.org/officeDocument/2006/relationships/slide" Target="slide15.xml"/><Relationship Id="rId5" Type="http://schemas.openxmlformats.org/officeDocument/2006/relationships/slide" Target="slide16.xml"/><Relationship Id="rId6" Type="http://schemas.openxmlformats.org/officeDocument/2006/relationships/slide" Target="slide17.xml"/><Relationship Id="rId7" Type="http://schemas.openxmlformats.org/officeDocument/2006/relationships/slide" Target="slide18.xml"/><Relationship Id="rId8" Type="http://schemas.openxmlformats.org/officeDocument/2006/relationships/slide" Target="slide18.xml"/><Relationship Id="rId9" Type="http://schemas.openxmlformats.org/officeDocument/2006/relationships/slide" Target="slide19.xml"/><Relationship Id="rId10" Type="http://schemas.openxmlformats.org/officeDocument/2006/relationships/slide" Target="slide19.xml"/><Relationship Id="rId11" Type="http://schemas.openxmlformats.org/officeDocument/2006/relationships/slide" Target="slide20.xml"/><Relationship Id="rId12" Type="http://schemas.openxmlformats.org/officeDocument/2006/relationships/slide" Target="slide20.xml"/><Relationship Id="rId13" Type="http://schemas.openxmlformats.org/officeDocument/2006/relationships/slide" Target="slide21.xml"/><Relationship Id="rId14" Type="http://schemas.openxmlformats.org/officeDocument/2006/relationships/slide" Target="slide21.xml"/><Relationship Id="rId15" Type="http://schemas.openxmlformats.org/officeDocument/2006/relationships/slide" Target="slide22.xml"/><Relationship Id="rId16" Type="http://schemas.openxmlformats.org/officeDocument/2006/relationships/slide" Target="slide22.xml"/><Relationship Id="rId17" Type="http://schemas.openxmlformats.org/officeDocument/2006/relationships/slide" Target="slide23.xml"/><Relationship Id="rId18" Type="http://schemas.openxmlformats.org/officeDocument/2006/relationships/slide" Target="slide23.xml"/><Relationship Id="rId19" Type="http://schemas.openxmlformats.org/officeDocument/2006/relationships/slide" Target="slide24.xml"/><Relationship Id="rId20" Type="http://schemas.openxmlformats.org/officeDocument/2006/relationships/slide" Target="slide24.xml"/><Relationship Id="rId21" Type="http://schemas.openxmlformats.org/officeDocument/2006/relationships/slide" Target="slide25.xml"/><Relationship Id="rId22" Type="http://schemas.openxmlformats.org/officeDocument/2006/relationships/slide" Target="slide25.xml"/><Relationship Id="rId23" Type="http://schemas.openxmlformats.org/officeDocument/2006/relationships/slide" Target="slide26.xml"/><Relationship Id="rId24" Type="http://schemas.openxmlformats.org/officeDocument/2006/relationships/slide" Target="slide26.xml"/><Relationship Id="rId25" Type="http://schemas.openxmlformats.org/officeDocument/2006/relationships/slide" Target="slide27.xml"/><Relationship Id="rId26" Type="http://schemas.openxmlformats.org/officeDocument/2006/relationships/slide" Target="slide27.xml"/><Relationship Id="rId27" Type="http://schemas.openxmlformats.org/officeDocument/2006/relationships/slide" Target="slide28.xml"/><Relationship Id="rId28" Type="http://schemas.openxmlformats.org/officeDocument/2006/relationships/slide" Target="slide28.xml"/><Relationship Id="rId29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" Target="slide13.xml"/><Relationship Id="rId3" Type="http://schemas.openxmlformats.org/officeDocument/2006/relationships/slide" Target="slide14.xml"/><Relationship Id="rId4" Type="http://schemas.openxmlformats.org/officeDocument/2006/relationships/slide" Target="slide15.xml"/><Relationship Id="rId5" Type="http://schemas.openxmlformats.org/officeDocument/2006/relationships/slide" Target="slide16.xml"/><Relationship Id="rId6" Type="http://schemas.openxmlformats.org/officeDocument/2006/relationships/slide" Target="slide17.xml"/><Relationship Id="rId7" Type="http://schemas.openxmlformats.org/officeDocument/2006/relationships/slide" Target="slide18.xml"/><Relationship Id="rId8" Type="http://schemas.openxmlformats.org/officeDocument/2006/relationships/slide" Target="slide18.xml"/><Relationship Id="rId9" Type="http://schemas.openxmlformats.org/officeDocument/2006/relationships/slide" Target="slide19.xml"/><Relationship Id="rId10" Type="http://schemas.openxmlformats.org/officeDocument/2006/relationships/slide" Target="slide19.xml"/><Relationship Id="rId11" Type="http://schemas.openxmlformats.org/officeDocument/2006/relationships/slide" Target="slide20.xml"/><Relationship Id="rId12" Type="http://schemas.openxmlformats.org/officeDocument/2006/relationships/slide" Target="slide20.xml"/><Relationship Id="rId13" Type="http://schemas.openxmlformats.org/officeDocument/2006/relationships/slide" Target="slide21.xml"/><Relationship Id="rId14" Type="http://schemas.openxmlformats.org/officeDocument/2006/relationships/slide" Target="slide21.xml"/><Relationship Id="rId15" Type="http://schemas.openxmlformats.org/officeDocument/2006/relationships/slide" Target="slide22.xml"/><Relationship Id="rId16" Type="http://schemas.openxmlformats.org/officeDocument/2006/relationships/slide" Target="slide22.xml"/><Relationship Id="rId17" Type="http://schemas.openxmlformats.org/officeDocument/2006/relationships/slide" Target="slide23.xml"/><Relationship Id="rId18" Type="http://schemas.openxmlformats.org/officeDocument/2006/relationships/slide" Target="slide23.xml"/><Relationship Id="rId19" Type="http://schemas.openxmlformats.org/officeDocument/2006/relationships/slide" Target="slide24.xml"/><Relationship Id="rId20" Type="http://schemas.openxmlformats.org/officeDocument/2006/relationships/slide" Target="slide24.xml"/><Relationship Id="rId21" Type="http://schemas.openxmlformats.org/officeDocument/2006/relationships/slide" Target="slide25.xml"/><Relationship Id="rId22" Type="http://schemas.openxmlformats.org/officeDocument/2006/relationships/slide" Target="slide25.xml"/><Relationship Id="rId23" Type="http://schemas.openxmlformats.org/officeDocument/2006/relationships/slide" Target="slide26.xml"/><Relationship Id="rId24" Type="http://schemas.openxmlformats.org/officeDocument/2006/relationships/slide" Target="slide26.xml"/><Relationship Id="rId25" Type="http://schemas.openxmlformats.org/officeDocument/2006/relationships/slide" Target="slide27.xml"/><Relationship Id="rId26" Type="http://schemas.openxmlformats.org/officeDocument/2006/relationships/slide" Target="slide27.xml"/><Relationship Id="rId27" Type="http://schemas.openxmlformats.org/officeDocument/2006/relationships/slide" Target="slide28.xml"/><Relationship Id="rId28" Type="http://schemas.openxmlformats.org/officeDocument/2006/relationships/slide" Target="slide28.xml"/><Relationship Id="rId29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" Target="slide13.xml"/><Relationship Id="rId3" Type="http://schemas.openxmlformats.org/officeDocument/2006/relationships/slide" Target="slide14.xml"/><Relationship Id="rId4" Type="http://schemas.openxmlformats.org/officeDocument/2006/relationships/slide" Target="slide15.xml"/><Relationship Id="rId5" Type="http://schemas.openxmlformats.org/officeDocument/2006/relationships/slide" Target="slide16.xml"/><Relationship Id="rId6" Type="http://schemas.openxmlformats.org/officeDocument/2006/relationships/slide" Target="slide17.xml"/><Relationship Id="rId7" Type="http://schemas.openxmlformats.org/officeDocument/2006/relationships/slide" Target="slide18.xml"/><Relationship Id="rId8" Type="http://schemas.openxmlformats.org/officeDocument/2006/relationships/slide" Target="slide18.xml"/><Relationship Id="rId9" Type="http://schemas.openxmlformats.org/officeDocument/2006/relationships/slide" Target="slide19.xml"/><Relationship Id="rId10" Type="http://schemas.openxmlformats.org/officeDocument/2006/relationships/slide" Target="slide19.xml"/><Relationship Id="rId11" Type="http://schemas.openxmlformats.org/officeDocument/2006/relationships/slide" Target="slide20.xml"/><Relationship Id="rId12" Type="http://schemas.openxmlformats.org/officeDocument/2006/relationships/slide" Target="slide20.xml"/><Relationship Id="rId13" Type="http://schemas.openxmlformats.org/officeDocument/2006/relationships/slide" Target="slide21.xml"/><Relationship Id="rId14" Type="http://schemas.openxmlformats.org/officeDocument/2006/relationships/slide" Target="slide21.xml"/><Relationship Id="rId15" Type="http://schemas.openxmlformats.org/officeDocument/2006/relationships/slide" Target="slide22.xml"/><Relationship Id="rId16" Type="http://schemas.openxmlformats.org/officeDocument/2006/relationships/slide" Target="slide22.xml"/><Relationship Id="rId17" Type="http://schemas.openxmlformats.org/officeDocument/2006/relationships/slide" Target="slide23.xml"/><Relationship Id="rId18" Type="http://schemas.openxmlformats.org/officeDocument/2006/relationships/slide" Target="slide23.xml"/><Relationship Id="rId19" Type="http://schemas.openxmlformats.org/officeDocument/2006/relationships/slide" Target="slide24.xml"/><Relationship Id="rId20" Type="http://schemas.openxmlformats.org/officeDocument/2006/relationships/slide" Target="slide24.xml"/><Relationship Id="rId21" Type="http://schemas.openxmlformats.org/officeDocument/2006/relationships/slide" Target="slide25.xml"/><Relationship Id="rId22" Type="http://schemas.openxmlformats.org/officeDocument/2006/relationships/slide" Target="slide25.xml"/><Relationship Id="rId23" Type="http://schemas.openxmlformats.org/officeDocument/2006/relationships/slide" Target="slide26.xml"/><Relationship Id="rId24" Type="http://schemas.openxmlformats.org/officeDocument/2006/relationships/slide" Target="slide26.xml"/><Relationship Id="rId25" Type="http://schemas.openxmlformats.org/officeDocument/2006/relationships/slide" Target="slide27.xml"/><Relationship Id="rId26" Type="http://schemas.openxmlformats.org/officeDocument/2006/relationships/slide" Target="slide27.xml"/><Relationship Id="rId27" Type="http://schemas.openxmlformats.org/officeDocument/2006/relationships/slide" Target="slide28.xml"/><Relationship Id="rId28" Type="http://schemas.openxmlformats.org/officeDocument/2006/relationships/slide" Target="slide28.xml"/><Relationship Id="rId29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" Target="slide13.xml"/><Relationship Id="rId3" Type="http://schemas.openxmlformats.org/officeDocument/2006/relationships/slide" Target="slide14.xml"/><Relationship Id="rId4" Type="http://schemas.openxmlformats.org/officeDocument/2006/relationships/slide" Target="slide15.xml"/><Relationship Id="rId5" Type="http://schemas.openxmlformats.org/officeDocument/2006/relationships/slide" Target="slide16.xml"/><Relationship Id="rId6" Type="http://schemas.openxmlformats.org/officeDocument/2006/relationships/slide" Target="slide17.xml"/><Relationship Id="rId7" Type="http://schemas.openxmlformats.org/officeDocument/2006/relationships/slide" Target="slide18.xml"/><Relationship Id="rId8" Type="http://schemas.openxmlformats.org/officeDocument/2006/relationships/slide" Target="slide18.xml"/><Relationship Id="rId9" Type="http://schemas.openxmlformats.org/officeDocument/2006/relationships/slide" Target="slide19.xml"/><Relationship Id="rId10" Type="http://schemas.openxmlformats.org/officeDocument/2006/relationships/slide" Target="slide19.xml"/><Relationship Id="rId11" Type="http://schemas.openxmlformats.org/officeDocument/2006/relationships/slide" Target="slide20.xml"/><Relationship Id="rId12" Type="http://schemas.openxmlformats.org/officeDocument/2006/relationships/slide" Target="slide20.xml"/><Relationship Id="rId13" Type="http://schemas.openxmlformats.org/officeDocument/2006/relationships/slide" Target="slide21.xml"/><Relationship Id="rId14" Type="http://schemas.openxmlformats.org/officeDocument/2006/relationships/slide" Target="slide21.xml"/><Relationship Id="rId15" Type="http://schemas.openxmlformats.org/officeDocument/2006/relationships/slide" Target="slide22.xml"/><Relationship Id="rId16" Type="http://schemas.openxmlformats.org/officeDocument/2006/relationships/slide" Target="slide22.xml"/><Relationship Id="rId17" Type="http://schemas.openxmlformats.org/officeDocument/2006/relationships/slide" Target="slide23.xml"/><Relationship Id="rId18" Type="http://schemas.openxmlformats.org/officeDocument/2006/relationships/slide" Target="slide23.xml"/><Relationship Id="rId19" Type="http://schemas.openxmlformats.org/officeDocument/2006/relationships/slide" Target="slide24.xml"/><Relationship Id="rId20" Type="http://schemas.openxmlformats.org/officeDocument/2006/relationships/slide" Target="slide24.xml"/><Relationship Id="rId21" Type="http://schemas.openxmlformats.org/officeDocument/2006/relationships/slide" Target="slide25.xml"/><Relationship Id="rId22" Type="http://schemas.openxmlformats.org/officeDocument/2006/relationships/slide" Target="slide25.xml"/><Relationship Id="rId23" Type="http://schemas.openxmlformats.org/officeDocument/2006/relationships/slide" Target="slide26.xml"/><Relationship Id="rId24" Type="http://schemas.openxmlformats.org/officeDocument/2006/relationships/slide" Target="slide26.xml"/><Relationship Id="rId25" Type="http://schemas.openxmlformats.org/officeDocument/2006/relationships/slide" Target="slide27.xml"/><Relationship Id="rId26" Type="http://schemas.openxmlformats.org/officeDocument/2006/relationships/slide" Target="slide27.xml"/><Relationship Id="rId27" Type="http://schemas.openxmlformats.org/officeDocument/2006/relationships/slide" Target="slide28.xml"/><Relationship Id="rId28" Type="http://schemas.openxmlformats.org/officeDocument/2006/relationships/slide" Target="slide28.xml"/><Relationship Id="rId2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843280" y="620640"/>
            <a:ext cx="32414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ydney 2000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995640" y="1413000"/>
            <a:ext cx="1081080" cy="5270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>
            <a:off x="250920" y="2924280"/>
            <a:ext cx="2066760" cy="34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Obiekty Sportow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250920" y="3500280"/>
            <a:ext cx="3724200" cy="3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Klasyfikacja Medalowa Polaków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250920" y="2276640"/>
            <a:ext cx="1409760" cy="34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O Sydney...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6" name=""/>
          <p:cNvSpPr/>
          <p:nvPr/>
        </p:nvSpPr>
        <p:spPr>
          <a:xfrm>
            <a:off x="0" y="6613560"/>
            <a:ext cx="3492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ptymalne Oprogramowanie: Microsoft Office X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228600" y="4114800"/>
            <a:ext cx="3057480" cy="3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Informacje o Przebiegu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med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611280" y="333360"/>
            <a:ext cx="79912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Edmund Obiała - budowniczy stadionu w Sydney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1" name=""/>
          <p:cNvSpPr/>
          <p:nvPr/>
        </p:nvSpPr>
        <p:spPr>
          <a:xfrm>
            <a:off x="656280" y="1627200"/>
            <a:ext cx="60249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(PAP) Stadion Olimpijski, główna arena igrzysk w Sydney, 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ostał wybudowany pod kierunkiem polskiego inżyniera 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Edmunda Obiały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To największy obiekt w historii nowożytnych igrzysk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Na jego trybunach może zasiąść 110 tys. widzów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56640" y="2635200"/>
            <a:ext cx="60159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Stadion Olimpijski otrzymał w 1999 roku światową nagrodę budownictwa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ygrywając rywalizację ze 180 różnorodnymi obiektami z całego świata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Uhonorowany był także Oscarem Bratfielda –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najbardziej prestiżową nagrodą w Australii w dziedzinie budownictwa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50520" y="3643200"/>
            <a:ext cx="70538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Budowa najnowocześniejszego na świecie i największeg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 historii igrzysk stadionu kosztowała 690 mln dolarów australijskich (433,7 mln USD)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Odbyły się na nim ceremonie otwarcia i zamknięcia Olimpiady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finałowy mecz turnieju piłkarskiego, a ponadto konkurencje lekkoatletyczn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250920" y="5877000"/>
            <a:ext cx="790560" cy="2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Wstecz</a:t>
            </a:r>
            <a:endParaRPr b="0" i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med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1403280" y="476280"/>
            <a:ext cx="64818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Polska Klasyfikacja Medalowa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6" name=""/>
          <p:cNvSpPr/>
          <p:nvPr/>
        </p:nvSpPr>
        <p:spPr>
          <a:xfrm>
            <a:off x="179280" y="1197000"/>
            <a:ext cx="4572000" cy="28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400" spc="-1" strike="noStrike" u="sng">
                <a:solidFill>
                  <a:srgbClr val="ffcc00"/>
                </a:solidFill>
                <a:uFillTx/>
                <a:latin typeface="Arial"/>
              </a:rPr>
              <a:t>Złoto 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Renata Mauer-Różańska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- Karabinek sportowy: kobiety, 50m ; strzelanie z 3 pozycji (684.6 pts.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Robert Korzeniowski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- Chód: mężczyźni, 20 km (1:18.59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- Chód: mężczyźni, 50 km (3:42:22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Tomasz Kucharski / Robert Sycz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- Wioślarstwo: mężczyźni, dwójka podwójn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ZIÓŁKOWSKI Szymon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- Rzut młotem: mężczyźni (80.02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SKOLIMOWSKA Kamila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- Rzut młotem: kobiety (71.16 - rekord olimpijski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0" y="1197000"/>
            <a:ext cx="4572000" cy="32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400" spc="-1" strike="noStrike" u="sng">
                <a:solidFill>
                  <a:srgbClr val="dddddd"/>
                </a:solidFill>
                <a:uFillTx/>
                <a:latin typeface="Arial"/>
              </a:rPr>
              <a:t>Srebro 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Krzysztof Kołomański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Michał Staniszewski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- Kajakarstwo górskie: mężczyźni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Agata Wróbel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- Podnoszenie ciężarów: kobiety, waga 75 k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MROCZKIEWICZ Magdalena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GRUCHAŁA Sylwia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RYBICKA Anna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- Szermierka: kobiety, floret zespołow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KOŁECKI Szymon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- Podnoszenie ciężarów: mężczyźni, waga 94 kg (405 pts.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BARASZKIEWICZ Paweł / JĘDRASZKO Daniel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- Kajakarstwo: mężczyźni, C-2, 500 m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9280" y="4437000"/>
            <a:ext cx="457200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400" spc="-1" strike="noStrike" u="sng">
                <a:solidFill>
                  <a:srgbClr val="ac5f50"/>
                </a:solidFill>
                <a:uFillTx/>
                <a:latin typeface="Arial"/>
              </a:rPr>
              <a:t>Brąz 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BLANIK Leszek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- Gimnastyka artystyczna: mężczyźni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KOTOWICZ Grzegorz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SEROCZYŃSKI Adam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BIAŁKOWSKI Dariusz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ITKOWSKI Marek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- Kajakarstwo: mężczyźni, K-4, 1000 m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PASTUSZKA Aneta / SOKOŁOWSKA Beata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- Kajakarstwo: kobiety, K-2, 500 m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495680" y="6248520"/>
            <a:ext cx="457200" cy="21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Menu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</p:spTree>
  </p:cSld>
  <p:transition spd="med"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2195640" y="549360"/>
            <a:ext cx="4457520" cy="63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Obiekty Sportowe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1" name=""/>
          <p:cNvSpPr/>
          <p:nvPr/>
        </p:nvSpPr>
        <p:spPr>
          <a:xfrm>
            <a:off x="395280" y="1700280"/>
            <a:ext cx="4572000" cy="35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Dunc Gray Velodro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Bruce Stadi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Blacktown Olympic Cent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Tennis Cent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SuperDom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State Hockey Centre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7" action="ppaction://hlinksldjump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8" action="ppaction://hlinksldjump"/>
              </a:rPr>
              <a:t>Ryde Aquatic Centre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9" action="ppaction://hlinksldjump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0" action="ppaction://hlinksldjump"/>
              </a:rPr>
              <a:t>Olimpic Stadium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1" action="ppaction://hlinksldjump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2" action="ppaction://hlinksldjump"/>
              </a:rPr>
              <a:t>Melbourne Cricket Ground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3" action="ppaction://hlinksldjump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4" action="ppaction://hlinksldjump"/>
              </a:rPr>
              <a:t>International Regatta Centre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5" action="ppaction://hlinksldjump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6" action="ppaction://hlinksldjump"/>
              </a:rPr>
              <a:t>Baseball Stadium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7" action="ppaction://hlinksldjump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8" action="ppaction://hlinksldjump"/>
              </a:rPr>
              <a:t>Football Stadium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9" action="ppaction://hlinksldjump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0" action="ppaction://hlinksldjump"/>
              </a:rPr>
              <a:t>Entertainment Centre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1" action="ppaction://hlinksldjump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2" action="ppaction://hlinksldjump"/>
              </a:rPr>
              <a:t>Convention &amp; Exhibition Centre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3" action="ppaction://hlinksldjump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4" action="ppaction://hlinksldjump"/>
              </a:rPr>
              <a:t>Brisbane Cricket Ground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5" action="ppaction://hlinksldjump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6" action="ppaction://hlinksldjump"/>
              </a:rPr>
              <a:t>Beach Volleyball Centre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7" action="ppaction://hlinksldjump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00720" y="6308640"/>
            <a:ext cx="457200" cy="219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Menu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</p:spTree>
  </p:cSld>
  <p:transition spd="med"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1908000" y="476280"/>
            <a:ext cx="557244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Dunc Gray Velodrome 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4" name=""/>
          <p:cNvSpPr/>
          <p:nvPr/>
        </p:nvSpPr>
        <p:spPr>
          <a:xfrm>
            <a:off x="2627280" y="1197000"/>
            <a:ext cx="0" cy="4680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0" y="1484280"/>
            <a:ext cx="2843280" cy="37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Dunc Gray Velodro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Bruce Stadi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Blacktown Olympic Cent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Tennis Cent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SuperDom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State Hockey Centre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7" action="ppaction://hlinksldjump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8" action="ppaction://hlinksldjump"/>
              </a:rPr>
              <a:t>Ryde Aquatic Centre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9" action="ppaction://hlinksldjump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0" action="ppaction://hlinksldjump"/>
              </a:rPr>
              <a:t>Olimpic Stadium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1" action="ppaction://hlinksldjump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2" action="ppaction://hlinksldjump"/>
              </a:rPr>
              <a:t>Melbourne Cricket Ground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3" action="ppaction://hlinksldjump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4" action="ppaction://hlinksldjump"/>
              </a:rPr>
              <a:t>International Regatta Centre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5" action="ppaction://hlinksldjump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6" action="ppaction://hlinksldjump"/>
              </a:rPr>
              <a:t>Baseball Stadium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7" action="ppaction://hlinksldjump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8" action="ppaction://hlinksldjump"/>
              </a:rPr>
              <a:t>Football Stadium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9" action="ppaction://hlinksldjump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0" action="ppaction://hlinksldjump"/>
              </a:rPr>
              <a:t>Entertainment Centre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1" action="ppaction://hlinksldjump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2" action="ppaction://hlinksldjump"/>
              </a:rPr>
              <a:t>Convention &amp; Exhibition Centre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3" action="ppaction://hlinksldjump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4" action="ppaction://hlinksldjump"/>
              </a:rPr>
              <a:t>Brisbane Cricket Ground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5" action="ppaction://hlinksldjump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6" action="ppaction://hlinksldjump"/>
              </a:rPr>
              <a:t>Beach Volleyball Centre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7" action="ppaction://hlinksldjump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771640" y="1700280"/>
            <a:ext cx="5761080" cy="37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Pojemność obiektu: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 6 tys. miejsc</a:t>
            </a:r>
            <a:br>
              <a:rPr sz="1400"/>
            </a:br>
            <a:br>
              <a:rPr sz="1400"/>
            </a:b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Dyscypliny: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Kolarstwo torowe</a:t>
            </a:r>
            <a:br>
              <a:rPr sz="1400"/>
            </a:br>
            <a:br>
              <a:rPr sz="1400"/>
            </a:b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Krótka charakterystyka obiektu: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Najnowocześniejszy taki obiekt w Australii, nazwany imieniem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Dunca Graya, który zdobył dla Australii pierwszy złoty meda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olimpijski w kolarstwie, podczas igrzysk w Los Angeles w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1932 roku. Mieści się w parku rekreacyjnym w Bankstown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ielokulturowej dzielnicy na przedmieściach Sydney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Na metalowym dachu umieszczono światła w ten sposób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by eliminowały cień z zewnątrz, ale również ni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powodowały odblasków od „kosmicznych” strojów kolarzy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Ułożenie siedzeń wzięto z greckich amfiteatrów, więc nikt nie ma gorszego widoku. 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8"/>
          <a:stretch/>
        </p:blipFill>
        <p:spPr>
          <a:xfrm>
            <a:off x="6300720" y="1268280"/>
            <a:ext cx="2249640" cy="15336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 txBox="1"/>
          <p:nvPr/>
        </p:nvSpPr>
        <p:spPr>
          <a:xfrm>
            <a:off x="4500720" y="6308640"/>
            <a:ext cx="457200" cy="219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Menu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</p:spTree>
  </p:cSld>
  <p:transition spd="med"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2627280" y="1197000"/>
            <a:ext cx="0" cy="4680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1484280"/>
            <a:ext cx="2843280" cy="35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Dunc Gray Velodro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Bruce Stadi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Blacktown Olympic Cent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Tennis Cent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uperDom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tate Hockey Centr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Ryde Aquatic Centr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Olimpic Stadiu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Melbourne Cricket Groun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International Regatta Centr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Baseball Stadiu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Football Stadiu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tertainment Centr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Convention &amp; Exhibition Centr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Brisbane Cricket Groun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Beach Volleyball Centr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771640" y="333360"/>
            <a:ext cx="382932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Bruce Stadium 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2916360" y="1700280"/>
            <a:ext cx="4572000" cy="37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Pojemność obiektu: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 25 tys. miejsc</a:t>
            </a:r>
            <a:br>
              <a:rPr sz="1400"/>
            </a:br>
            <a:br>
              <a:rPr sz="1400"/>
            </a:b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Dyscypliny: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Piłka nożna</a:t>
            </a:r>
            <a:br>
              <a:rPr sz="1400"/>
            </a:br>
            <a:br>
              <a:rPr sz="1400"/>
            </a:b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Krótka charakterystyka obiektu: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Obiekt wybudowany w 1977 roku, jako główna aren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Igrzysk Pacyfiku. Mimo, iż o wiele częściej odbywają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się tam zawody w rugby, piłkarze nie muszą obawia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się o doping, bowiem w Canberrze rozgrywa swoj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mecze piłkarska reprezentacja Australii... kobiet. Stadion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 kształcie kotła, sąsiaduje z Australijskim Instytutem Sportu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 kameralnej atmosferze kibice siedzą bardzo blisko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bo jedynie 50 metrów płyty boiska. 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6443640" y="1413000"/>
            <a:ext cx="2251080" cy="128592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0" y="1484280"/>
            <a:ext cx="2843280" cy="37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Dunc Gray Velodro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Bruce Stadi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Blacktown Olympic Cent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Tennis Cent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SuperDom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7" action="ppaction://hlinksldjump"/>
              </a:rPr>
              <a:t>State Hockey Centre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8" action="ppaction://hlinksldjump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9" action="ppaction://hlinksldjump"/>
              </a:rPr>
              <a:t>Ryde Aquatic Centre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0" action="ppaction://hlinksldjump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1" action="ppaction://hlinksldjump"/>
              </a:rPr>
              <a:t>Olimpic Stadium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2" action="ppaction://hlinksldjump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3" action="ppaction://hlinksldjump"/>
              </a:rPr>
              <a:t>Melbourne Cricket Ground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4" action="ppaction://hlinksldjump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5" action="ppaction://hlinksldjump"/>
              </a:rPr>
              <a:t>International Regatta Centre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6" action="ppaction://hlinksldjump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7" action="ppaction://hlinksldjump"/>
              </a:rPr>
              <a:t>Baseball Stadium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8" action="ppaction://hlinksldjump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9" action="ppaction://hlinksldjump"/>
              </a:rPr>
              <a:t>Football Stadium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0" action="ppaction://hlinksldjump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1" action="ppaction://hlinksldjump"/>
              </a:rPr>
              <a:t>Entertainment Centre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2" action="ppaction://hlinksldjump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3" action="ppaction://hlinksldjump"/>
              </a:rPr>
              <a:t>Convention &amp; Exhibition Centre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4" action="ppaction://hlinksldjump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5" action="ppaction://hlinksldjump"/>
              </a:rPr>
              <a:t>Brisbane Cricket Ground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6" action="ppaction://hlinksldjump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7" action="ppaction://hlinksldjump"/>
              </a:rPr>
              <a:t>Beach Volleyball Centre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8" action="ppaction://hlinksldjump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00720" y="6308640"/>
            <a:ext cx="457200" cy="219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Menu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</p:spTree>
  </p:cSld>
  <p:transition spd="med"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2627280" y="1197000"/>
            <a:ext cx="0" cy="4680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1484280"/>
            <a:ext cx="2843280" cy="35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Dunc Gray Velodro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Bruce Stadi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Blacktown Olympic Cent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Tennis Cent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uperDom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tate Hockey Centr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Ryde Aquatic Centr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Olimpic Stadiu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Melbourne Cricket Groun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International Regatta Centr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Baseball Stadiu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Football Stadiu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tertainment Centr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Convention &amp; Exhibition Centr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Brisbane Cricket Groun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Beach Volleyball Centr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476360" y="404640"/>
            <a:ext cx="681048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Blacktown Olympic Centre 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9" name=""/>
          <p:cNvSpPr/>
          <p:nvPr/>
        </p:nvSpPr>
        <p:spPr>
          <a:xfrm>
            <a:off x="2700360" y="1989000"/>
            <a:ext cx="619272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Pojemność obiektu: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 8 tys. miejsc</a:t>
            </a:r>
            <a:br>
              <a:rPr sz="1400"/>
            </a:br>
            <a:br>
              <a:rPr sz="1400"/>
            </a:b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Dyscypliny: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Baseball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Softball</a:t>
            </a:r>
            <a:br>
              <a:rPr sz="1400"/>
            </a:br>
            <a:br>
              <a:rPr sz="1400"/>
            </a:b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Krótka charakterystyka obiektu: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Odbędą się tu eliminacyjne mecze i treningi baseballistów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oraz cały turniej softballu. Odpowiadające wszelkim międzynarodowym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standardom boisko do baseballu może być sztucznie oświetlone, za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softballiści mają główną płytę, z trybunami na 8000 osób i tablicą świetlną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oraz dwie treningowe, z ręcznymi tablicami wyników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6300720" y="1413000"/>
            <a:ext cx="2251080" cy="14191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0" y="1484280"/>
            <a:ext cx="2843280" cy="37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Dunc Gray Velodro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Bruce Stadi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Blacktown Olympic Cent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Tennis Cent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SuperDom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7" action="ppaction://hlinksldjump"/>
              </a:rPr>
              <a:t>State Hockey Centre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8" action="ppaction://hlinksldjump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9" action="ppaction://hlinksldjump"/>
              </a:rPr>
              <a:t>Ryde Aquatic Centre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0" action="ppaction://hlinksldjump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1" action="ppaction://hlinksldjump"/>
              </a:rPr>
              <a:t>Olimpic Stadium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2" action="ppaction://hlinksldjump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3" action="ppaction://hlinksldjump"/>
              </a:rPr>
              <a:t>Melbourne Cricket Ground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4" action="ppaction://hlinksldjump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5" action="ppaction://hlinksldjump"/>
              </a:rPr>
              <a:t>International Regatta Centre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6" action="ppaction://hlinksldjump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7" action="ppaction://hlinksldjump"/>
              </a:rPr>
              <a:t>Baseball Stadium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8" action="ppaction://hlinksldjump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9" action="ppaction://hlinksldjump"/>
              </a:rPr>
              <a:t>Football Stadium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0" action="ppaction://hlinksldjump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1" action="ppaction://hlinksldjump"/>
              </a:rPr>
              <a:t>Entertainment Centre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2" action="ppaction://hlinksldjump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3" action="ppaction://hlinksldjump"/>
              </a:rPr>
              <a:t>Convention &amp; Exhibition Centre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4" action="ppaction://hlinksldjump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5" action="ppaction://hlinksldjump"/>
              </a:rPr>
              <a:t>Brisbane Cricket Ground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6" action="ppaction://hlinksldjump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7" action="ppaction://hlinksldjump"/>
              </a:rPr>
              <a:t>Beach Volleyball Centre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8" action="ppaction://hlinksldjump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419720" y="6324480"/>
            <a:ext cx="457200" cy="219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Menu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</p:spTree>
  </p:cSld>
  <p:transition spd="med"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2627280" y="1197000"/>
            <a:ext cx="0" cy="4680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1484280"/>
            <a:ext cx="2843280" cy="35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Dunc Gray Velodro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Bruce Stadi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Blacktown Olympic Cent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Tennis Cent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uperDom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tate Hockey Centr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Ryde Aquatic Centr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Olimpic Stadiu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Melbourne Cricket Groun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International Regatta Centr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Baseball Stadiu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Football Stadiu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tertainment Centr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Convention &amp; Exhibition Centr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Brisbane Cricket Groun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Beach Volleyball Centr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2700360" y="476280"/>
            <a:ext cx="364788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Tennis Centre 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16" name=""/>
          <p:cNvSpPr/>
          <p:nvPr/>
        </p:nvSpPr>
        <p:spPr>
          <a:xfrm>
            <a:off x="2916360" y="1628640"/>
            <a:ext cx="4572000" cy="32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Pojemność obiektu: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 10 tys. miejsc</a:t>
            </a:r>
            <a:br>
              <a:rPr sz="1400"/>
            </a:br>
            <a:br>
              <a:rPr sz="1400"/>
            </a:b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Dyscypliny: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Tenis ziemny</a:t>
            </a:r>
            <a:br>
              <a:rPr sz="1400"/>
            </a:br>
            <a:br>
              <a:rPr sz="1400"/>
            </a:b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Krótka charakterystyka obiektu: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Obiekt został wybudowany na terenie stare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toru wyścigów konnych. Całość składa się z główneg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kortu centralnego, który mieści około 10 000 osób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plus oświetlenie zamontowane na dachu, oraz siedem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mniejszych kortów meczowych i sześć treningowych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Konsultantami przy budowie kompleksu byli m.in. budowniczowi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kortu centralnego na Wimbledonie. 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443640" y="1341360"/>
            <a:ext cx="2251080" cy="13050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0" y="1484280"/>
            <a:ext cx="2843280" cy="37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Dunc Gray Velodro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Bruce Stadi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Blacktown Olympic Cent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Tennis Cent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SuperDom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7" action="ppaction://hlinksldjump"/>
              </a:rPr>
              <a:t>State Hockey Centre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8" action="ppaction://hlinksldjump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9" action="ppaction://hlinksldjump"/>
              </a:rPr>
              <a:t>Ryde Aquatic Centre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0" action="ppaction://hlinksldjump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1" action="ppaction://hlinksldjump"/>
              </a:rPr>
              <a:t>Olimpic Stadium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2" action="ppaction://hlinksldjump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3" action="ppaction://hlinksldjump"/>
              </a:rPr>
              <a:t>Melbourne Cricket Ground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4" action="ppaction://hlinksldjump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5" action="ppaction://hlinksldjump"/>
              </a:rPr>
              <a:t>International Regatta Centre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6" action="ppaction://hlinksldjump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7" action="ppaction://hlinksldjump"/>
              </a:rPr>
              <a:t>Baseball Stadium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8" action="ppaction://hlinksldjump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9" action="ppaction://hlinksldjump"/>
              </a:rPr>
              <a:t>Football Stadium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0" action="ppaction://hlinksldjump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1" action="ppaction://hlinksldjump"/>
              </a:rPr>
              <a:t>Entertainment Centre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2" action="ppaction://hlinksldjump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3" action="ppaction://hlinksldjump"/>
              </a:rPr>
              <a:t>Convention &amp; Exhibition Centre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4" action="ppaction://hlinksldjump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5" action="ppaction://hlinksldjump"/>
              </a:rPr>
              <a:t>Brisbane Cricket Ground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6" action="ppaction://hlinksldjump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7" action="ppaction://hlinksldjump"/>
              </a:rPr>
              <a:t>Beach Volleyball Centre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8" action="ppaction://hlinksldjump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00720" y="6308640"/>
            <a:ext cx="457200" cy="219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Menu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</p:spTree>
  </p:cSld>
  <p:transition spd="med"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2627280" y="1197000"/>
            <a:ext cx="0" cy="4680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1484280"/>
            <a:ext cx="2843280" cy="35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Dunc Gray Velodro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Bruce Stadi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Blacktown Olympic Cent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Tennis Cent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uperDom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tate Hockey Centr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Ryde Aquatic Centr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Olimpic Stadiu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Melbourne Cricket Groun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International Regatta Centr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Baseball Stadiu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Football Stadiu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tertainment Centr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Convention &amp; Exhibition Centr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Brisbane Cricket Groun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Beach Volleyball Centr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771640" y="476280"/>
            <a:ext cx="301968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uperDome 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23" name=""/>
          <p:cNvSpPr/>
          <p:nvPr/>
        </p:nvSpPr>
        <p:spPr>
          <a:xfrm>
            <a:off x="2700360" y="1628640"/>
            <a:ext cx="6246720" cy="32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Pojemność obiektu: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 18 tys. miejsc</a:t>
            </a:r>
            <a:br>
              <a:rPr sz="1400"/>
            </a:br>
            <a:br>
              <a:rPr sz="1400"/>
            </a:b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Dyscypliny: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Gimnastyka sportowa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Koszykówka</a:t>
            </a:r>
            <a:br>
              <a:rPr sz="1400"/>
            </a:br>
            <a:br>
              <a:rPr sz="1400"/>
            </a:b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Krótka charakterystyka obiektu: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Jest to w pełni zadaszona hala sportowa, nie mają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ewnątrz żadnych kolumn, dzięki czemu nic ni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przeszkadza w oglądaniu zawodów. Jeśli kibicowi zdarz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się coś przegapić, zawsze może obejrzeć powtórkę n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jednym z czterech wielkich telebimów, a dzięki profesjonalnemu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nagłośnieniu na żadnym z pięciu pięter trybun nikomu ni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powinien umknąć żaden dźwięk. 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6372360" y="1268280"/>
            <a:ext cx="2249280" cy="15336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0" y="1484280"/>
            <a:ext cx="2843280" cy="37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Dunc Gray Velodro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Bruce Stadi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Blacktown Olympic Cent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Tennis Cent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SuperDom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7" action="ppaction://hlinksldjump"/>
              </a:rPr>
              <a:t>State Hockey Centre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8" action="ppaction://hlinksldjump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9" action="ppaction://hlinksldjump"/>
              </a:rPr>
              <a:t>Ryde Aquatic Centre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0" action="ppaction://hlinksldjump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1" action="ppaction://hlinksldjump"/>
              </a:rPr>
              <a:t>Olimpic Stadium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2" action="ppaction://hlinksldjump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3" action="ppaction://hlinksldjump"/>
              </a:rPr>
              <a:t>Melbourne Cricket Ground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4" action="ppaction://hlinksldjump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5" action="ppaction://hlinksldjump"/>
              </a:rPr>
              <a:t>International Regatta Centre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6" action="ppaction://hlinksldjump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7" action="ppaction://hlinksldjump"/>
              </a:rPr>
              <a:t>Baseball Stadium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8" action="ppaction://hlinksldjump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9" action="ppaction://hlinksldjump"/>
              </a:rPr>
              <a:t>Football Stadium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0" action="ppaction://hlinksldjump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1" action="ppaction://hlinksldjump"/>
              </a:rPr>
              <a:t>Entertainment Centre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2" action="ppaction://hlinksldjump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3" action="ppaction://hlinksldjump"/>
              </a:rPr>
              <a:t>Convention &amp; Exhibition Centre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4" action="ppaction://hlinksldjump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5" action="ppaction://hlinksldjump"/>
              </a:rPr>
              <a:t>Brisbane Cricket Ground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6" action="ppaction://hlinksldjump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7" action="ppaction://hlinksldjump"/>
              </a:rPr>
              <a:t>Beach Volleyball Centre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8" action="ppaction://hlinksldjump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00720" y="6308640"/>
            <a:ext cx="457200" cy="219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Menu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</p:spTree>
  </p:cSld>
  <p:transition spd="med"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2627280" y="1197000"/>
            <a:ext cx="0" cy="4680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1484280"/>
            <a:ext cx="2843280" cy="35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Dunc Gray Velodro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Bruce Stadi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Blacktown Olympic Cent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Tennis Cent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uperDom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tate Hockey Centr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Ryde Aquatic Centr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Olimpic Stadiu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Melbourne Cricket Groun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International Regatta Centr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Baseball Stadiu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Football Stadiu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tertainment Centr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Convention &amp; Exhibition Centr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Brisbane Cricket Groun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Beach Volleyball Centr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2124000" y="476280"/>
            <a:ext cx="534348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tate Hockey Centre 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30" name=""/>
          <p:cNvSpPr/>
          <p:nvPr/>
        </p:nvSpPr>
        <p:spPr>
          <a:xfrm>
            <a:off x="2843280" y="1700280"/>
            <a:ext cx="6534000" cy="28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ojemność obiektu: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15 tys. miejsc</a:t>
            </a:r>
            <a:br>
              <a:rPr sz="1400"/>
            </a:b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yscypliny: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okej na trawie</a:t>
            </a:r>
            <a:br>
              <a:rPr sz="1400"/>
            </a:b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rótka charakterystyka obiektu: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den z najpiękniejszych obiektów tego typu na świeci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yntetyczna nawierzchnia, imponujące wieże oświetleniow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i – jak na wszystkich obiektach olimpijskich – brak kolumn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dpór i wszelkich rzeczy mogących przeszkadzać kibicom 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glądaniu sportowego widowiska. Obyśmy jak najdłużej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glądali tam reprezentantów Polski... 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156360" y="1413000"/>
            <a:ext cx="2805120" cy="98568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0" y="1484280"/>
            <a:ext cx="2843280" cy="37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Dunc Gray Velodro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Bruce Stadi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Blacktown Olympic Cent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Tennis Cent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SuperDom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7" action="ppaction://hlinksldjump"/>
              </a:rPr>
              <a:t>State Hockey Centre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8" action="ppaction://hlinksldjump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9" action="ppaction://hlinksldjump"/>
              </a:rPr>
              <a:t>Ryde Aquatic Centre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0" action="ppaction://hlinksldjump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1" action="ppaction://hlinksldjump"/>
              </a:rPr>
              <a:t>Olimpic Stadium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2" action="ppaction://hlinksldjump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3" action="ppaction://hlinksldjump"/>
              </a:rPr>
              <a:t>Melbourne Cricket Ground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4" action="ppaction://hlinksldjump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5" action="ppaction://hlinksldjump"/>
              </a:rPr>
              <a:t>International Regatta Centre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6" action="ppaction://hlinksldjump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7" action="ppaction://hlinksldjump"/>
              </a:rPr>
              <a:t>Baseball Stadium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8" action="ppaction://hlinksldjump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9" action="ppaction://hlinksldjump"/>
              </a:rPr>
              <a:t>Football Stadium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0" action="ppaction://hlinksldjump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1" action="ppaction://hlinksldjump"/>
              </a:rPr>
              <a:t>Entertainment Centre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2" action="ppaction://hlinksldjump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3" action="ppaction://hlinksldjump"/>
              </a:rPr>
              <a:t>Convention &amp; Exhibition Centre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4" action="ppaction://hlinksldjump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5" action="ppaction://hlinksldjump"/>
              </a:rPr>
              <a:t>Brisbane Cricket Ground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6" action="ppaction://hlinksldjump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7" action="ppaction://hlinksldjump"/>
              </a:rPr>
              <a:t>Beach Volleyball Centre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8" action="ppaction://hlinksldjump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00720" y="6308640"/>
            <a:ext cx="457200" cy="219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Menu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</p:spTree>
  </p:cSld>
  <p:transition spd="med"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2627280" y="1197000"/>
            <a:ext cx="0" cy="4680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1484280"/>
            <a:ext cx="2843280" cy="35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Dunc Gray Velodro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Bruce Stadi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Blacktown Olympic Cent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Tennis Cent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uperDom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tate Hockey Centr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Ryde Aquatic Centr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Olimpic Stadiu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Melbourne Cricket Groun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International Regatta Centr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Baseball Stadiu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Football Stadiu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tertainment Centr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Convention &amp; Exhibition Centr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Brisbane Cricket Groun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Beach Volleyball Centr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2124000" y="404640"/>
            <a:ext cx="513396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Ryde Aquatic Centre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37" name=""/>
          <p:cNvSpPr/>
          <p:nvPr/>
        </p:nvSpPr>
        <p:spPr>
          <a:xfrm>
            <a:off x="2771640" y="1916280"/>
            <a:ext cx="457200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ojemność obiektu: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4 tys. miejsc</a:t>
            </a:r>
            <a:br>
              <a:rPr sz="1400"/>
            </a:b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yscypliny: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iłka wodna</a:t>
            </a:r>
            <a:br>
              <a:rPr sz="1400"/>
            </a:b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rótka charakterystyka obiektu: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ieloczynnościowy obiekt, który podcza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grzysk będzie służył waterpolistom, oraz d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eningów pływaków. Na terenie jest również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niejszy basen, służący zawodnikom do rozgrzewki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516720" y="1557360"/>
            <a:ext cx="2251080" cy="126684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0" y="1484280"/>
            <a:ext cx="2843280" cy="37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Dunc Gray Velodro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Bruce Stadi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Blacktown Olympic Cent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Tennis Cent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SuperDom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7" action="ppaction://hlinksldjump"/>
              </a:rPr>
              <a:t>State Hockey Centre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8" action="ppaction://hlinksldjump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9" action="ppaction://hlinksldjump"/>
              </a:rPr>
              <a:t>Ryde Aquatic Centre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0" action="ppaction://hlinksldjump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1" action="ppaction://hlinksldjump"/>
              </a:rPr>
              <a:t>Olimpic Stadium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2" action="ppaction://hlinksldjump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3" action="ppaction://hlinksldjump"/>
              </a:rPr>
              <a:t>Melbourne Cricket Ground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4" action="ppaction://hlinksldjump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5" action="ppaction://hlinksldjump"/>
              </a:rPr>
              <a:t>International Regatta Centre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6" action="ppaction://hlinksldjump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7" action="ppaction://hlinksldjump"/>
              </a:rPr>
              <a:t>Baseball Stadium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8" action="ppaction://hlinksldjump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9" action="ppaction://hlinksldjump"/>
              </a:rPr>
              <a:t>Football Stadium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0" action="ppaction://hlinksldjump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1" action="ppaction://hlinksldjump"/>
              </a:rPr>
              <a:t>Entertainment Centre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2" action="ppaction://hlinksldjump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3" action="ppaction://hlinksldjump"/>
              </a:rPr>
              <a:t>Convention &amp; Exhibition Centre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4" action="ppaction://hlinksldjump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5" action="ppaction://hlinksldjump"/>
              </a:rPr>
              <a:t>Brisbane Cricket Ground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6" action="ppaction://hlinksldjump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7" action="ppaction://hlinksldjump"/>
              </a:rPr>
              <a:t>Beach Volleyball Centre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8" action="ppaction://hlinksldjump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00720" y="6308640"/>
            <a:ext cx="457200" cy="219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Menu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</p:spTree>
  </p:cSld>
  <p:transition spd="med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1692360" y="620640"/>
            <a:ext cx="577224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Informacje o Przebiegu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68360" y="2060640"/>
            <a:ext cx="2228760" cy="34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Inaugurcja Igrzysk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3048120"/>
            <a:ext cx="2486160" cy="34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Zakończenie Igrzysk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3505320"/>
            <a:ext cx="2924280" cy="34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Podsumowanie Olimpiad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00720" y="5950080"/>
            <a:ext cx="457200" cy="21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Menu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2514600"/>
            <a:ext cx="1352520" cy="28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Ciekawostki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med">
    <p:dissolve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2484360" y="476280"/>
            <a:ext cx="426744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Olimpic Stadium 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42" name=""/>
          <p:cNvSpPr/>
          <p:nvPr/>
        </p:nvSpPr>
        <p:spPr>
          <a:xfrm>
            <a:off x="2627280" y="1197000"/>
            <a:ext cx="0" cy="4680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1484280"/>
            <a:ext cx="2843280" cy="35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Dunc Gray Velodro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Bruce Stadi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Blacktown Olympic Cent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Tennis Cent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uperDom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tate Hockey Centr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Ryde Aquatic Centr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Olimpic Stadiu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Melbourne Cricket Groun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International Regatta Centr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Baseball Stadiu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Football Stadiu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tertainment Centr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Convention &amp; Exhibition Centr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Brisbane Cricket Groun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Beach Volleyball Centr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771640" y="1341360"/>
            <a:ext cx="658836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Pojemność obiektu: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 110 tys. miejsc</a:t>
            </a:r>
            <a:br>
              <a:rPr sz="1400"/>
            </a:br>
            <a:br>
              <a:rPr sz="1400"/>
            </a:b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Dyscypliny: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Lekkoatletyka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Piłka nożna</a:t>
            </a:r>
            <a:br>
              <a:rPr sz="1400"/>
            </a:br>
            <a:br>
              <a:rPr sz="1400"/>
            </a:b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Krótka charakterystyka obiektu: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Główna arena Igrzysk Olimpijskich w Sydney i miło mieć świadomość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że autorem projektu Stadionu Olimpijskiego jest Polak, Edmund Obiała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Australijczycy zapiszą się w historii nowożytnych igrzysk, bowiem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110-tysięczny obiekt to największy stadion na powietrzu, który w ciągu 104 la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gościł olimpijczyków. Na murawie zmieściłyby się, stając obok siebie..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cztery Boeingi 747! To jeden z niewielu obiektów sportowych na świecie, który daje pełnię możliwości oglądania                                                                  zawodów kibicom i kamerom telewizyjnym,   bez potrzeb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pełnego zamykani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konstrukcji dachem. Struktura zadaszenia i kolumn powoduje, że dostęp cienia i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bezpośrednich promieni słonecznych na murawę jest bliski zeru. Stadion Olimpijski gościł już duż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imprezy sportowe, a mecz rugby pomiędzy Australią i Nową Zelandią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zgromadził rekordową w historii tej dyscypliny widownię, 107 042 ludzi! Po igrzyskach zmienion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została konfiguracja widowni i pozostanie 80 000 miejsc. 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6588000" y="1268280"/>
            <a:ext cx="2206800" cy="12286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0" y="1484280"/>
            <a:ext cx="2843280" cy="37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Dunc Gray Velodro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Bruce Stadi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Blacktown Olympic Cent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Tennis Cent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SuperDom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7" action="ppaction://hlinksldjump"/>
              </a:rPr>
              <a:t>State Hockey Centre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8" action="ppaction://hlinksldjump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9" action="ppaction://hlinksldjump"/>
              </a:rPr>
              <a:t>Ryde Aquatic Centre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0" action="ppaction://hlinksldjump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1" action="ppaction://hlinksldjump"/>
              </a:rPr>
              <a:t>Olimpic Stadium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2" action="ppaction://hlinksldjump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3" action="ppaction://hlinksldjump"/>
              </a:rPr>
              <a:t>Melbourne Cricket Ground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4" action="ppaction://hlinksldjump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5" action="ppaction://hlinksldjump"/>
              </a:rPr>
              <a:t>International Regatta Centre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6" action="ppaction://hlinksldjump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7" action="ppaction://hlinksldjump"/>
              </a:rPr>
              <a:t>Baseball Stadium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8" action="ppaction://hlinksldjump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9" action="ppaction://hlinksldjump"/>
              </a:rPr>
              <a:t>Football Stadium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0" action="ppaction://hlinksldjump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1" action="ppaction://hlinksldjump"/>
              </a:rPr>
              <a:t>Entertainment Centre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2" action="ppaction://hlinksldjump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3" action="ppaction://hlinksldjump"/>
              </a:rPr>
              <a:t>Convention &amp; Exhibition Centre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4" action="ppaction://hlinksldjump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5" action="ppaction://hlinksldjump"/>
              </a:rPr>
              <a:t>Brisbane Cricket Ground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6" action="ppaction://hlinksldjump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7" action="ppaction://hlinksldjump"/>
              </a:rPr>
              <a:t>Beach Volleyball Centre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8" action="ppaction://hlinksldjump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00720" y="6308640"/>
            <a:ext cx="457200" cy="219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Menu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</p:spTree>
  </p:cSld>
  <p:transition spd="med"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2627280" y="1197000"/>
            <a:ext cx="0" cy="4680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484280"/>
            <a:ext cx="2843280" cy="35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Dunc Gray Velodro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Bruce Stadi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Blacktown Olympic Cent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Tennis Cent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uperDom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tate Hockey Centr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Ryde Aquatic Centr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Olimpic Stadiu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Melbourne Cricket Groun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International Regatta Centr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Baseball Stadiu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Football Stadiu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tertainment Centr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Convention &amp; Exhibition Centr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Brisbane Cricket Groun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Beach Volleyball Centr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1332000" y="333360"/>
            <a:ext cx="668664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Melbourne Cricket Ground 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51" name=""/>
          <p:cNvSpPr/>
          <p:nvPr/>
        </p:nvSpPr>
        <p:spPr>
          <a:xfrm>
            <a:off x="2843280" y="1773360"/>
            <a:ext cx="4572000" cy="32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ojemność obiektu: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90 tys. miejsc</a:t>
            </a:r>
            <a:br>
              <a:rPr sz="1400"/>
            </a:b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yscypliny: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iłka nożna</a:t>
            </a:r>
            <a:br>
              <a:rPr sz="1400"/>
            </a:b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rótka charakterystyka obiektu: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den z największych obiektów sportowych w Australii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ymbol bogatego sportowego folkloru tego kraju. Co roku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dbywa się na nim ponad 90 meczów krykieta i futbolu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stralijskiego, a przez bramy przechodzi ponad 3,5 miliona fanów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u igrzyska rozpoczną się już 13. września, meczami eliminacyjnymi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urniejów mężczyzn i kobie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6516720" y="1413000"/>
            <a:ext cx="2251080" cy="130464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0" y="1484280"/>
            <a:ext cx="2843280" cy="37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Dunc Gray Velodro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Bruce Stadi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Blacktown Olympic Cent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Tennis Cent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SuperDom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7" action="ppaction://hlinksldjump"/>
              </a:rPr>
              <a:t>State Hockey Centre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8" action="ppaction://hlinksldjump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9" action="ppaction://hlinksldjump"/>
              </a:rPr>
              <a:t>Ryde Aquatic Centre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0" action="ppaction://hlinksldjump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1" action="ppaction://hlinksldjump"/>
              </a:rPr>
              <a:t>Olimpic Stadium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2" action="ppaction://hlinksldjump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3" action="ppaction://hlinksldjump"/>
              </a:rPr>
              <a:t>Melbourne Cricket Ground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4" action="ppaction://hlinksldjump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5" action="ppaction://hlinksldjump"/>
              </a:rPr>
              <a:t>International Regatta Centre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6" action="ppaction://hlinksldjump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7" action="ppaction://hlinksldjump"/>
              </a:rPr>
              <a:t>Baseball Stadium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8" action="ppaction://hlinksldjump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9" action="ppaction://hlinksldjump"/>
              </a:rPr>
              <a:t>Football Stadium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0" action="ppaction://hlinksldjump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1" action="ppaction://hlinksldjump"/>
              </a:rPr>
              <a:t>Entertainment Centre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2" action="ppaction://hlinksldjump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3" action="ppaction://hlinksldjump"/>
              </a:rPr>
              <a:t>Convention &amp; Exhibition Centre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4" action="ppaction://hlinksldjump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5" action="ppaction://hlinksldjump"/>
              </a:rPr>
              <a:t>Brisbane Cricket Ground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6" action="ppaction://hlinksldjump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7" action="ppaction://hlinksldjump"/>
              </a:rPr>
              <a:t>Beach Volleyball Centre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8" action="ppaction://hlinksldjump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00720" y="6308640"/>
            <a:ext cx="457200" cy="219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Menu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</p:spTree>
  </p:cSld>
  <p:transition spd="med"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27280" y="1197000"/>
            <a:ext cx="0" cy="4680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1484280"/>
            <a:ext cx="2843280" cy="35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Dunc Gray Velodro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Bruce Stadi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Blacktown Olympic Cent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Tennis Cent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uperDom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tate Hockey Centr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Ryde Aquatic Centr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Olimpic Stadiu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Melbourne Cricket Groun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International Regatta Centr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Baseball Stadiu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Football Stadiu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tertainment Centr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Convention &amp; Exhibition Centr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Brisbane Cricket Groun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Beach Volleyball Centr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900000" y="476280"/>
            <a:ext cx="731520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International Regatta Centre 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58" name=""/>
          <p:cNvSpPr/>
          <p:nvPr/>
        </p:nvSpPr>
        <p:spPr>
          <a:xfrm>
            <a:off x="2771640" y="1700280"/>
            <a:ext cx="597708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Pojemność obiektu: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 27 tys. miejsc</a:t>
            </a:r>
            <a:br>
              <a:rPr sz="1400"/>
            </a:br>
            <a:br>
              <a:rPr sz="1400"/>
            </a:b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Dyscypliny: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ioślarstwo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Kajakarstwo</a:t>
            </a:r>
            <a:br>
              <a:rPr sz="1400"/>
            </a:br>
            <a:br>
              <a:rPr sz="1400"/>
            </a:b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Krótka charakterystyka obiektu: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Na początku organizatorzy mieli kłopoty, by w okolicach Sydney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gdzie na wodzie jest pełno komercyjnych statków, znaleźć dw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kilometry prostej drogi i spokojnej wody. Kiedy już się to udało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złoty medalista olimpijski, kajakarz Clint Robinson, ocenił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"To jeden z najlepszych torów na świecie". Ustawienie toru n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linii wschód – zachód, powoduje, że niepotrzebna jest klimatyzacja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którą świetnie zastępują letnie wiatry znad wody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6588000" y="1700280"/>
            <a:ext cx="2249640" cy="80964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0" y="1484280"/>
            <a:ext cx="2843280" cy="37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Dunc Gray Velodro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Bruce Stadi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Blacktown Olympic Cent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Tennis Cent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SuperDom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7" action="ppaction://hlinksldjump"/>
              </a:rPr>
              <a:t>State Hockey Centre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8" action="ppaction://hlinksldjump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9" action="ppaction://hlinksldjump"/>
              </a:rPr>
              <a:t>Ryde Aquatic Centre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0" action="ppaction://hlinksldjump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1" action="ppaction://hlinksldjump"/>
              </a:rPr>
              <a:t>Olimpic Stadium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2" action="ppaction://hlinksldjump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3" action="ppaction://hlinksldjump"/>
              </a:rPr>
              <a:t>Melbourne Cricket Ground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4" action="ppaction://hlinksldjump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5" action="ppaction://hlinksldjump"/>
              </a:rPr>
              <a:t>International Regatta Centre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6" action="ppaction://hlinksldjump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7" action="ppaction://hlinksldjump"/>
              </a:rPr>
              <a:t>Baseball Stadium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8" action="ppaction://hlinksldjump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9" action="ppaction://hlinksldjump"/>
              </a:rPr>
              <a:t>Football Stadium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0" action="ppaction://hlinksldjump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1" action="ppaction://hlinksldjump"/>
              </a:rPr>
              <a:t>Entertainment Centre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2" action="ppaction://hlinksldjump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3" action="ppaction://hlinksldjump"/>
              </a:rPr>
              <a:t>Convention &amp; Exhibition Centre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4" action="ppaction://hlinksldjump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5" action="ppaction://hlinksldjump"/>
              </a:rPr>
              <a:t>Brisbane Cricket Ground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6" action="ppaction://hlinksldjump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7" action="ppaction://hlinksldjump"/>
              </a:rPr>
              <a:t>Beach Volleyball Centre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8" action="ppaction://hlinksldjump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500720" y="6308640"/>
            <a:ext cx="457200" cy="219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Menu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</p:spTree>
  </p:cSld>
  <p:transition spd="med"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2627280" y="1197000"/>
            <a:ext cx="0" cy="4680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1484280"/>
            <a:ext cx="2843280" cy="35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Dunc Gray Velodro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Bruce Stadi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Blacktown Olympic Cent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Tennis Cent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uperDom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tate Hockey Centr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Ryde Aquatic Centr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Olimpic Stadiu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Melbourne Cricket Groun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International Regatta Centr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Baseball Stadiu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Football Stadiu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tertainment Centr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Convention &amp; Exhibition Centr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Brisbane Cricket Groun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Beach Volleyball Centr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2268360" y="404640"/>
            <a:ext cx="451512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Baseball Stadium 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65" name=""/>
          <p:cNvSpPr/>
          <p:nvPr/>
        </p:nvSpPr>
        <p:spPr>
          <a:xfrm>
            <a:off x="2843280" y="1844640"/>
            <a:ext cx="5905440" cy="28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Pojemność obiektu: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 20 tys. miejsc</a:t>
            </a:r>
            <a:br>
              <a:rPr sz="1400"/>
            </a:br>
            <a:br>
              <a:rPr sz="1400"/>
            </a:b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Dyscypliny: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Baseball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Pięciobój nowoczesny</a:t>
            </a:r>
            <a:br>
              <a:rPr sz="1400"/>
            </a:br>
            <a:br>
              <a:rPr sz="1400"/>
            </a:b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Krótka charakterystyka obiektu: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Elegancka trybuna główna i ładnie obsadzone trawą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otoczenie dają wiele możliwości oglądania widowiska sportowego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Siedząc na dole, można najlepiej przyglądać się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meczowi baseballowemu, podczas, gdy górne trybun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pozwalają na szerszy ogląd sytuacji, z widokiem na centrum Sydney w tl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6516720" y="1557360"/>
            <a:ext cx="2249280" cy="113328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0" y="1484280"/>
            <a:ext cx="2843280" cy="37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Dunc Gray Velodro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Bruce Stadi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Blacktown Olympic Cent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Tennis Cent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SuperDom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7" action="ppaction://hlinksldjump"/>
              </a:rPr>
              <a:t>State Hockey Centre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8" action="ppaction://hlinksldjump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9" action="ppaction://hlinksldjump"/>
              </a:rPr>
              <a:t>Ryde Aquatic Centre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0" action="ppaction://hlinksldjump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1" action="ppaction://hlinksldjump"/>
              </a:rPr>
              <a:t>Olimpic Stadium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2" action="ppaction://hlinksldjump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3" action="ppaction://hlinksldjump"/>
              </a:rPr>
              <a:t>Melbourne Cricket Ground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4" action="ppaction://hlinksldjump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5" action="ppaction://hlinksldjump"/>
              </a:rPr>
              <a:t>International Regatta Centre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6" action="ppaction://hlinksldjump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7" action="ppaction://hlinksldjump"/>
              </a:rPr>
              <a:t>Baseball Stadium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8" action="ppaction://hlinksldjump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9" action="ppaction://hlinksldjump"/>
              </a:rPr>
              <a:t>Football Stadium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0" action="ppaction://hlinksldjump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1" action="ppaction://hlinksldjump"/>
              </a:rPr>
              <a:t>Entertainment Centre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2" action="ppaction://hlinksldjump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3" action="ppaction://hlinksldjump"/>
              </a:rPr>
              <a:t>Convention &amp; Exhibition Centre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4" action="ppaction://hlinksldjump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5" action="ppaction://hlinksldjump"/>
              </a:rPr>
              <a:t>Brisbane Cricket Ground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6" action="ppaction://hlinksldjump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7" action="ppaction://hlinksldjump"/>
              </a:rPr>
              <a:t>Beach Volleyball Centre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8" action="ppaction://hlinksldjump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00720" y="6308640"/>
            <a:ext cx="457200" cy="219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Menu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</p:spTree>
  </p:cSld>
  <p:transition spd="med"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2484360" y="404640"/>
            <a:ext cx="439128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Football Stadium 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70" name=""/>
          <p:cNvSpPr/>
          <p:nvPr/>
        </p:nvSpPr>
        <p:spPr>
          <a:xfrm>
            <a:off x="2627280" y="1197000"/>
            <a:ext cx="0" cy="4680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1484280"/>
            <a:ext cx="2843280" cy="35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Dunc Gray Velodro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Bruce Stadi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Blacktown Olympic Cent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Tennis Cent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uperDom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tate Hockey Centr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Ryde Aquatic Centr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Olimpic Stadiu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Melbourne Cricket Groun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International Regatta Centr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Baseball Stadiu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Football Stadiu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tertainment Centr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Convention &amp; Exhibition Centr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Brisbane Cricket Groun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Beach Volleyball Centr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3280" y="1989000"/>
            <a:ext cx="595800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Pojemność obiektu: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 42 tys. miejsc</a:t>
            </a:r>
            <a:br>
              <a:rPr sz="1400"/>
            </a:br>
            <a:br>
              <a:rPr sz="1400"/>
            </a:b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Dyscypliny: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Piłka nożna</a:t>
            </a:r>
            <a:br>
              <a:rPr sz="1400"/>
            </a:br>
            <a:br>
              <a:rPr sz="1400"/>
            </a:b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Krótka charakterystyka obiektu: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Obszar Parku Moore’a to jedno z ważniejszych pod względ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sportowym miejsc w Sydney, mieszczące stadion piłkarski 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obiekt do krykieta. Zlokalizowany na wschodnich przedmieściach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Sydney, w pobliżu ma dużo kawiarni, restauracji, pubów i sklepów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6443640" y="1628640"/>
            <a:ext cx="2251080" cy="122904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0" y="1484280"/>
            <a:ext cx="2843280" cy="37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Dunc Gray Velodro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Bruce Stadi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Blacktown Olympic Cent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Tennis Cent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SuperDom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7" action="ppaction://hlinksldjump"/>
              </a:rPr>
              <a:t>State Hockey Centre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8" action="ppaction://hlinksldjump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9" action="ppaction://hlinksldjump"/>
              </a:rPr>
              <a:t>Ryde Aquatic Centre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0" action="ppaction://hlinksldjump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1" action="ppaction://hlinksldjump"/>
              </a:rPr>
              <a:t>Olimpic Stadium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2" action="ppaction://hlinksldjump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3" action="ppaction://hlinksldjump"/>
              </a:rPr>
              <a:t>Melbourne Cricket Ground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4" action="ppaction://hlinksldjump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5" action="ppaction://hlinksldjump"/>
              </a:rPr>
              <a:t>International Regatta Centre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6" action="ppaction://hlinksldjump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7" action="ppaction://hlinksldjump"/>
              </a:rPr>
              <a:t>Baseball Stadium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8" action="ppaction://hlinksldjump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9" action="ppaction://hlinksldjump"/>
              </a:rPr>
              <a:t>Football Stadium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0" action="ppaction://hlinksldjump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1" action="ppaction://hlinksldjump"/>
              </a:rPr>
              <a:t>Entertainment Centre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2" action="ppaction://hlinksldjump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3" action="ppaction://hlinksldjump"/>
              </a:rPr>
              <a:t>Convention &amp; Exhibition Centre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4" action="ppaction://hlinksldjump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5" action="ppaction://hlinksldjump"/>
              </a:rPr>
              <a:t>Brisbane Cricket Ground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6" action="ppaction://hlinksldjump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7" action="ppaction://hlinksldjump"/>
              </a:rPr>
              <a:t>Beach Volleyball Centre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8" action="ppaction://hlinksldjump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00720" y="6308640"/>
            <a:ext cx="457200" cy="219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Menu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</p:spTree>
  </p:cSld>
  <p:transition spd="med"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2843280" y="1773360"/>
            <a:ext cx="6551640" cy="32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Pojemność obiektu: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 11 tys. miejsc</a:t>
            </a:r>
            <a:br>
              <a:rPr sz="1400"/>
            </a:br>
            <a:br>
              <a:rPr sz="1400"/>
            </a:b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Dyscypliny: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Siatkówka</a:t>
            </a:r>
            <a:br>
              <a:rPr sz="1400"/>
            </a:br>
            <a:br>
              <a:rPr sz="1400"/>
            </a:b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Krótka charakterystyka obiektu: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Najpopularniejsza... scena muzyczna w Sydney, na której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ystępowała między innymi Metallica. Właściwie jest t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obiekt wielozadaniowy, który przyjmował już cyrki, przedstawieni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baletowe, zawody w łyżwiarstwie figurowym, tenis i motocros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Przez 17 lat istnienia "Centrum Zabawy" przyjęło około 2500 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mprez, które oglądało ponad 15 milionów ludzi. Mieści się w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Zatoce Darling, kilka minut spaceru od centrum miasta, w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atrakcyjnej dla turystów chińskiej dzielnicy. 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627280" y="1197000"/>
            <a:ext cx="0" cy="4680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1484280"/>
            <a:ext cx="2843280" cy="35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Dunc Gray Velodro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Bruce Stadi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Blacktown Olympic Cent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Tennis Cent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uperDom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tate Hockey Centr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Ryde Aquatic Centr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Olimpic Stadiu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Melbourne Cricket Groun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International Regatta Centr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Baseball Stadiu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Football Stadiu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tertainment Centr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Convention &amp; Exhibition Centr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Brisbane Cricket Groun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Beach Volleyball Centr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1547640" y="404640"/>
            <a:ext cx="554364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Entertainment Centre 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6516720" y="1341360"/>
            <a:ext cx="2251080" cy="113364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0" y="1484280"/>
            <a:ext cx="2843280" cy="37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Dunc Gray Velodro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Bruce Stadi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Blacktown Olympic Cent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Tennis Cent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SuperDom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7" action="ppaction://hlinksldjump"/>
              </a:rPr>
              <a:t>State Hockey Centre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8" action="ppaction://hlinksldjump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9" action="ppaction://hlinksldjump"/>
              </a:rPr>
              <a:t>Ryde Aquatic Centre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0" action="ppaction://hlinksldjump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1" action="ppaction://hlinksldjump"/>
              </a:rPr>
              <a:t>Olimpic Stadium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2" action="ppaction://hlinksldjump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3" action="ppaction://hlinksldjump"/>
              </a:rPr>
              <a:t>Melbourne Cricket Ground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4" action="ppaction://hlinksldjump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5" action="ppaction://hlinksldjump"/>
              </a:rPr>
              <a:t>International Regatta Centre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6" action="ppaction://hlinksldjump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7" action="ppaction://hlinksldjump"/>
              </a:rPr>
              <a:t>Baseball Stadium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8" action="ppaction://hlinksldjump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9" action="ppaction://hlinksldjump"/>
              </a:rPr>
              <a:t>Football Stadium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0" action="ppaction://hlinksldjump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1" action="ppaction://hlinksldjump"/>
              </a:rPr>
              <a:t>Entertainment Centre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2" action="ppaction://hlinksldjump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3" action="ppaction://hlinksldjump"/>
              </a:rPr>
              <a:t>Convention &amp; Exhibition Centre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4" action="ppaction://hlinksldjump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5" action="ppaction://hlinksldjump"/>
              </a:rPr>
              <a:t>Brisbane Cricket Ground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6" action="ppaction://hlinksldjump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7" action="ppaction://hlinksldjump"/>
              </a:rPr>
              <a:t>Beach Volleyball Centre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8" action="ppaction://hlinksldjump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00720" y="6308640"/>
            <a:ext cx="457200" cy="219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Menu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</p:spTree>
  </p:cSld>
  <p:transition spd="med">
    <p:dissolv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2627280" y="1197000"/>
            <a:ext cx="0" cy="4680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1484280"/>
            <a:ext cx="2843280" cy="35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Dunc Gray Velodro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Bruce Stadi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Blacktown Olympic Cent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Tennis Cent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uperDom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tate Hockey Centr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Ryde Aquatic Centr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Olimpic Stadiu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Melbourne Cricket Groun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International Regatta Centr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Baseball Stadiu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Football Stadiu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tertainment Centr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Convention &amp; Exhibition Centr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Brisbane Cricket Groun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Beach Volleyball Centr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68360" y="404640"/>
            <a:ext cx="801036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Convention &amp; Exhibition Centre 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86" name=""/>
          <p:cNvSpPr/>
          <p:nvPr/>
        </p:nvSpPr>
        <p:spPr>
          <a:xfrm>
            <a:off x="2771640" y="1413000"/>
            <a:ext cx="6372360" cy="45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Pojemność obiektu: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 10 tys. miejsc</a:t>
            </a:r>
            <a:br>
              <a:rPr sz="1400"/>
            </a:br>
            <a:br>
              <a:rPr sz="1400"/>
            </a:b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Dyscypliny: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Boks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Podnoszenie Ciężarów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Judo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Szermierka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Zapasy</a:t>
            </a:r>
            <a:br>
              <a:rPr sz="1400"/>
            </a:br>
            <a:br>
              <a:rPr sz="1400"/>
            </a:b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Krótka charakterystyka obiektu: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Przystań Darling to jedno z ulubionych miejsc weekendoweg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ypoczynku mieszkańców Sydney. Organizatorzy szacują, ż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podczas igrzysk pojawi się tam - bagatela - ponad 4 milion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idzów! Mnóstwo deptaków, piękne widoki, restauracje, hotele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butiki, czy centra kulturalne powodują, że Przystań Darling jest wręcz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ymarzonym miejscem do rozgrywania tak wielu widowiskowych dyscyplin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Z centrum wystawowego, gdzie wystąpią ciężarowcy, judocy, zapaśnicy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bokserzy i szermierze, jest wszędzie blisko. Centrum Wystawowe jes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zresztą dobrze znane kibicom - to właśnie tam zdecydowano o przyznaniu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Sydney igrzysk i zaprezentowano oficjalne logo imprezy. 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300720" y="1628640"/>
            <a:ext cx="2249640" cy="115272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0" y="1484280"/>
            <a:ext cx="2843280" cy="37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Dunc Gray Velodro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Bruce Stadi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Blacktown Olympic Cent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Tennis Cent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SuperDom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7" action="ppaction://hlinksldjump"/>
              </a:rPr>
              <a:t>State Hockey Centre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8" action="ppaction://hlinksldjump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9" action="ppaction://hlinksldjump"/>
              </a:rPr>
              <a:t>Ryde Aquatic Centre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0" action="ppaction://hlinksldjump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1" action="ppaction://hlinksldjump"/>
              </a:rPr>
              <a:t>Olimpic Stadium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2" action="ppaction://hlinksldjump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3" action="ppaction://hlinksldjump"/>
              </a:rPr>
              <a:t>Melbourne Cricket Ground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4" action="ppaction://hlinksldjump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5" action="ppaction://hlinksldjump"/>
              </a:rPr>
              <a:t>International Regatta Centre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6" action="ppaction://hlinksldjump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7" action="ppaction://hlinksldjump"/>
              </a:rPr>
              <a:t>Baseball Stadium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8" action="ppaction://hlinksldjump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9" action="ppaction://hlinksldjump"/>
              </a:rPr>
              <a:t>Football Stadium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0" action="ppaction://hlinksldjump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1" action="ppaction://hlinksldjump"/>
              </a:rPr>
              <a:t>Entertainment Centre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2" action="ppaction://hlinksldjump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3" action="ppaction://hlinksldjump"/>
              </a:rPr>
              <a:t>Convention &amp; Exhibition Centre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4" action="ppaction://hlinksldjump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5" action="ppaction://hlinksldjump"/>
              </a:rPr>
              <a:t>Brisbane Cricket Ground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6" action="ppaction://hlinksldjump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7" action="ppaction://hlinksldjump"/>
              </a:rPr>
              <a:t>Beach Volleyball Centre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8" action="ppaction://hlinksldjump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00720" y="6308640"/>
            <a:ext cx="457200" cy="219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Menu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</p:spTree>
  </p:cSld>
  <p:transition spd="med">
    <p:dissolv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1403280" y="404640"/>
            <a:ext cx="627696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Brisbane Cricket Ground 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91" name=""/>
          <p:cNvSpPr/>
          <p:nvPr/>
        </p:nvSpPr>
        <p:spPr>
          <a:xfrm>
            <a:off x="2627280" y="1197000"/>
            <a:ext cx="0" cy="4680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0" y="1484280"/>
            <a:ext cx="2843280" cy="35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Dunc Gray Velodro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Bruce Stadi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Blacktown Olympic Cent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Tennis Cent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uperDom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tate Hockey Centr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Ryde Aquatic Centr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Olimpic Stadiu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Melbourne Cricket Groun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International Regatta Centr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Baseball Stadiu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Football Stadiu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tertainment Centr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Convention &amp; Exhibition Centr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Brisbane Cricket Groun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Beach Volleyball Centr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916360" y="2060640"/>
            <a:ext cx="457200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ojemność obiektu: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37,5 tys. miejsc</a:t>
            </a:r>
            <a:br>
              <a:rPr sz="1400"/>
            </a:b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yscypliny: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iłka nożna</a:t>
            </a:r>
            <a:br>
              <a:rPr sz="1400"/>
            </a:b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rótka charakterystyka obiektu: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biekt mocno przebudowany po 1993 roku –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wa trybuna główna, oświetlenie, oraz tabli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świetlna. Sześć spotkań eliminacyjnych i ćwierćfinał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urnieju olimpijskiego to największa imprez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ortowa, jaką do tej pory gościł ten obiek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6588000" y="1773360"/>
            <a:ext cx="2238480" cy="92376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0" y="1484280"/>
            <a:ext cx="2843280" cy="37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Dunc Gray Velodro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Bruce Stadi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Blacktown Olympic Cent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Tennis Cent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SuperDom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7" action="ppaction://hlinksldjump"/>
              </a:rPr>
              <a:t>State Hockey Centre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8" action="ppaction://hlinksldjump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9" action="ppaction://hlinksldjump"/>
              </a:rPr>
              <a:t>Ryde Aquatic Centre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0" action="ppaction://hlinksldjump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1" action="ppaction://hlinksldjump"/>
              </a:rPr>
              <a:t>Olimpic Stadium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2" action="ppaction://hlinksldjump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3" action="ppaction://hlinksldjump"/>
              </a:rPr>
              <a:t>Melbourne Cricket Ground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4" action="ppaction://hlinksldjump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5" action="ppaction://hlinksldjump"/>
              </a:rPr>
              <a:t>International Regatta Centre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6" action="ppaction://hlinksldjump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7" action="ppaction://hlinksldjump"/>
              </a:rPr>
              <a:t>Baseball Stadium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8" action="ppaction://hlinksldjump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9" action="ppaction://hlinksldjump"/>
              </a:rPr>
              <a:t>Football Stadium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0" action="ppaction://hlinksldjump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1" action="ppaction://hlinksldjump"/>
              </a:rPr>
              <a:t>Entertainment Centre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2" action="ppaction://hlinksldjump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3" action="ppaction://hlinksldjump"/>
              </a:rPr>
              <a:t>Convention &amp; Exhibition Centre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4" action="ppaction://hlinksldjump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5" action="ppaction://hlinksldjump"/>
              </a:rPr>
              <a:t>Brisbane Cricket Ground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6" action="ppaction://hlinksldjump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7" action="ppaction://hlinksldjump"/>
              </a:rPr>
              <a:t>Beach Volleyball Centre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8" action="ppaction://hlinksldjump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500720" y="6308640"/>
            <a:ext cx="457200" cy="219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Menu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</p:spTree>
  </p:cSld>
  <p:transition spd="med">
    <p:dissolv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1476360" y="476280"/>
            <a:ext cx="615312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Beach Volleyball Centre 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98" name=""/>
          <p:cNvSpPr/>
          <p:nvPr/>
        </p:nvSpPr>
        <p:spPr>
          <a:xfrm>
            <a:off x="2627280" y="1197000"/>
            <a:ext cx="0" cy="4680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0" y="1484280"/>
            <a:ext cx="2843280" cy="35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Dunc Gray Velodro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Bruce Stadi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Blacktown Olympic Cent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Tennis Cent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uperDom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tate Hockey Centr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Ryde Aquatic Centr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Olimpic Stadiu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Melbourne Cricket Groun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International Regatta Centr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Baseball Stadiu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Football Stadiu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tertainment Centr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Convention &amp; Exhibition Centr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Brisbane Cricket Groun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Beach Volleyball Centr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771640" y="1773360"/>
            <a:ext cx="6048360" cy="28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Pojemność obiektu: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 10 tys. miejsc</a:t>
            </a:r>
            <a:br>
              <a:rPr sz="1400"/>
            </a:br>
            <a:br>
              <a:rPr sz="1400"/>
            </a:b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Dyscypliny: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Siatkówka plażowa</a:t>
            </a:r>
            <a:br>
              <a:rPr sz="1400"/>
            </a:br>
            <a:br>
              <a:rPr sz="1400"/>
            </a:b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Krótka charakterystyka obiektu: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Dla mieszkańców Sydney plaża Bondi to synonim słońca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surfowania i bycia razem z pozostałymi ludźmi. Ustawion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specjalnie na igrzyska boisko ulokowane jest naprzeciw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budynków na plaży, a wokół kortu zmieściło się nawe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10 000 kibiców. Oczywiście wokół niego znajdują się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place treningowe, rozgrzewkowe, oraz te, na których były rozgryw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mniej ważne mecz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6892920" y="1413000"/>
            <a:ext cx="2251080" cy="124776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0" y="1484280"/>
            <a:ext cx="2843280" cy="37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Dunc Gray Velodro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Bruce Stadi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Blacktown Olympic Cent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Tennis Cent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SuperDom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7" action="ppaction://hlinksldjump"/>
              </a:rPr>
              <a:t>State Hockey Centre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8" action="ppaction://hlinksldjump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9" action="ppaction://hlinksldjump"/>
              </a:rPr>
              <a:t>Ryde Aquatic Centre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0" action="ppaction://hlinksldjump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1" action="ppaction://hlinksldjump"/>
              </a:rPr>
              <a:t>Olimpic Stadium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2" action="ppaction://hlinksldjump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3" action="ppaction://hlinksldjump"/>
              </a:rPr>
              <a:t>Melbourne Cricket Ground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4" action="ppaction://hlinksldjump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5" action="ppaction://hlinksldjump"/>
              </a:rPr>
              <a:t>International Regatta Centre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6" action="ppaction://hlinksldjump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7" action="ppaction://hlinksldjump"/>
              </a:rPr>
              <a:t>Baseball Stadium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8" action="ppaction://hlinksldjump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9" action="ppaction://hlinksldjump"/>
              </a:rPr>
              <a:t>Football Stadium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0" action="ppaction://hlinksldjump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1" action="ppaction://hlinksldjump"/>
              </a:rPr>
              <a:t>Entertainment Centre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2" action="ppaction://hlinksldjump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3" action="ppaction://hlinksldjump"/>
              </a:rPr>
              <a:t>Convention &amp; Exhibition Centre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4" action="ppaction://hlinksldjump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5" action="ppaction://hlinksldjump"/>
              </a:rPr>
              <a:t>Brisbane Cricket Ground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6" action="ppaction://hlinksldjump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7" action="ppaction://hlinksldjump"/>
              </a:rPr>
              <a:t>Beach Volleyball Centre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8" action="ppaction://hlinksldjump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00720" y="6308640"/>
            <a:ext cx="457200" cy="219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Menu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</p:spTree>
  </p:cSld>
  <p:transition spd="med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1371600" y="609480"/>
            <a:ext cx="641988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Podsumowanie Olimpiady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5" name=""/>
          <p:cNvSpPr/>
          <p:nvPr/>
        </p:nvSpPr>
        <p:spPr>
          <a:xfrm>
            <a:off x="533520" y="1752480"/>
            <a:ext cx="815328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1 października dokładnie o 21.16 (w Polsce była wtedy godzina 12.16) zgasł znicz na stadionie olimpijskim w Sydney i Igrzyska XXVII Olimpiady przeszły do historii.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Ostatnie w tym stuleciu igrzyska były wyjątkowe. Doskonała organizacja, bardzo wysoki poziom sportowy i wspaniała atmosfera zawodów. Były to największe zawody sportowe w historii igrzysk. Wystapiła w nich rekordowa liczba </a:t>
            </a:r>
            <a:r>
              <a:rPr b="1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11 035 sportowców</a:t>
            </a:r>
            <a:r>
              <a:rPr b="0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 reprezentujących aż </a:t>
            </a:r>
            <a:r>
              <a:rPr b="1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199 krajów</a:t>
            </a:r>
            <a:r>
              <a:rPr b="0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. Rozegrano też najwięcej konkurencji — aż 300, czyli o 29 więcej niż na poprzednich igrzyskach w Atlancie.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Pod względem sportowym zawody zdominowali sportowcy </a:t>
            </a:r>
            <a:r>
              <a:rPr b="1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USA</a:t>
            </a:r>
            <a:r>
              <a:rPr b="0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, którzy zdobyli </a:t>
            </a:r>
            <a:r>
              <a:rPr b="1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97 medali</a:t>
            </a:r>
            <a:r>
              <a:rPr b="0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 (w tym 39 złotych). Bardzo dobrze zaprezentowali się gospodarze, Australijczycy, którzy wywalczyli aż 48 medali (w tym 16 złotych) zajmując czwarte miejsce w końcowej klasyfikacji. Ekipa polska może się pochawlić </a:t>
            </a:r>
            <a:r>
              <a:rPr b="1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14 medlami</a:t>
            </a:r>
            <a:r>
              <a:rPr b="0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 (6 złotych, 5 srebrnych i 3 brązowe) i 14 miejscem w klasyfikacji medalowej. Czy był to dobry występ naszych sportowców?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Pod względem liczby medali był to najgorszy występ Polaków od czasu poprzednich australijskich igrzysk w Melbeurne (1956), kiedy to wywalczyliśmy tylko 9 miejsc na podium. Najwięcej, 32 medale Polacy przywieźli z Moskwy (1980), ale to były bardzo "okrojone" igrzyska. Pod względem liczby tytułów mistrzowskich australijski wytęp jest jednak piątym w historii. Tylko w Tokio (1964), Monachium (1972), Montrealu (1976) i Atlancie (1996) polscy sportowcy wywalczyli więcej złotych medali (po 7).</a:t>
            </a: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8458200" y="6324480"/>
            <a:ext cx="457200" cy="24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Dalej</a:t>
            </a:r>
            <a:endParaRPr b="0" lang="en-US" sz="1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419720" y="6248520"/>
            <a:ext cx="457200" cy="21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Menu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</p:spTree>
  </p:cSld>
  <p:transition spd="med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57200" y="762120"/>
            <a:ext cx="83818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W Sydney dobrze zaprezentowała się polska młodzież. Tytuły mistrzów wywalczyli młociarze </a:t>
            </a:r>
            <a:r>
              <a:rPr b="1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Szymion Ziółkowski</a:t>
            </a:r>
            <a:r>
              <a:rPr b="0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 i </a:t>
            </a:r>
            <a:r>
              <a:rPr b="1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Kamila Skolimowska</a:t>
            </a:r>
            <a:r>
              <a:rPr b="0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 oraz wioślarze </a:t>
            </a:r>
            <a:r>
              <a:rPr b="1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Tomasz Kucharski</a:t>
            </a:r>
            <a:r>
              <a:rPr b="0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, </a:t>
            </a:r>
            <a:r>
              <a:rPr b="1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Robert Sycz</a:t>
            </a:r>
            <a:r>
              <a:rPr b="0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. Srebrne medale z igrzysk przywieźli sztangiści </a:t>
            </a:r>
            <a:r>
              <a:rPr b="1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Szymon Kołecki</a:t>
            </a:r>
            <a:r>
              <a:rPr b="0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 i </a:t>
            </a:r>
            <a:r>
              <a:rPr b="1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Agata Wróbel</a:t>
            </a:r>
            <a:r>
              <a:rPr b="0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, kajakarze </a:t>
            </a:r>
            <a:r>
              <a:rPr b="1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Krzysztof Kołomański</a:t>
            </a:r>
            <a:r>
              <a:rPr b="0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, </a:t>
            </a:r>
            <a:r>
              <a:rPr b="1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Michał Staniszewski</a:t>
            </a:r>
            <a:r>
              <a:rPr b="0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 i </a:t>
            </a:r>
            <a:r>
              <a:rPr b="1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Paweł Baraszkiewicz</a:t>
            </a:r>
            <a:r>
              <a:rPr b="0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, </a:t>
            </a:r>
            <a:r>
              <a:rPr b="1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Daniel Jędraszko</a:t>
            </a:r>
            <a:r>
              <a:rPr b="0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 oraz </a:t>
            </a:r>
            <a:r>
              <a:rPr b="1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florecistki</a:t>
            </a:r>
            <a:r>
              <a:rPr b="0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. O niespodziankę postarał się też zdobywca brązu, gimnastyk </a:t>
            </a:r>
            <a:r>
              <a:rPr b="1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Leszek Blanik</a:t>
            </a:r>
            <a:r>
              <a:rPr b="0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. Zawiedli doświadczeni zawodnicy, z </a:t>
            </a:r>
            <a:r>
              <a:rPr b="1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Pawłem Nastulą, Andrzejem Wrońskim, Włodzimierzem Zawadzkim, Ryszardem Wolnym, Rafałem Kubackim i Beatą Maksymow</a:t>
            </a:r>
            <a:r>
              <a:rPr b="0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 na czele. Honor "starych mistrzów" obronili jednak mistrzowie z Atlanty, którzy powtórzyli swoje sukcesy w Sydney: </a:t>
            </a:r>
            <a:r>
              <a:rPr b="1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Renata Mauer-Różańska</a:t>
            </a:r>
            <a:r>
              <a:rPr b="0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 i </a:t>
            </a:r>
            <a:r>
              <a:rPr b="1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Robert Korzeniowski</a:t>
            </a:r>
            <a:r>
              <a:rPr b="0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. Dwa tytuły mistrzowskie w Sydney sprawiły, że Korzeniowski stał się jednym z bohaterów igrzysk.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Jednak nie jego gwiazda świeciła w Sydney najjaśniej. </a:t>
            </a:r>
            <a:r>
              <a:rPr b="1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Trzy tytuły</a:t>
            </a:r>
            <a:r>
              <a:rPr b="0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 wywalczyło aż sześcioro sportowców: amerykańska lekkoatletka </a:t>
            </a:r>
            <a:r>
              <a:rPr b="1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Marion Jones</a:t>
            </a:r>
            <a:r>
              <a:rPr b="0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 (3 złota i 2 brązy), pływaczki — Holenderka </a:t>
            </a:r>
            <a:r>
              <a:rPr b="1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Inge de Bruijn</a:t>
            </a:r>
            <a:r>
              <a:rPr b="0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 (3 złota, 1 srebro) i Amerykanka </a:t>
            </a:r>
            <a:r>
              <a:rPr b="1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Jenny Thompson</a:t>
            </a:r>
            <a:r>
              <a:rPr b="0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 (3 złota, 1 brąz), specjalistka kolarstwa torowego i szosowego — Holenderka </a:t>
            </a:r>
            <a:r>
              <a:rPr b="1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Leontien Zijlaard</a:t>
            </a:r>
            <a:r>
              <a:rPr b="0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 (3 złota, 1 brąz) oraz australijski pływak — </a:t>
            </a:r>
            <a:r>
              <a:rPr b="1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Ian Thorpe</a:t>
            </a:r>
            <a:r>
              <a:rPr b="0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 (3 złota, 2 srebra) i Amerykanin, także pływak, </a:t>
            </a:r>
            <a:r>
              <a:rPr b="1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Lenny Krayzelburg</a:t>
            </a:r>
            <a:r>
              <a:rPr b="0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 (3 złota). Najwięcej medali na igrzyskach w Sydney, aż </a:t>
            </a:r>
            <a:r>
              <a:rPr b="1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6</a:t>
            </a:r>
            <a:r>
              <a:rPr b="0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 zdobył jednak rosyjski gimnastyk </a:t>
            </a:r>
            <a:r>
              <a:rPr b="1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Aleksiej Nemow</a:t>
            </a:r>
            <a:r>
              <a:rPr b="0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 (2 złota, 1 srebro i 3 brązy).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Do grona najbardziej utytułowanych sportowców w historii igrzysk, po Sydney dołączyła </a:t>
            </a:r>
            <a:r>
              <a:rPr b="1" lang="pl-PL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Jenny Thompson</a:t>
            </a:r>
            <a:r>
              <a:rPr b="0" lang="pl-PL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, która wraz z trzema innymi sportowcami ma już w kolekcji 8 tytułów mistrzowskich. Po kolejnym tytule mistrzowskim siedmioma złotymi medalami może się pochwalić niemiecka kajakarka </a:t>
            </a:r>
            <a:r>
              <a:rPr b="1" lang="pl-PL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Birgit Fischer</a:t>
            </a:r>
            <a:r>
              <a:rPr b="0" lang="pl-PL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. Przypomnijmy, że w klasyfikacji wszech czasów prowadzą </a:t>
            </a:r>
            <a:r>
              <a:rPr b="1" lang="pl-PL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9-krotni mistrzowie</a:t>
            </a:r>
            <a:r>
              <a:rPr b="0" lang="pl-PL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 olimpijscy: amerykański lekkoatleta </a:t>
            </a:r>
            <a:r>
              <a:rPr b="1" lang="pl-PL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Carl Lewis</a:t>
            </a:r>
            <a:r>
              <a:rPr b="0" lang="pl-PL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, rosyjska gimnastyczka </a:t>
            </a:r>
            <a:r>
              <a:rPr b="1" lang="pl-PL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Łarisa Łatynina</a:t>
            </a:r>
            <a:r>
              <a:rPr b="0" lang="pl-PL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, fiński biegacz </a:t>
            </a:r>
            <a:r>
              <a:rPr b="1" lang="pl-PL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Paavo Nurmi</a:t>
            </a:r>
            <a:r>
              <a:rPr b="0" lang="pl-PL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 i amerykański pływak </a:t>
            </a:r>
            <a:r>
              <a:rPr b="1" lang="pl-PL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Mark Spitz</a:t>
            </a:r>
            <a:r>
              <a:rPr b="0" lang="pl-PL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. Z Polaków po </a:t>
            </a:r>
            <a:r>
              <a:rPr b="1" lang="pl-PL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trzy złote medale</a:t>
            </a:r>
            <a:r>
              <a:rPr b="0" lang="pl-PL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 mają </a:t>
            </a:r>
            <a:r>
              <a:rPr b="1" lang="pl-PL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Irena Szewińska</a:t>
            </a:r>
            <a:r>
              <a:rPr b="0" lang="pl-PL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 i </a:t>
            </a:r>
            <a:r>
              <a:rPr b="1" lang="pl-PL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Robert Korzeniowski</a:t>
            </a:r>
            <a:r>
              <a:rPr b="0" lang="pl-PL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04920" y="6324480"/>
            <a:ext cx="495360" cy="2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Wstecz</a:t>
            </a:r>
            <a:endParaRPr b="0" lang="en-US" sz="1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</p:spTree>
  </p:cSld>
  <p:transition spd="med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04920" y="1854720"/>
            <a:ext cx="8381880" cy="35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Tahoma"/>
                <a:ea typeface="Arial Unicode MS"/>
              </a:rPr>
              <a:t>Ponad cztery godziny trwała w Sydney barwna i wzruszająca ceremonia otwarcia </a:t>
            </a:r>
            <a:r>
              <a:rPr b="1" lang="pl-PL" sz="1400" spc="-1" strike="noStrike">
                <a:solidFill>
                  <a:srgbClr val="000000"/>
                </a:solidFill>
                <a:latin typeface="Tahoma"/>
              </a:rPr>
              <a:t>27 </a:t>
            </a:r>
            <a:r>
              <a:rPr b="1" lang="pl-PL" sz="1400" spc="-1" strike="noStrike">
                <a:solidFill>
                  <a:srgbClr val="000000"/>
                </a:solidFill>
                <a:latin typeface="Tahoma"/>
                <a:ea typeface="Arial Unicode MS"/>
              </a:rPr>
              <a:t>Igrzysk Olimpi</a:t>
            </a:r>
            <a:r>
              <a:rPr b="1" lang="pl-PL" sz="1400" spc="-1" strike="noStrike">
                <a:solidFill>
                  <a:srgbClr val="000000"/>
                </a:solidFill>
                <a:latin typeface="Tahoma"/>
              </a:rPr>
              <a:t>jskich</a:t>
            </a:r>
            <a:r>
              <a:rPr b="1" lang="pl-PL" sz="1400" spc="-1" strike="noStrike">
                <a:solidFill>
                  <a:srgbClr val="000000"/>
                </a:solidFill>
                <a:latin typeface="Tahoma"/>
                <a:ea typeface="Arial Unicode MS"/>
              </a:rPr>
              <a:t>. Zawierała ona wszystkie tradycyjne elementy ceremoniału olimpijskiego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Igrzyska otwarzył gubernator William Dean, przyrzeczenie </a:t>
            </a: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złożył </a:t>
            </a:r>
            <a:r>
              <a:rPr b="0" lang="pl-PL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Rachelle Hawkes (hokej na trawie), natomiast znicz zapaliła lekkoatletka Cathy Free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  <a:ea typeface="Arial Unicode MS"/>
              </a:rPr>
              <a:t>W części artystycznej widowiska wzięło udział ponad 12 tysięcy statystów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  <a:ea typeface="Arial Unicode MS"/>
              </a:rPr>
              <a:t>Na trybunach nowoczesnego stadionu, którego budową kierował polski inżynier, Edmund Obiała, zasiadło 110</a:t>
            </a: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l-PL" sz="1400" spc="-1" strike="noStrike">
                <a:solidFill>
                  <a:srgbClr val="000000"/>
                </a:solidFill>
                <a:latin typeface="Tahoma"/>
                <a:ea typeface="Arial Unicode MS"/>
              </a:rPr>
              <a:t>tysięcy widzów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  <a:ea typeface="Arial Unicode MS"/>
              </a:rPr>
              <a:t>Paradę 199 narodowych reprezentacji, zgodnie z olimpijską tradycją, rozpoczęła Grecj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  <a:ea typeface="Arial Unicode MS"/>
              </a:rPr>
              <a:t>Na czele reprezentacji Polski szedł z flagą narodową Andrzej Wroński, dwukrotny złot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  <a:ea typeface="Arial Unicode MS"/>
              </a:rPr>
              <a:t>medalista olimpijski w zapasach. Przysięgę olimpijską złożyła, w imieniu 10 tysięcy zawodników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  <a:ea typeface="Arial Unicode MS"/>
              </a:rPr>
              <a:t>reprezentantka Australii w hokeju na trawie - Rechelle Hawkes, po raz czwarty występująca na igrzyskach. Zaszczytu zapalenia świętego ognia od płomienia przeniesionego z</a:t>
            </a: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 greckiej Olimpii</a:t>
            </a:r>
            <a:r>
              <a:rPr b="0" lang="pl-PL" sz="1400" spc="-1" strike="noStrike">
                <a:solidFill>
                  <a:srgbClr val="000000"/>
                </a:solidFill>
                <a:latin typeface="Tahoma"/>
                <a:ea typeface="Arial Unicode MS"/>
              </a:rPr>
              <a:t> dostąpiła z kolei australijska Aborygenka, Cathy Freeman, mistrzyni świata w biegu na 400 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  <a:ea typeface="Arial Unicode MS"/>
              </a:rPr>
              <a:t>Olimpijski ogień zapłonął w czaszy, która wyłoniła się z wody.  Australijczycy przedstawili siebie całemu światu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pl-PL" sz="1400" spc="-1" strike="noStrike">
                <a:solidFill>
                  <a:srgbClr val="000000"/>
                </a:solidFill>
                <a:latin typeface="Tahoma"/>
                <a:ea typeface="Arial Unicode MS"/>
              </a:rPr>
              <a:t>nauguracja igrzysk w Sydney została wyreżyserowana przez Australijczyka Rica Bircha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1835280" y="620640"/>
            <a:ext cx="492444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Inauguracja Igrzysk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68360" y="6021360"/>
            <a:ext cx="598320" cy="22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Wstecz</a:t>
            </a:r>
            <a:endParaRPr b="0" lang="en-US" sz="1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</p:spTree>
  </p:cSld>
  <p:transition spd="med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1763640" y="620640"/>
            <a:ext cx="528660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Zakończenie Igrzysk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68360" y="6021360"/>
            <a:ext cx="598320" cy="22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Wstecz</a:t>
            </a:r>
            <a:endParaRPr b="0" lang="en-US" sz="1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pic>
        <p:nvPicPr>
          <p:cNvPr id="65" name="kon" descr=""/>
          <p:cNvPicPr/>
          <p:nvPr/>
        </p:nvPicPr>
        <p:blipFill>
          <a:blip r:embed="rId1"/>
          <a:stretch/>
        </p:blipFill>
        <p:spPr>
          <a:xfrm>
            <a:off x="7238880" y="2590920"/>
            <a:ext cx="1622520" cy="2286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914400" y="1600200"/>
            <a:ext cx="60958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400" spc="-1" strike="noStrike">
                <a:solidFill>
                  <a:srgbClr val="000000"/>
                </a:solidFill>
                <a:latin typeface="Verdana"/>
              </a:rPr>
              <a:t>"Jestem dumny i szczęśliwy mówiąc, że przygotowaliście światu najlepsze Igrzyska Olimpijskie w historii."</a:t>
            </a:r>
            <a:r>
              <a:rPr b="0" lang="pl-PL" sz="1400" spc="-1" strike="noStrike">
                <a:solidFill>
                  <a:srgbClr val="000000"/>
                </a:solidFill>
                <a:latin typeface="Verdana"/>
              </a:rPr>
              <a:t> - tak mówił podczas uroczystej ceremonii zamknięcia XXVII IO Sydney 2000 Prezydent Międzynarodowego Komitetu Olimpijskeigo </a:t>
            </a:r>
            <a:r>
              <a:rPr b="1" lang="pl-PL" sz="1400" spc="-1" strike="noStrike">
                <a:solidFill>
                  <a:srgbClr val="000000"/>
                </a:solidFill>
                <a:latin typeface="Verdana"/>
              </a:rPr>
              <a:t>JUAN ANTONIO SAMARANCH</a:t>
            </a:r>
            <a:r>
              <a:rPr b="0" lang="pl-PL" sz="14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pl-PL" sz="1400" spc="-1" strike="noStrike">
                <a:solidFill>
                  <a:srgbClr val="000000"/>
                </a:solidFill>
                <a:latin typeface="Tahoma CE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914400" y="2743200"/>
            <a:ext cx="5791320" cy="12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grzyska zakończono w niedzielę w wielkim stylu - myśliwiec F-111 przelatujący nas zgromadzonymi rozświetlił nocne australijskie niebo wielkim pióropuszem ognia, a zaraz po tym nastąpił spektakularny pokaz sztucznych ogni</a:t>
            </a:r>
            <a:r>
              <a:rPr b="0" lang="en-US" sz="1400" spc="-1" strike="noStrike">
                <a:solidFill>
                  <a:srgbClr val="000000"/>
                </a:solidFill>
                <a:latin typeface="Tahoma CE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914400" y="3886200"/>
            <a:ext cx="5486400" cy="12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o najmniej milion ludzi zgromadziło się na ceremonii zamknięcia, która nie bez powodu została obwołana jednym z największych i najbardziej spektakularnych pokazów pirotechnicznych, jakie widział świat.</a:t>
            </a:r>
            <a:r>
              <a:rPr b="0" lang="en-US" sz="1400" spc="-1" strike="noStrike">
                <a:solidFill>
                  <a:srgbClr val="000000"/>
                </a:solidFill>
                <a:latin typeface="Tahoma CE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371600" y="533520"/>
            <a:ext cx="64674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Najciekawsze wydarzeni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70" name=""/>
          <p:cNvSpPr/>
          <p:nvPr/>
        </p:nvSpPr>
        <p:spPr>
          <a:xfrm>
            <a:off x="457200" y="2209680"/>
            <a:ext cx="8686800" cy="243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-         </a:t>
            </a: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0" lang="pl-PL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stał pobity rekord pod względem liczby sportowców, wystąpiło 10651 </a:t>
            </a: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pl-PL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zawodników</a:t>
            </a: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-         w sumie swoich sportowców wystawiło 200 krajów</a:t>
            </a: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-         Korea Północna i Południowa wystąpiła pod jedn</a:t>
            </a: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ą</a:t>
            </a:r>
            <a:r>
              <a:rPr b="0" lang="pl-PL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flag</a:t>
            </a: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-         Zastosowano po raz pierwszy testy na EPO</a:t>
            </a: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 (niedozwolony doping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-         Po raz pierwszy kobiety wystąpiły w pięcioboju nowoczesnym</a:t>
            </a: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-         </a:t>
            </a:r>
            <a:r>
              <a:rPr b="0" lang="pl-PL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Pierwszy medal dla reprezentantki Sri Lanki, zdobywcą jest Susanthika </a:t>
            </a:r>
            <a:r>
              <a:rPr b="0" lang="pl-PL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Jayasinghe</a:t>
            </a: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380880" y="5943600"/>
            <a:ext cx="53352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Wstecz</a:t>
            </a:r>
            <a:endParaRPr b="0" lang="en-US" sz="1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</p:spTree>
  </p:cSld>
  <p:transition spd="med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2916360" y="620640"/>
            <a:ext cx="308592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Ciekawostki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304920" y="1523880"/>
            <a:ext cx="5943600" cy="35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Edmund Obiała - budowniczy stadionu w Sydne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304920" y="2057400"/>
            <a:ext cx="3638520" cy="36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Najciekawsze wydarzenia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68360" y="6021360"/>
            <a:ext cx="598320" cy="22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Wstecz</a:t>
            </a:r>
            <a:endParaRPr b="0" lang="en-US" sz="1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</p:spTree>
  </p:cSld>
  <p:transition spd="med">
    <p:dissolve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2743200" y="304920"/>
            <a:ext cx="3274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O Sydney...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77" name="jagiel33" descr=""/>
          <p:cNvPicPr/>
          <p:nvPr/>
        </p:nvPicPr>
        <p:blipFill>
          <a:blip r:embed="rId1"/>
          <a:stretch/>
        </p:blipFill>
        <p:spPr>
          <a:xfrm>
            <a:off x="533520" y="1295280"/>
            <a:ext cx="8229600" cy="44197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533520" y="1447920"/>
            <a:ext cx="8305560" cy="41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Sydney to największe miasto Australii (czasami mylnie uważane za stolice tego kraju), faktycznie jest stolicą     i głównym portem stanu Nowa Południowa Walia. Jest najstarszym miastem kontynentu, powstało w ok. 1788 r. wraz z przybyciem pierwszej grupy brytyjskich skazańców i funkcjonowało jako kolonia karna. Miasto zamieszkuje ok. 4 mln mieszkańców. Jest ono dużym centrum finansowo-handlowym na półkuli południowej, a także centrum przemysłowym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 Sydney znajduje się 9 uniwersytetów, politechnika, konserwatorium, liczne instytuty naukowe, muzea i galerie, słynny amfiteatr co tworzy go dużym ośrodkiem kulturalnym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Od 15 września do 1 października będzie stolicą sportu, w tym czasie do miasta przyjedzie ok. jedenastu tysięcy sportowców i ponad dziesięć milionów kibiców, turystów oraz dziennikarzy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Obiekty sportowe z największym w historii igrzysk stadionem (110 tysięcy widzów) znajdują się w Home Bush Bay. W mieście znajduje się dużo pływalni, kortów i stadionów. W Sydney modne jest spędzanie czasu na sportowo, dużo mieszkańców gra w krykieta, jeździ konno, uprawia joging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Pomoc w znalezieniu zakwaterowania oferuje Sydney Visitor Centre vcshare@shfa.nsw.gov.au Uzyskasz tam również informacje na temat wycieczek, miejsc w hotelach oraz informacje turystyczne. Informacje o mieście możesz znaleźć również na stronie www.smh.citysearch.com.au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 Sydney jest bardzo dużo restauracji, które oferują dania ze wszystkich krajów świata. Są one dobre    i tanie, w dużej części można wnosić własny alkohol. Jeszcze do niedawna każda restauracja w której sprzedawany był alkohol nazywany był hotelem, musiał on bowiem zapewnić nocleg wszystkim którzy zasiedzieli się przy barz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495680" y="6248520"/>
            <a:ext cx="457200" cy="21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Menu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</p:spTree>
  </p:cSld>
  <p:transition spd="med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3T17:49:17Z</dcterms:created>
  <dc:creator>mały!</dc:creator>
  <dc:description/>
  <dc:language>en-US</dc:language>
  <cp:lastModifiedBy>MEN</cp:lastModifiedBy>
  <dcterms:modified xsi:type="dcterms:W3CDTF">2004-04-01T13:42:15Z</dcterms:modified>
  <cp:revision>18</cp:revision>
  <dc:subject/>
  <dc:title>Slajd 1</dc:title>
</cp:coreProperties>
</file>