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wmf" ContentType="image/x-wmf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3.png" ContentType="image/png"/>
  <Override PartName="/ppt/media/image26.png" ContentType="image/png"/>
  <Override PartName="/ppt/media/image60.png" ContentType="image/png"/>
  <Override PartName="/ppt/media/image21.wmf" ContentType="image/x-wmf"/>
  <Override PartName="/ppt/media/image32.png" ContentType="image/png"/>
  <Override PartName="/ppt/media/image25.png" ContentType="image/png"/>
  <Override PartName="/ppt/media/image19.jpeg" ContentType="image/jpe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15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27.jpeg" ContentType="image/jpeg"/>
  <Override PartName="/ppt/media/image17.wmf" ContentType="image/x-wmf"/>
  <Override PartName="/ppt/media/image9.png" ContentType="image/png"/>
  <Override PartName="/ppt/media/image39.png" ContentType="image/png"/>
  <Override PartName="/ppt/media/image61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28.wmf" ContentType="image/x-wmf"/>
  <Override PartName="/ppt/media/image31.jpeg" ContentType="image/jpeg"/>
  <Override PartName="/ppt/media/image33.wmf" ContentType="image/x-wmf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jpeg" ContentType="image/jpeg"/>
  <Override PartName="/ppt/media/image56.wmf" ContentType="image/x-wmf"/>
  <Override PartName="/ppt/media/image50.png" ContentType="image/png"/>
  <Override PartName="/ppt/media/image51.png" ContentType="image/png"/>
  <Override PartName="/ppt/media/image55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B7CA-97B1-43DD-918C-D1419C16D7B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13920" y="4206960"/>
            <a:ext cx="6543720" cy="49370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spólnoty zmierzają m.in. 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znoszenia ceł i ograniczeń ilościowych w przywozie i wywozie towarów, jak również wszelkich innych środków wywierających podobny skute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tanowienia wspólnej taryfy celnej i wspólnej polity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handlowej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uwania wszelkich przeszkód w swobodnym przepływie osób, usług i kapitał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rzyjęcia wspólnej polityki w dziedzinie rolnictw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rzyjęcia wspólnej polityki w dziedzinie transportu, - ustanowienie systemu chroniącego przed naruszani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onkurencji na wspólnym rynk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zastosowania trybu postępowania, umożliwiając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oordynację polityki gospodarczej państw członkowsk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raz zapobieganie niezrównoważeniu ich bilans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łatniczych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zbliżania prawa krajowego państw członkowskich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kresie niezbędnym dla właściwego funkcjonow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spólnego rynku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30000" y="4562280"/>
            <a:ext cx="5670360" cy="37414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niesiono bariery celne oraz bariery technicz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(normy, standardy, przepisy), fiskalne (różne systemy podatkowe) i fizyczne (kontrole graniczne). Ustanowiono wspólną taryfę celną wobec krajów trzecich. Zniesiono ograniczenia ilościowe (zakazy importu i eksportu, kontyngenty) oraz np. regulacje dotyczące norm technicznych, składu produktu, rodzaju opakowania itp. Harmonizacja przepisów dotyczących norm, certyfikatów i podatków. Zasada wolnego przepływu towarów dotyczy wyrobów przemysłowych, oraz produktów rolnych i spożywczych. Wszystkie towary, które są produkowane i sprzedawane w jednym z krajów członkowskich, mogą być oferowane także w innych krajach Wspólno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50440" y="4421160"/>
            <a:ext cx="5986440" cy="347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bywatele państw członkowskich mają zapewnione prawo podejmowania pracy, osiedlenia się, życia, korzystania ze świadczeń socjalnych oraz do minimum pomocy w wybranym przez siebie kraju bez względu na przynależność państwową. Prawo pobytu mają nie tylko osoby aktywne ekonomicznie (pracujący lub poszukujący pracy) i ich rodziny, ale także studenci, emeryci i inni (warunkiem jest posiadanie wystarczających środków na utrzymanie oraz ubezpieczenie zdrowotne). Unijne regulacje      gwarantują także prawo do świadczeń socjalnych, także w dziedzinie edukacji i ochrony zdrowia (ulgi, zasiłki, stypendia itp.) oraz wzajemne uznawanie dyplom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393480" y="4343400"/>
            <a:ext cx="6143400" cy="35179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Usługi to świadczenia wykonywane w ramach prowadzonej działalności handlowej, przemysłowej, rzemieślniczej oraz wolnych zawodów (np. lekarze, prawnicy). Wykonywanie usługi jest ograniczone czasowo i musi w jakiś sposób przekraczać którąś z granic wewnętrznych Wspólnoty.Swoboda przepływu usług oznacz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ługodawca udaje się na pewien czas do kraju usługobiorcy, aby wykonać usługę w innym kraju członkowskim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ługobiorca udaje się do kraju usługodawcy i tam przyjmuje świadczenie (np. turyści)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ługodawca i usługobiorca pozostają w swoich krajach, a tylko usługa przekracza granicę (np. program telewizyjny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30000" y="4343400"/>
            <a:ext cx="5748120" cy="38512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sada swobodnego przepływu kapitału obejmuje transakcje finansowe nie związane z przepływem towarów, usług i osób. Wprowadzono wytyczne i zalecenia umożliwiające dopasowanie przepisów prawnych - obejmowały one działalność banków, kontrolę bankową, obrót papierami dewizowymi, prawo podatkowe itp. Dopiero w 1988 r. podjęto decyzję o całkowitej liberalizacji przepływu kapitału. Zgodnie z ustalonym wielostopniowym programem przepływ kapitału został zliberalizowany 1.01.1993 r. Swobodny przepływ kapitału daje obywatelom i przedsiębiorstwom prawo do założenia konta bankowego w każdym z krajów członkowskich oraz do nieograniczonego transferu środków pomiędzy krajami. Mogą oni lokować posiadany kapitał, a także uzyskiwać kredyty na całym obszarze Wspólno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5760" y="4343040"/>
            <a:ext cx="5992560" cy="48229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zefowie państw i rządów w 1988 r., w Hanowerze powołali Komitet, którego zadaniem było zaproponowanie konkretnych działań i etapów dochodzenia do UGW. Komitet Delorsa (od nazwiska przewodniczącego Komisji Europejskiej), złożony z gubernatorów banków centralnych krajów Wspólnoty oraz niezależnych ekspertów, opracował raport, zawierający propozycje dotyczące integracji gospodarczej i walutowej.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Raport Delors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został opublikowany w 1989 r. Raport uzasadniał potrzebę realizacji UGW, określał jej warunki wstępne oraz propozycje etapów tworzenia Uni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UGW miała być końcowym rezultatem integracji gospodarczej i stanowić dwie integralne częśc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Unia Walutow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- obszar walutowy na którym zapewnione s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ełna i nieodwracalna wymienialność walu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całkowita liberalizacja transakcji kapitałowych i pełna integracja rynku finansoweg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eliminacja wahań kursów walutowych oraz nieodwołalne usztywnienie parytetów walutow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Unia Gospodarcz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- obszar gospodarczy na którym zapewnione s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jednolity rynek w ramach którego kapitały, towary, usługi i sił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robocza mogą się swobodnie przemieszczać,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olityka konkurencji mająca na celu zapewnienie niezakłócon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funkcjonowania rynku wewnętrznego (dostęp bez ograniczeń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wspólna polityka umożliwiająca przemiany struktury w gospoda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krajów członkowskich, zapobieganie pogłębianiu się dyspropor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między krajami (bo zabraknie instrumentu zmiany kursu walutowego),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koordynacja polityki makroekonomicznej, a w szczegól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kreślenie reguł unikania nadmiernego deficytu budżetowego ora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polityka antyinflacyj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Raport Delorsa przewidywał trzy etapy utworzenia UG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24098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zy podstawowe elementy Traktat z Maastrich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 przepisy dotyczące Wspólnot Europejskich już istniejących, powiększające jednak zakres ich funkcj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 postanowienia odnoszące się do wspólnej polityki zagranicznej i bezpieczeństw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 postanowienia dotyczące koordynowania polityk wymiaru sprawiedliwości i spraw wewnętrz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531360" y="4343400"/>
            <a:ext cx="5689800" cy="40514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Traktat z Maastric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ustanowione cele -art.B[2]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opieranie zrównoważonego i trwałego postępu gospodarczo-społecznego, w szczególności poprzez stworzenie obszaru pozbawionego wewnętrznych granic, wzmacnianie spójności ekonomicznej i społecznej, i ustanowienie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unii gospodarczo walutowej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 docelowo z jedna walutą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otwierdzanie swojej tożsamości na arenie międzynarodowej, w szczególności poprzez realizację wspólnej polityki zagranicznej i bezpieczeństwa, włącznie z docelowym sformułowaniem wspólnej polityki obronnej, która mogłaby w przyszłości doprowadzić do wspólnego systemu obron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wzmacnianie ochrony praw i interesów obywateli państw członkowskich poprzez wprowadzenie obywatelstwa Uni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rozwijanie bliskiej współpracy w zakresie wymiaru sprawiedliwości i spraw wewnętrzny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ełne zachowanie i wzmacnianie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acquis communautair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(prawnego dorobku wspólnotoweg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303120" y="4271760"/>
            <a:ext cx="6554880" cy="65084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Drugi etap realizacji UGW (1994 - 199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Traktat z Maastricht ustalił termin rozpoczęcia drugiego etapu tworzenia UGW na 1.01.1994 r. W drugim etapie kraje  zobowiązały się do koordynacji polityki pieniężnej i makroekonomicznej oraz unikania nadmiernego deficytu budżetowego oraz do zapewnienia niezależności swojego banku centralneg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1.01.1994 r. został zamrożony skład kursowy koszyka ECU oraz po rozwiązaniu Komitetu Gubernatorów Banków Centralnych i Europejskiego Funduszu Współpracy Walutowej powstał Europejski Instytut Monetarny (EIM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Głównym zadaniem EIM była kontrola zobowiązań wynikających z drugiego etapu utworzenia Unii, a przede wszystki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umacnianie współpracy między narodowymi bankami   centralnymi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umacnianie koordynacji narodowych polityk pieniężnych oraz dążenie do zapewnienia stabilności cen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kontrola funkcjonowania Europejskiego Systemu Walutowego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przygotowanie dokumentów i procedur koniecznych do   prowadzenia w UGW jednolitej polityki walutowej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przygotowanie zasad operacji, które będą podejmowane przez narodowe banki centralne w ramach Europejskiego Systemu Banków Centralnych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przygotowanie emisji banknotów nowego pieniądz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5760" y="4343400"/>
            <a:ext cx="6068880" cy="4492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raje UE w protokole dołączonym do Traktatu z Maastric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twierdziły, że akceptacja przez nie postanowień Traktatu d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ieodwracalny charakter przejściu Wspólnoty w finalne sta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worzenia UGW, do którego dążyć będą wszystkie państw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winny więc one respektować wolę Wspólnoty rozpoczę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rzeciego etapu i nie przeszkadzać sobie nawzajem w dążeni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o tego wspólnego cel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rzejście do trzeciego etapu uzależniono od tempa dostos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gospodarek krajów UE do wymogów dotyczących sytuacji  ekonomicznej, określonych w Traktacie z Maastricht. Celem tych działań było zbliżenie poziomu rozwoju gospodarek krajów członkowski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ryteria wejścia kraju do UGW określone w Traktacie z Maastr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1. Średnia stopa inflacji nie może być wyższy niż 1,5 punktu procentowego od średniej stopy inflacji w trzech krajach UE o   najniższej inflacj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eficyt budżetowy nie może przekroczyć 3 % PKB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ług publiczny nie może przekroczyć 60 % PKB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Średnia nominalna długookresowa stopa procentowa nie może   być wyższa o 2 punkty procentowe średniej nominalnej długookresowej stopy procentowej w trzech krajach UE o najniższej inflacji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aństwo członkowskie w ramach mechanizmu kursowego ESW,  przez co najmniej 2 lata, musi zachować przedział wahań kursów walut. W tym okresie waluta tego państwa nie może być ewaluowana w stosunku do walut innych krajów 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531720" y="4416480"/>
            <a:ext cx="5765760" cy="2433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2.05 1998 r. w Brukseli, Rada Europejska zdecydowała, iż od 1.01.1999 r członkami UGW stają się: Austria, Belgia, Finlandia, Francja, Hiszpania, Holandia, Irlandia, Luksemburg, Niemcy, Portugalia i Włochy (11 państw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wunastym członkiem UGW, 1.01.2001 r., została Grec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o UGW nie przystąpił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Grecja, Dania, Wielka Brytania i Szwecja. Duńczycy odrzuc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ożliwość wstąpienia Danii do Unii Walutowej. Grecja i Szwecja nie wypełniły kryteriów Traktat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4BE-3AB4-4071-96AD-54AD7D8B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16D-FD77-4812-BB14-8377C7C4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F4A-6723-403A-9667-E7F34592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313-34E8-494B-AE30-E07BB038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6B7-5838-4A20-827E-C035C163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EB4-DA47-4946-9E73-8B6506B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D89-A82F-497E-95C8-32EA1B83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6DF-16FE-4743-B1B4-8F2AE0B6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81D-5FEC-4368-BDBB-068911B8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B82-6F0D-4060-ABC0-E810374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285-CDEB-4042-8AD2-95C67FE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1F4-1EFD-41E6-8CB4-6129FAF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21B8-D703-4E21-9C33-ED1CE34B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4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35.png"/><Relationship Id="rId8" Type="http://schemas.openxmlformats.org/officeDocument/2006/relationships/image" Target="../media/image38.png"/><Relationship Id="rId9" Type="http://schemas.openxmlformats.org/officeDocument/2006/relationships/image" Target="../media/image36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3.png"/><Relationship Id="rId13" Type="http://schemas.openxmlformats.org/officeDocument/2006/relationships/image" Target="../media/image41.png"/><Relationship Id="rId14" Type="http://schemas.openxmlformats.org/officeDocument/2006/relationships/image" Target="../media/image37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53.wmf"/><Relationship Id="rId18" Type="http://schemas.openxmlformats.org/officeDocument/2006/relationships/image" Target="../media/image51.png"/><Relationship Id="rId19" Type="http://schemas.openxmlformats.org/officeDocument/2006/relationships/image" Target="../media/image52.wmf"/><Relationship Id="rId20" Type="http://schemas.openxmlformats.org/officeDocument/2006/relationships/image" Target="../media/image42.png"/><Relationship Id="rId2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35.png"/><Relationship Id="rId8" Type="http://schemas.openxmlformats.org/officeDocument/2006/relationships/image" Target="../media/image38.png"/><Relationship Id="rId9" Type="http://schemas.openxmlformats.org/officeDocument/2006/relationships/image" Target="../media/image36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3.png"/><Relationship Id="rId13" Type="http://schemas.openxmlformats.org/officeDocument/2006/relationships/image" Target="../media/image41.png"/><Relationship Id="rId14" Type="http://schemas.openxmlformats.org/officeDocument/2006/relationships/image" Target="../media/image37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54.wmf"/><Relationship Id="rId18" Type="http://schemas.openxmlformats.org/officeDocument/2006/relationships/image" Target="../media/image52.wmf"/><Relationship Id="rId19" Type="http://schemas.openxmlformats.org/officeDocument/2006/relationships/image" Target="../media/image42.png"/><Relationship Id="rId2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2520" y="457200"/>
            <a:ext cx="6260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Unia Europejsk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Etapy integracj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aga_UE" descr=""/>
          <p:cNvPicPr/>
          <p:nvPr/>
        </p:nvPicPr>
        <p:blipFill>
          <a:blip r:embed="rId2"/>
          <a:stretch/>
        </p:blipFill>
        <p:spPr>
          <a:xfrm>
            <a:off x="3446640" y="2297160"/>
            <a:ext cx="22525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80" y="6424560"/>
            <a:ext cx="195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erpień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19320" y="1339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Art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yznacza ce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941760"/>
            <a:ext cx="3503520" cy="22741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harmonijny rozwój działalności gospodarcze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42360"/>
            <a:ext cx="3807000" cy="33501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stały i równomierny rozwój państw  członkowski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689200"/>
            <a:ext cx="3119400" cy="17305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umacnianie stabilnośc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498400"/>
            <a:ext cx="3276360" cy="28123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zacieśnianie stosunków między państwam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Wspólno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9080" y="4023000"/>
            <a:ext cx="3274920" cy="22741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szybsze podnoszenie poziomu życ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0"/>
            <a:ext cx="2133720" cy="3124080"/>
            <a:chOff x="0" y="0"/>
            <a:chExt cx="2133720" cy="3124080"/>
          </a:xfrm>
        </p:grpSpPr>
        <p:pic>
          <p:nvPicPr>
            <p:cNvPr id="153" name="Traktat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3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9280" y="730800"/>
              <a:ext cx="182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zymsk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56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9080" y="632376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352680" y="1600200"/>
            <a:ext cx="2438640" cy="1947960"/>
            <a:chOff x="3352680" y="1600200"/>
            <a:chExt cx="2438640" cy="1947960"/>
          </a:xfrm>
        </p:grpSpPr>
        <p:pic>
          <p:nvPicPr>
            <p:cNvPr id="162" name="PUZZLE" descr=""/>
            <p:cNvPicPr/>
            <p:nvPr/>
          </p:nvPicPr>
          <p:blipFill>
            <a:blip r:embed="rId2"/>
            <a:stretch/>
          </p:blipFill>
          <p:spPr>
            <a:xfrm>
              <a:off x="3352680" y="1600200"/>
              <a:ext cx="24386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494880" y="1784160"/>
              <a:ext cx="217116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Wspólnoty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zmierzają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do: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0" y="59421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Założone cele zrealizowano (lub częściowo) dopiero 1.01.1993 r,  wraz z otwarciem Jednolitego Ryn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2280" y="914400"/>
            <a:ext cx="8686800" cy="5943600"/>
            <a:chOff x="152280" y="914400"/>
            <a:chExt cx="8686800" cy="5943600"/>
          </a:xfrm>
        </p:grpSpPr>
        <p:sp>
          <p:nvSpPr>
            <p:cNvPr id="166" name=""/>
            <p:cNvSpPr/>
            <p:nvPr/>
          </p:nvSpPr>
          <p:spPr>
            <a:xfrm>
              <a:off x="6058080" y="914400"/>
              <a:ext cx="2781000" cy="2706840"/>
            </a:xfrm>
            <a:custGeom>
              <a:avLst/>
              <a:gdLst/>
              <a:ahLst/>
              <a:rect l="l" t="t" r="r" b="b"/>
              <a:pathLst>
                <a:path w="1752" h="1705">
                  <a:moveTo>
                    <a:pt x="0" y="355"/>
                  </a:moveTo>
                  <a:lnTo>
                    <a:pt x="0" y="0"/>
                  </a:lnTo>
                  <a:lnTo>
                    <a:pt x="1751" y="0"/>
                  </a:lnTo>
                  <a:lnTo>
                    <a:pt x="1752" y="1362"/>
                  </a:lnTo>
                  <a:lnTo>
                    <a:pt x="1600" y="1362"/>
                  </a:lnTo>
                  <a:lnTo>
                    <a:pt x="1594" y="1374"/>
                  </a:lnTo>
                  <a:lnTo>
                    <a:pt x="1589" y="1391"/>
                  </a:lnTo>
                  <a:lnTo>
                    <a:pt x="1589" y="1404"/>
                  </a:lnTo>
                  <a:lnTo>
                    <a:pt x="1591" y="1421"/>
                  </a:lnTo>
                  <a:lnTo>
                    <a:pt x="1597" y="1442"/>
                  </a:lnTo>
                  <a:lnTo>
                    <a:pt x="1603" y="1470"/>
                  </a:lnTo>
                  <a:lnTo>
                    <a:pt x="1609" y="1488"/>
                  </a:lnTo>
                  <a:lnTo>
                    <a:pt x="1614" y="1511"/>
                  </a:lnTo>
                  <a:lnTo>
                    <a:pt x="1617" y="1532"/>
                  </a:lnTo>
                  <a:lnTo>
                    <a:pt x="1617" y="1553"/>
                  </a:lnTo>
                  <a:lnTo>
                    <a:pt x="1614" y="1573"/>
                  </a:lnTo>
                  <a:lnTo>
                    <a:pt x="1609" y="1594"/>
                  </a:lnTo>
                  <a:lnTo>
                    <a:pt x="1602" y="1614"/>
                  </a:lnTo>
                  <a:lnTo>
                    <a:pt x="1589" y="1629"/>
                  </a:lnTo>
                  <a:lnTo>
                    <a:pt x="1573" y="1647"/>
                  </a:lnTo>
                  <a:lnTo>
                    <a:pt x="1556" y="1661"/>
                  </a:lnTo>
                  <a:lnTo>
                    <a:pt x="1541" y="1675"/>
                  </a:lnTo>
                  <a:lnTo>
                    <a:pt x="1523" y="1685"/>
                  </a:lnTo>
                  <a:lnTo>
                    <a:pt x="1501" y="1693"/>
                  </a:lnTo>
                  <a:lnTo>
                    <a:pt x="1476" y="1701"/>
                  </a:lnTo>
                  <a:lnTo>
                    <a:pt x="1451" y="1704"/>
                  </a:lnTo>
                  <a:lnTo>
                    <a:pt x="1430" y="1705"/>
                  </a:lnTo>
                  <a:lnTo>
                    <a:pt x="1407" y="1705"/>
                  </a:lnTo>
                  <a:lnTo>
                    <a:pt x="1386" y="1704"/>
                  </a:lnTo>
                  <a:lnTo>
                    <a:pt x="1369" y="1701"/>
                  </a:lnTo>
                  <a:lnTo>
                    <a:pt x="1349" y="1695"/>
                  </a:lnTo>
                  <a:lnTo>
                    <a:pt x="1330" y="1689"/>
                  </a:lnTo>
                  <a:lnTo>
                    <a:pt x="1314" y="1679"/>
                  </a:lnTo>
                  <a:lnTo>
                    <a:pt x="1298" y="1667"/>
                  </a:lnTo>
                  <a:lnTo>
                    <a:pt x="1282" y="1652"/>
                  </a:lnTo>
                  <a:lnTo>
                    <a:pt x="1267" y="1635"/>
                  </a:lnTo>
                  <a:lnTo>
                    <a:pt x="1254" y="1619"/>
                  </a:lnTo>
                  <a:lnTo>
                    <a:pt x="1243" y="1600"/>
                  </a:lnTo>
                  <a:lnTo>
                    <a:pt x="1235" y="1578"/>
                  </a:lnTo>
                  <a:lnTo>
                    <a:pt x="1229" y="1552"/>
                  </a:lnTo>
                  <a:lnTo>
                    <a:pt x="1229" y="1527"/>
                  </a:lnTo>
                  <a:lnTo>
                    <a:pt x="1235" y="1503"/>
                  </a:lnTo>
                  <a:lnTo>
                    <a:pt x="1241" y="1479"/>
                  </a:lnTo>
                  <a:lnTo>
                    <a:pt x="1248" y="1454"/>
                  </a:lnTo>
                  <a:lnTo>
                    <a:pt x="1255" y="1427"/>
                  </a:lnTo>
                  <a:lnTo>
                    <a:pt x="1258" y="1406"/>
                  </a:lnTo>
                  <a:lnTo>
                    <a:pt x="1258" y="1394"/>
                  </a:lnTo>
                  <a:lnTo>
                    <a:pt x="1257" y="1383"/>
                  </a:lnTo>
                  <a:lnTo>
                    <a:pt x="1252" y="1371"/>
                  </a:lnTo>
                  <a:lnTo>
                    <a:pt x="960" y="1371"/>
                  </a:lnTo>
                  <a:lnTo>
                    <a:pt x="965" y="1319"/>
                  </a:lnTo>
                  <a:lnTo>
                    <a:pt x="963" y="1290"/>
                  </a:lnTo>
                  <a:lnTo>
                    <a:pt x="960" y="1263"/>
                  </a:lnTo>
                  <a:lnTo>
                    <a:pt x="957" y="1237"/>
                  </a:lnTo>
                  <a:lnTo>
                    <a:pt x="953" y="1220"/>
                  </a:lnTo>
                  <a:lnTo>
                    <a:pt x="945" y="1205"/>
                  </a:lnTo>
                  <a:lnTo>
                    <a:pt x="936" y="1191"/>
                  </a:lnTo>
                  <a:lnTo>
                    <a:pt x="921" y="1179"/>
                  </a:lnTo>
                  <a:lnTo>
                    <a:pt x="904" y="1169"/>
                  </a:lnTo>
                  <a:lnTo>
                    <a:pt x="887" y="1163"/>
                  </a:lnTo>
                  <a:lnTo>
                    <a:pt x="872" y="1160"/>
                  </a:lnTo>
                  <a:lnTo>
                    <a:pt x="846" y="1158"/>
                  </a:lnTo>
                  <a:lnTo>
                    <a:pt x="816" y="1158"/>
                  </a:lnTo>
                  <a:lnTo>
                    <a:pt x="787" y="1161"/>
                  </a:lnTo>
                  <a:lnTo>
                    <a:pt x="755" y="1163"/>
                  </a:lnTo>
                  <a:lnTo>
                    <a:pt x="731" y="1166"/>
                  </a:lnTo>
                  <a:lnTo>
                    <a:pt x="699" y="1167"/>
                  </a:lnTo>
                  <a:lnTo>
                    <a:pt x="673" y="1166"/>
                  </a:lnTo>
                  <a:lnTo>
                    <a:pt x="650" y="1163"/>
                  </a:lnTo>
                  <a:lnTo>
                    <a:pt x="615" y="1155"/>
                  </a:lnTo>
                  <a:lnTo>
                    <a:pt x="592" y="1144"/>
                  </a:lnTo>
                  <a:lnTo>
                    <a:pt x="571" y="1129"/>
                  </a:lnTo>
                  <a:lnTo>
                    <a:pt x="557" y="1112"/>
                  </a:lnTo>
                  <a:lnTo>
                    <a:pt x="545" y="1094"/>
                  </a:lnTo>
                  <a:lnTo>
                    <a:pt x="536" y="1071"/>
                  </a:lnTo>
                  <a:lnTo>
                    <a:pt x="535" y="1047"/>
                  </a:lnTo>
                  <a:lnTo>
                    <a:pt x="535" y="1017"/>
                  </a:lnTo>
                  <a:lnTo>
                    <a:pt x="536" y="994"/>
                  </a:lnTo>
                  <a:lnTo>
                    <a:pt x="535" y="971"/>
                  </a:lnTo>
                  <a:lnTo>
                    <a:pt x="529" y="945"/>
                  </a:lnTo>
                  <a:lnTo>
                    <a:pt x="524" y="930"/>
                  </a:lnTo>
                  <a:lnTo>
                    <a:pt x="516" y="915"/>
                  </a:lnTo>
                  <a:lnTo>
                    <a:pt x="507" y="904"/>
                  </a:lnTo>
                  <a:lnTo>
                    <a:pt x="498" y="895"/>
                  </a:lnTo>
                  <a:lnTo>
                    <a:pt x="478" y="886"/>
                  </a:lnTo>
                  <a:lnTo>
                    <a:pt x="456" y="875"/>
                  </a:lnTo>
                  <a:lnTo>
                    <a:pt x="430" y="868"/>
                  </a:lnTo>
                  <a:lnTo>
                    <a:pt x="399" y="860"/>
                  </a:lnTo>
                  <a:lnTo>
                    <a:pt x="369" y="854"/>
                  </a:lnTo>
                  <a:lnTo>
                    <a:pt x="337" y="849"/>
                  </a:lnTo>
                  <a:lnTo>
                    <a:pt x="314" y="842"/>
                  </a:lnTo>
                  <a:lnTo>
                    <a:pt x="290" y="834"/>
                  </a:lnTo>
                  <a:lnTo>
                    <a:pt x="266" y="825"/>
                  </a:lnTo>
                  <a:lnTo>
                    <a:pt x="249" y="811"/>
                  </a:lnTo>
                  <a:lnTo>
                    <a:pt x="229" y="795"/>
                  </a:lnTo>
                  <a:lnTo>
                    <a:pt x="216" y="780"/>
                  </a:lnTo>
                  <a:lnTo>
                    <a:pt x="203" y="761"/>
                  </a:lnTo>
                  <a:lnTo>
                    <a:pt x="194" y="740"/>
                  </a:lnTo>
                  <a:lnTo>
                    <a:pt x="191" y="717"/>
                  </a:lnTo>
                  <a:lnTo>
                    <a:pt x="191" y="696"/>
                  </a:lnTo>
                  <a:lnTo>
                    <a:pt x="196" y="676"/>
                  </a:lnTo>
                  <a:lnTo>
                    <a:pt x="203" y="647"/>
                  </a:lnTo>
                  <a:lnTo>
                    <a:pt x="211" y="618"/>
                  </a:lnTo>
                  <a:lnTo>
                    <a:pt x="214" y="593"/>
                  </a:lnTo>
                  <a:lnTo>
                    <a:pt x="220" y="567"/>
                  </a:lnTo>
                  <a:lnTo>
                    <a:pt x="223" y="541"/>
                  </a:lnTo>
                  <a:lnTo>
                    <a:pt x="220" y="514"/>
                  </a:lnTo>
                  <a:lnTo>
                    <a:pt x="214" y="489"/>
                  </a:lnTo>
                  <a:lnTo>
                    <a:pt x="205" y="465"/>
                  </a:lnTo>
                  <a:lnTo>
                    <a:pt x="193" y="442"/>
                  </a:lnTo>
                  <a:lnTo>
                    <a:pt x="179" y="424"/>
                  </a:lnTo>
                  <a:lnTo>
                    <a:pt x="171" y="413"/>
                  </a:lnTo>
                  <a:lnTo>
                    <a:pt x="158" y="400"/>
                  </a:lnTo>
                  <a:lnTo>
                    <a:pt x="144" y="387"/>
                  </a:lnTo>
                  <a:lnTo>
                    <a:pt x="130" y="378"/>
                  </a:lnTo>
                  <a:lnTo>
                    <a:pt x="112" y="369"/>
                  </a:lnTo>
                  <a:lnTo>
                    <a:pt x="94" y="363"/>
                  </a:lnTo>
                  <a:lnTo>
                    <a:pt x="71" y="357"/>
                  </a:lnTo>
                  <a:lnTo>
                    <a:pt x="45" y="355"/>
                  </a:lnTo>
                  <a:lnTo>
                    <a:pt x="22" y="355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45120" y="3827520"/>
              <a:ext cx="2793960" cy="2268360"/>
            </a:xfrm>
            <a:custGeom>
              <a:avLst/>
              <a:gdLst/>
              <a:ahLst/>
              <a:rect l="l" t="t" r="r" b="b"/>
              <a:pathLst>
                <a:path w="1760" h="1429">
                  <a:moveTo>
                    <a:pt x="0" y="1130"/>
                  </a:moveTo>
                  <a:lnTo>
                    <a:pt x="0" y="1429"/>
                  </a:lnTo>
                  <a:lnTo>
                    <a:pt x="1760" y="1429"/>
                  </a:lnTo>
                  <a:lnTo>
                    <a:pt x="1759" y="0"/>
                  </a:lnTo>
                  <a:lnTo>
                    <a:pt x="1602" y="0"/>
                  </a:lnTo>
                  <a:lnTo>
                    <a:pt x="1594" y="28"/>
                  </a:lnTo>
                  <a:lnTo>
                    <a:pt x="1594" y="47"/>
                  </a:lnTo>
                  <a:lnTo>
                    <a:pt x="1599" y="75"/>
                  </a:lnTo>
                  <a:lnTo>
                    <a:pt x="1608" y="104"/>
                  </a:lnTo>
                  <a:lnTo>
                    <a:pt x="1617" y="139"/>
                  </a:lnTo>
                  <a:lnTo>
                    <a:pt x="1622" y="166"/>
                  </a:lnTo>
                  <a:lnTo>
                    <a:pt x="1622" y="190"/>
                  </a:lnTo>
                  <a:lnTo>
                    <a:pt x="1619" y="218"/>
                  </a:lnTo>
                  <a:lnTo>
                    <a:pt x="1611" y="243"/>
                  </a:lnTo>
                  <a:lnTo>
                    <a:pt x="1594" y="268"/>
                  </a:lnTo>
                  <a:lnTo>
                    <a:pt x="1575" y="289"/>
                  </a:lnTo>
                  <a:lnTo>
                    <a:pt x="1553" y="309"/>
                  </a:lnTo>
                  <a:lnTo>
                    <a:pt x="1529" y="322"/>
                  </a:lnTo>
                  <a:lnTo>
                    <a:pt x="1500" y="333"/>
                  </a:lnTo>
                  <a:lnTo>
                    <a:pt x="1474" y="339"/>
                  </a:lnTo>
                  <a:lnTo>
                    <a:pt x="1438" y="341"/>
                  </a:lnTo>
                  <a:lnTo>
                    <a:pt x="1395" y="338"/>
                  </a:lnTo>
                  <a:lnTo>
                    <a:pt x="1368" y="333"/>
                  </a:lnTo>
                  <a:lnTo>
                    <a:pt x="1344" y="327"/>
                  </a:lnTo>
                  <a:lnTo>
                    <a:pt x="1321" y="313"/>
                  </a:lnTo>
                  <a:lnTo>
                    <a:pt x="1292" y="291"/>
                  </a:lnTo>
                  <a:lnTo>
                    <a:pt x="1274" y="269"/>
                  </a:lnTo>
                  <a:lnTo>
                    <a:pt x="1257" y="246"/>
                  </a:lnTo>
                  <a:lnTo>
                    <a:pt x="1248" y="222"/>
                  </a:lnTo>
                  <a:lnTo>
                    <a:pt x="1242" y="199"/>
                  </a:lnTo>
                  <a:lnTo>
                    <a:pt x="1242" y="173"/>
                  </a:lnTo>
                  <a:lnTo>
                    <a:pt x="1245" y="148"/>
                  </a:lnTo>
                  <a:lnTo>
                    <a:pt x="1251" y="123"/>
                  </a:lnTo>
                  <a:lnTo>
                    <a:pt x="1257" y="101"/>
                  </a:lnTo>
                  <a:lnTo>
                    <a:pt x="1265" y="76"/>
                  </a:lnTo>
                  <a:lnTo>
                    <a:pt x="1269" y="52"/>
                  </a:lnTo>
                  <a:lnTo>
                    <a:pt x="1269" y="31"/>
                  </a:lnTo>
                  <a:lnTo>
                    <a:pt x="1263" y="6"/>
                  </a:lnTo>
                  <a:lnTo>
                    <a:pt x="968" y="6"/>
                  </a:lnTo>
                  <a:lnTo>
                    <a:pt x="971" y="56"/>
                  </a:lnTo>
                  <a:lnTo>
                    <a:pt x="968" y="91"/>
                  </a:lnTo>
                  <a:lnTo>
                    <a:pt x="967" y="120"/>
                  </a:lnTo>
                  <a:lnTo>
                    <a:pt x="967" y="146"/>
                  </a:lnTo>
                  <a:lnTo>
                    <a:pt x="964" y="173"/>
                  </a:lnTo>
                  <a:lnTo>
                    <a:pt x="958" y="201"/>
                  </a:lnTo>
                  <a:lnTo>
                    <a:pt x="950" y="219"/>
                  </a:lnTo>
                  <a:lnTo>
                    <a:pt x="939" y="236"/>
                  </a:lnTo>
                  <a:lnTo>
                    <a:pt x="924" y="249"/>
                  </a:lnTo>
                  <a:lnTo>
                    <a:pt x="907" y="260"/>
                  </a:lnTo>
                  <a:lnTo>
                    <a:pt x="888" y="266"/>
                  </a:lnTo>
                  <a:lnTo>
                    <a:pt x="866" y="269"/>
                  </a:lnTo>
                  <a:lnTo>
                    <a:pt x="847" y="271"/>
                  </a:lnTo>
                  <a:lnTo>
                    <a:pt x="821" y="271"/>
                  </a:lnTo>
                  <a:lnTo>
                    <a:pt x="797" y="268"/>
                  </a:lnTo>
                  <a:lnTo>
                    <a:pt x="777" y="266"/>
                  </a:lnTo>
                  <a:lnTo>
                    <a:pt x="751" y="265"/>
                  </a:lnTo>
                  <a:lnTo>
                    <a:pt x="724" y="262"/>
                  </a:lnTo>
                  <a:lnTo>
                    <a:pt x="693" y="262"/>
                  </a:lnTo>
                  <a:lnTo>
                    <a:pt x="667" y="265"/>
                  </a:lnTo>
                  <a:lnTo>
                    <a:pt x="641" y="268"/>
                  </a:lnTo>
                  <a:lnTo>
                    <a:pt x="614" y="275"/>
                  </a:lnTo>
                  <a:lnTo>
                    <a:pt x="594" y="286"/>
                  </a:lnTo>
                  <a:lnTo>
                    <a:pt x="573" y="300"/>
                  </a:lnTo>
                  <a:lnTo>
                    <a:pt x="559" y="318"/>
                  </a:lnTo>
                  <a:lnTo>
                    <a:pt x="546" y="338"/>
                  </a:lnTo>
                  <a:lnTo>
                    <a:pt x="540" y="357"/>
                  </a:lnTo>
                  <a:lnTo>
                    <a:pt x="537" y="380"/>
                  </a:lnTo>
                  <a:lnTo>
                    <a:pt x="540" y="403"/>
                  </a:lnTo>
                  <a:lnTo>
                    <a:pt x="541" y="427"/>
                  </a:lnTo>
                  <a:lnTo>
                    <a:pt x="540" y="453"/>
                  </a:lnTo>
                  <a:lnTo>
                    <a:pt x="535" y="473"/>
                  </a:lnTo>
                  <a:lnTo>
                    <a:pt x="529" y="494"/>
                  </a:lnTo>
                  <a:lnTo>
                    <a:pt x="520" y="514"/>
                  </a:lnTo>
                  <a:lnTo>
                    <a:pt x="508" y="528"/>
                  </a:lnTo>
                  <a:lnTo>
                    <a:pt x="488" y="541"/>
                  </a:lnTo>
                  <a:lnTo>
                    <a:pt x="464" y="550"/>
                  </a:lnTo>
                  <a:lnTo>
                    <a:pt x="439" y="558"/>
                  </a:lnTo>
                  <a:lnTo>
                    <a:pt x="417" y="564"/>
                  </a:lnTo>
                  <a:lnTo>
                    <a:pt x="392" y="570"/>
                  </a:lnTo>
                  <a:lnTo>
                    <a:pt x="360" y="576"/>
                  </a:lnTo>
                  <a:lnTo>
                    <a:pt x="336" y="581"/>
                  </a:lnTo>
                  <a:lnTo>
                    <a:pt x="310" y="588"/>
                  </a:lnTo>
                  <a:lnTo>
                    <a:pt x="289" y="596"/>
                  </a:lnTo>
                  <a:lnTo>
                    <a:pt x="268" y="605"/>
                  </a:lnTo>
                  <a:lnTo>
                    <a:pt x="251" y="617"/>
                  </a:lnTo>
                  <a:lnTo>
                    <a:pt x="236" y="630"/>
                  </a:lnTo>
                  <a:lnTo>
                    <a:pt x="219" y="649"/>
                  </a:lnTo>
                  <a:lnTo>
                    <a:pt x="208" y="668"/>
                  </a:lnTo>
                  <a:lnTo>
                    <a:pt x="199" y="689"/>
                  </a:lnTo>
                  <a:lnTo>
                    <a:pt x="195" y="715"/>
                  </a:lnTo>
                  <a:lnTo>
                    <a:pt x="198" y="739"/>
                  </a:lnTo>
                  <a:lnTo>
                    <a:pt x="201" y="763"/>
                  </a:lnTo>
                  <a:lnTo>
                    <a:pt x="208" y="792"/>
                  </a:lnTo>
                  <a:lnTo>
                    <a:pt x="216" y="824"/>
                  </a:lnTo>
                  <a:lnTo>
                    <a:pt x="222" y="853"/>
                  </a:lnTo>
                  <a:lnTo>
                    <a:pt x="225" y="876"/>
                  </a:lnTo>
                  <a:lnTo>
                    <a:pt x="225" y="897"/>
                  </a:lnTo>
                  <a:lnTo>
                    <a:pt x="222" y="926"/>
                  </a:lnTo>
                  <a:lnTo>
                    <a:pt x="214" y="950"/>
                  </a:lnTo>
                  <a:lnTo>
                    <a:pt x="208" y="972"/>
                  </a:lnTo>
                  <a:lnTo>
                    <a:pt x="199" y="991"/>
                  </a:lnTo>
                  <a:lnTo>
                    <a:pt x="187" y="1017"/>
                  </a:lnTo>
                  <a:lnTo>
                    <a:pt x="170" y="1046"/>
                  </a:lnTo>
                  <a:lnTo>
                    <a:pt x="152" y="1067"/>
                  </a:lnTo>
                  <a:lnTo>
                    <a:pt x="134" y="1084"/>
                  </a:lnTo>
                  <a:lnTo>
                    <a:pt x="117" y="1099"/>
                  </a:lnTo>
                  <a:lnTo>
                    <a:pt x="99" y="1111"/>
                  </a:lnTo>
                  <a:lnTo>
                    <a:pt x="81" y="1119"/>
                  </a:lnTo>
                  <a:lnTo>
                    <a:pt x="55" y="1125"/>
                  </a:lnTo>
                  <a:lnTo>
                    <a:pt x="26" y="1130"/>
                  </a:lnTo>
                  <a:lnTo>
                    <a:pt x="0" y="113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3200400"/>
              <a:ext cx="2781360" cy="2706840"/>
            </a:xfrm>
            <a:custGeom>
              <a:avLst/>
              <a:gdLst/>
              <a:ahLst/>
              <a:rect l="l" t="t" r="r" b="b"/>
              <a:pathLst>
                <a:path w="1752" h="1705">
                  <a:moveTo>
                    <a:pt x="1752" y="1404"/>
                  </a:moveTo>
                  <a:lnTo>
                    <a:pt x="1752" y="1705"/>
                  </a:lnTo>
                  <a:lnTo>
                    <a:pt x="1" y="1705"/>
                  </a:lnTo>
                  <a:lnTo>
                    <a:pt x="0" y="343"/>
                  </a:lnTo>
                  <a:lnTo>
                    <a:pt x="152" y="343"/>
                  </a:lnTo>
                  <a:lnTo>
                    <a:pt x="158" y="331"/>
                  </a:lnTo>
                  <a:lnTo>
                    <a:pt x="162" y="314"/>
                  </a:lnTo>
                  <a:lnTo>
                    <a:pt x="162" y="301"/>
                  </a:lnTo>
                  <a:lnTo>
                    <a:pt x="161" y="284"/>
                  </a:lnTo>
                  <a:lnTo>
                    <a:pt x="155" y="263"/>
                  </a:lnTo>
                  <a:lnTo>
                    <a:pt x="149" y="235"/>
                  </a:lnTo>
                  <a:lnTo>
                    <a:pt x="143" y="217"/>
                  </a:lnTo>
                  <a:lnTo>
                    <a:pt x="136" y="194"/>
                  </a:lnTo>
                  <a:lnTo>
                    <a:pt x="135" y="173"/>
                  </a:lnTo>
                  <a:lnTo>
                    <a:pt x="135" y="152"/>
                  </a:lnTo>
                  <a:lnTo>
                    <a:pt x="136" y="132"/>
                  </a:lnTo>
                  <a:lnTo>
                    <a:pt x="143" y="111"/>
                  </a:lnTo>
                  <a:lnTo>
                    <a:pt x="150" y="91"/>
                  </a:lnTo>
                  <a:lnTo>
                    <a:pt x="162" y="76"/>
                  </a:lnTo>
                  <a:lnTo>
                    <a:pt x="179" y="57"/>
                  </a:lnTo>
                  <a:lnTo>
                    <a:pt x="194" y="44"/>
                  </a:lnTo>
                  <a:lnTo>
                    <a:pt x="211" y="30"/>
                  </a:lnTo>
                  <a:lnTo>
                    <a:pt x="229" y="19"/>
                  </a:lnTo>
                  <a:lnTo>
                    <a:pt x="250" y="10"/>
                  </a:lnTo>
                  <a:lnTo>
                    <a:pt x="275" y="4"/>
                  </a:lnTo>
                  <a:lnTo>
                    <a:pt x="301" y="1"/>
                  </a:lnTo>
                  <a:lnTo>
                    <a:pt x="322" y="0"/>
                  </a:lnTo>
                  <a:lnTo>
                    <a:pt x="345" y="0"/>
                  </a:lnTo>
                  <a:lnTo>
                    <a:pt x="366" y="1"/>
                  </a:lnTo>
                  <a:lnTo>
                    <a:pt x="383" y="4"/>
                  </a:lnTo>
                  <a:lnTo>
                    <a:pt x="402" y="10"/>
                  </a:lnTo>
                  <a:lnTo>
                    <a:pt x="422" y="16"/>
                  </a:lnTo>
                  <a:lnTo>
                    <a:pt x="437" y="25"/>
                  </a:lnTo>
                  <a:lnTo>
                    <a:pt x="454" y="38"/>
                  </a:lnTo>
                  <a:lnTo>
                    <a:pt x="469" y="53"/>
                  </a:lnTo>
                  <a:lnTo>
                    <a:pt x="484" y="69"/>
                  </a:lnTo>
                  <a:lnTo>
                    <a:pt x="498" y="86"/>
                  </a:lnTo>
                  <a:lnTo>
                    <a:pt x="509" y="104"/>
                  </a:lnTo>
                  <a:lnTo>
                    <a:pt x="516" y="127"/>
                  </a:lnTo>
                  <a:lnTo>
                    <a:pt x="522" y="153"/>
                  </a:lnTo>
                  <a:lnTo>
                    <a:pt x="522" y="177"/>
                  </a:lnTo>
                  <a:lnTo>
                    <a:pt x="516" y="202"/>
                  </a:lnTo>
                  <a:lnTo>
                    <a:pt x="510" y="226"/>
                  </a:lnTo>
                  <a:lnTo>
                    <a:pt x="504" y="250"/>
                  </a:lnTo>
                  <a:lnTo>
                    <a:pt x="497" y="278"/>
                  </a:lnTo>
                  <a:lnTo>
                    <a:pt x="492" y="299"/>
                  </a:lnTo>
                  <a:lnTo>
                    <a:pt x="492" y="311"/>
                  </a:lnTo>
                  <a:lnTo>
                    <a:pt x="495" y="322"/>
                  </a:lnTo>
                  <a:lnTo>
                    <a:pt x="500" y="334"/>
                  </a:lnTo>
                  <a:lnTo>
                    <a:pt x="790" y="334"/>
                  </a:lnTo>
                  <a:lnTo>
                    <a:pt x="784" y="390"/>
                  </a:lnTo>
                  <a:lnTo>
                    <a:pt x="782" y="424"/>
                  </a:lnTo>
                  <a:lnTo>
                    <a:pt x="784" y="451"/>
                  </a:lnTo>
                  <a:lnTo>
                    <a:pt x="785" y="477"/>
                  </a:lnTo>
                  <a:lnTo>
                    <a:pt x="788" y="504"/>
                  </a:lnTo>
                  <a:lnTo>
                    <a:pt x="793" y="532"/>
                  </a:lnTo>
                  <a:lnTo>
                    <a:pt x="802" y="550"/>
                  </a:lnTo>
                  <a:lnTo>
                    <a:pt x="813" y="565"/>
                  </a:lnTo>
                  <a:lnTo>
                    <a:pt x="826" y="579"/>
                  </a:lnTo>
                  <a:lnTo>
                    <a:pt x="845" y="589"/>
                  </a:lnTo>
                  <a:lnTo>
                    <a:pt x="864" y="597"/>
                  </a:lnTo>
                  <a:lnTo>
                    <a:pt x="884" y="600"/>
                  </a:lnTo>
                  <a:lnTo>
                    <a:pt x="905" y="601"/>
                  </a:lnTo>
                  <a:lnTo>
                    <a:pt x="930" y="601"/>
                  </a:lnTo>
                  <a:lnTo>
                    <a:pt x="956" y="598"/>
                  </a:lnTo>
                  <a:lnTo>
                    <a:pt x="974" y="597"/>
                  </a:lnTo>
                  <a:lnTo>
                    <a:pt x="1001" y="594"/>
                  </a:lnTo>
                  <a:lnTo>
                    <a:pt x="1029" y="591"/>
                  </a:lnTo>
                  <a:lnTo>
                    <a:pt x="1059" y="591"/>
                  </a:lnTo>
                  <a:lnTo>
                    <a:pt x="1085" y="594"/>
                  </a:lnTo>
                  <a:lnTo>
                    <a:pt x="1111" y="598"/>
                  </a:lnTo>
                  <a:lnTo>
                    <a:pt x="1137" y="608"/>
                  </a:lnTo>
                  <a:lnTo>
                    <a:pt x="1158" y="617"/>
                  </a:lnTo>
                  <a:lnTo>
                    <a:pt x="1179" y="632"/>
                  </a:lnTo>
                  <a:lnTo>
                    <a:pt x="1193" y="649"/>
                  </a:lnTo>
                  <a:lnTo>
                    <a:pt x="1205" y="668"/>
                  </a:lnTo>
                  <a:lnTo>
                    <a:pt x="1213" y="690"/>
                  </a:lnTo>
                  <a:lnTo>
                    <a:pt x="1216" y="711"/>
                  </a:lnTo>
                  <a:lnTo>
                    <a:pt x="1213" y="735"/>
                  </a:lnTo>
                  <a:lnTo>
                    <a:pt x="1211" y="760"/>
                  </a:lnTo>
                  <a:lnTo>
                    <a:pt x="1213" y="784"/>
                  </a:lnTo>
                  <a:lnTo>
                    <a:pt x="1216" y="805"/>
                  </a:lnTo>
                  <a:lnTo>
                    <a:pt x="1223" y="825"/>
                  </a:lnTo>
                  <a:lnTo>
                    <a:pt x="1232" y="845"/>
                  </a:lnTo>
                  <a:lnTo>
                    <a:pt x="1244" y="858"/>
                  </a:lnTo>
                  <a:lnTo>
                    <a:pt x="1263" y="872"/>
                  </a:lnTo>
                  <a:lnTo>
                    <a:pt x="1287" y="881"/>
                  </a:lnTo>
                  <a:lnTo>
                    <a:pt x="1313" y="889"/>
                  </a:lnTo>
                  <a:lnTo>
                    <a:pt x="1334" y="895"/>
                  </a:lnTo>
                  <a:lnTo>
                    <a:pt x="1360" y="901"/>
                  </a:lnTo>
                  <a:lnTo>
                    <a:pt x="1390" y="907"/>
                  </a:lnTo>
                  <a:lnTo>
                    <a:pt x="1416" y="912"/>
                  </a:lnTo>
                  <a:lnTo>
                    <a:pt x="1442" y="919"/>
                  </a:lnTo>
                  <a:lnTo>
                    <a:pt x="1463" y="927"/>
                  </a:lnTo>
                  <a:lnTo>
                    <a:pt x="1485" y="936"/>
                  </a:lnTo>
                  <a:lnTo>
                    <a:pt x="1501" y="948"/>
                  </a:lnTo>
                  <a:lnTo>
                    <a:pt x="1515" y="960"/>
                  </a:lnTo>
                  <a:lnTo>
                    <a:pt x="1533" y="980"/>
                  </a:lnTo>
                  <a:lnTo>
                    <a:pt x="1544" y="998"/>
                  </a:lnTo>
                  <a:lnTo>
                    <a:pt x="1553" y="1018"/>
                  </a:lnTo>
                  <a:lnTo>
                    <a:pt x="1558" y="1045"/>
                  </a:lnTo>
                  <a:lnTo>
                    <a:pt x="1554" y="1071"/>
                  </a:lnTo>
                  <a:lnTo>
                    <a:pt x="1550" y="1094"/>
                  </a:lnTo>
                  <a:lnTo>
                    <a:pt x="1544" y="1123"/>
                  </a:lnTo>
                  <a:lnTo>
                    <a:pt x="1536" y="1155"/>
                  </a:lnTo>
                  <a:lnTo>
                    <a:pt x="1529" y="1184"/>
                  </a:lnTo>
                  <a:lnTo>
                    <a:pt x="1526" y="1208"/>
                  </a:lnTo>
                  <a:lnTo>
                    <a:pt x="1526" y="1228"/>
                  </a:lnTo>
                  <a:lnTo>
                    <a:pt x="1530" y="1257"/>
                  </a:lnTo>
                  <a:lnTo>
                    <a:pt x="1536" y="1281"/>
                  </a:lnTo>
                  <a:lnTo>
                    <a:pt x="1545" y="1299"/>
                  </a:lnTo>
                  <a:lnTo>
                    <a:pt x="1556" y="1317"/>
                  </a:lnTo>
                  <a:lnTo>
                    <a:pt x="1571" y="1337"/>
                  </a:lnTo>
                  <a:lnTo>
                    <a:pt x="1588" y="1357"/>
                  </a:lnTo>
                  <a:lnTo>
                    <a:pt x="1608" y="1374"/>
                  </a:lnTo>
                  <a:lnTo>
                    <a:pt x="1630" y="1387"/>
                  </a:lnTo>
                  <a:lnTo>
                    <a:pt x="1652" y="1395"/>
                  </a:lnTo>
                  <a:lnTo>
                    <a:pt x="1675" y="1401"/>
                  </a:lnTo>
                  <a:lnTo>
                    <a:pt x="1697" y="1404"/>
                  </a:lnTo>
                  <a:lnTo>
                    <a:pt x="1725" y="1406"/>
                  </a:lnTo>
                  <a:lnTo>
                    <a:pt x="1752" y="140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914400"/>
              <a:ext cx="2793960" cy="2268360"/>
            </a:xfrm>
            <a:custGeom>
              <a:avLst/>
              <a:gdLst/>
              <a:ahLst/>
              <a:rect l="l" t="t" r="r" b="b"/>
              <a:pathLst>
                <a:path w="1760" h="1429">
                  <a:moveTo>
                    <a:pt x="1760" y="355"/>
                  </a:moveTo>
                  <a:lnTo>
                    <a:pt x="1760" y="0"/>
                  </a:lnTo>
                  <a:lnTo>
                    <a:pt x="0" y="0"/>
                  </a:lnTo>
                  <a:lnTo>
                    <a:pt x="1" y="1429"/>
                  </a:lnTo>
                  <a:lnTo>
                    <a:pt x="158" y="1429"/>
                  </a:lnTo>
                  <a:lnTo>
                    <a:pt x="165" y="1401"/>
                  </a:lnTo>
                  <a:lnTo>
                    <a:pt x="165" y="1381"/>
                  </a:lnTo>
                  <a:lnTo>
                    <a:pt x="161" y="1354"/>
                  </a:lnTo>
                  <a:lnTo>
                    <a:pt x="152" y="1325"/>
                  </a:lnTo>
                  <a:lnTo>
                    <a:pt x="143" y="1290"/>
                  </a:lnTo>
                  <a:lnTo>
                    <a:pt x="138" y="1263"/>
                  </a:lnTo>
                  <a:lnTo>
                    <a:pt x="136" y="1239"/>
                  </a:lnTo>
                  <a:lnTo>
                    <a:pt x="141" y="1211"/>
                  </a:lnTo>
                  <a:lnTo>
                    <a:pt x="149" y="1185"/>
                  </a:lnTo>
                  <a:lnTo>
                    <a:pt x="165" y="1160"/>
                  </a:lnTo>
                  <a:lnTo>
                    <a:pt x="185" y="1140"/>
                  </a:lnTo>
                  <a:lnTo>
                    <a:pt x="206" y="1120"/>
                  </a:lnTo>
                  <a:lnTo>
                    <a:pt x="231" y="1106"/>
                  </a:lnTo>
                  <a:lnTo>
                    <a:pt x="260" y="1094"/>
                  </a:lnTo>
                  <a:lnTo>
                    <a:pt x="285" y="1090"/>
                  </a:lnTo>
                  <a:lnTo>
                    <a:pt x="322" y="1088"/>
                  </a:lnTo>
                  <a:lnTo>
                    <a:pt x="364" y="1091"/>
                  </a:lnTo>
                  <a:lnTo>
                    <a:pt x="392" y="1094"/>
                  </a:lnTo>
                  <a:lnTo>
                    <a:pt x="416" y="1102"/>
                  </a:lnTo>
                  <a:lnTo>
                    <a:pt x="439" y="1115"/>
                  </a:lnTo>
                  <a:lnTo>
                    <a:pt x="468" y="1138"/>
                  </a:lnTo>
                  <a:lnTo>
                    <a:pt x="486" y="1160"/>
                  </a:lnTo>
                  <a:lnTo>
                    <a:pt x="503" y="1182"/>
                  </a:lnTo>
                  <a:lnTo>
                    <a:pt x="512" y="1207"/>
                  </a:lnTo>
                  <a:lnTo>
                    <a:pt x="518" y="1229"/>
                  </a:lnTo>
                  <a:lnTo>
                    <a:pt x="518" y="1255"/>
                  </a:lnTo>
                  <a:lnTo>
                    <a:pt x="515" y="1281"/>
                  </a:lnTo>
                  <a:lnTo>
                    <a:pt x="509" y="1305"/>
                  </a:lnTo>
                  <a:lnTo>
                    <a:pt x="503" y="1328"/>
                  </a:lnTo>
                  <a:lnTo>
                    <a:pt x="495" y="1353"/>
                  </a:lnTo>
                  <a:lnTo>
                    <a:pt x="491" y="1377"/>
                  </a:lnTo>
                  <a:lnTo>
                    <a:pt x="491" y="1398"/>
                  </a:lnTo>
                  <a:lnTo>
                    <a:pt x="497" y="1423"/>
                  </a:lnTo>
                  <a:lnTo>
                    <a:pt x="792" y="1423"/>
                  </a:lnTo>
                  <a:lnTo>
                    <a:pt x="788" y="1372"/>
                  </a:lnTo>
                  <a:lnTo>
                    <a:pt x="792" y="1336"/>
                  </a:lnTo>
                  <a:lnTo>
                    <a:pt x="792" y="1309"/>
                  </a:lnTo>
                  <a:lnTo>
                    <a:pt x="793" y="1283"/>
                  </a:lnTo>
                  <a:lnTo>
                    <a:pt x="796" y="1255"/>
                  </a:lnTo>
                  <a:lnTo>
                    <a:pt x="802" y="1228"/>
                  </a:lnTo>
                  <a:lnTo>
                    <a:pt x="810" y="1210"/>
                  </a:lnTo>
                  <a:lnTo>
                    <a:pt x="820" y="1193"/>
                  </a:lnTo>
                  <a:lnTo>
                    <a:pt x="836" y="1179"/>
                  </a:lnTo>
                  <a:lnTo>
                    <a:pt x="852" y="1169"/>
                  </a:lnTo>
                  <a:lnTo>
                    <a:pt x="872" y="1163"/>
                  </a:lnTo>
                  <a:lnTo>
                    <a:pt x="893" y="1160"/>
                  </a:lnTo>
                  <a:lnTo>
                    <a:pt x="913" y="1158"/>
                  </a:lnTo>
                  <a:lnTo>
                    <a:pt x="939" y="1158"/>
                  </a:lnTo>
                  <a:lnTo>
                    <a:pt x="963" y="1160"/>
                  </a:lnTo>
                  <a:lnTo>
                    <a:pt x="983" y="1163"/>
                  </a:lnTo>
                  <a:lnTo>
                    <a:pt x="1009" y="1164"/>
                  </a:lnTo>
                  <a:lnTo>
                    <a:pt x="1036" y="1167"/>
                  </a:lnTo>
                  <a:lnTo>
                    <a:pt x="1067" y="1167"/>
                  </a:lnTo>
                  <a:lnTo>
                    <a:pt x="1092" y="1164"/>
                  </a:lnTo>
                  <a:lnTo>
                    <a:pt x="1118" y="1160"/>
                  </a:lnTo>
                  <a:lnTo>
                    <a:pt x="1146" y="1153"/>
                  </a:lnTo>
                  <a:lnTo>
                    <a:pt x="1165" y="1143"/>
                  </a:lnTo>
                  <a:lnTo>
                    <a:pt x="1187" y="1129"/>
                  </a:lnTo>
                  <a:lnTo>
                    <a:pt x="1200" y="1111"/>
                  </a:lnTo>
                  <a:lnTo>
                    <a:pt x="1214" y="1091"/>
                  </a:lnTo>
                  <a:lnTo>
                    <a:pt x="1220" y="1071"/>
                  </a:lnTo>
                  <a:lnTo>
                    <a:pt x="1223" y="1049"/>
                  </a:lnTo>
                  <a:lnTo>
                    <a:pt x="1220" y="1026"/>
                  </a:lnTo>
                  <a:lnTo>
                    <a:pt x="1219" y="1001"/>
                  </a:lnTo>
                  <a:lnTo>
                    <a:pt x="1220" y="976"/>
                  </a:lnTo>
                  <a:lnTo>
                    <a:pt x="1225" y="956"/>
                  </a:lnTo>
                  <a:lnTo>
                    <a:pt x="1231" y="935"/>
                  </a:lnTo>
                  <a:lnTo>
                    <a:pt x="1240" y="915"/>
                  </a:lnTo>
                  <a:lnTo>
                    <a:pt x="1252" y="901"/>
                  </a:lnTo>
                  <a:lnTo>
                    <a:pt x="1272" y="887"/>
                  </a:lnTo>
                  <a:lnTo>
                    <a:pt x="1296" y="878"/>
                  </a:lnTo>
                  <a:lnTo>
                    <a:pt x="1320" y="871"/>
                  </a:lnTo>
                  <a:lnTo>
                    <a:pt x="1343" y="865"/>
                  </a:lnTo>
                  <a:lnTo>
                    <a:pt x="1368" y="859"/>
                  </a:lnTo>
                  <a:lnTo>
                    <a:pt x="1399" y="852"/>
                  </a:lnTo>
                  <a:lnTo>
                    <a:pt x="1424" y="848"/>
                  </a:lnTo>
                  <a:lnTo>
                    <a:pt x="1450" y="840"/>
                  </a:lnTo>
                  <a:lnTo>
                    <a:pt x="1471" y="833"/>
                  </a:lnTo>
                  <a:lnTo>
                    <a:pt x="1492" y="824"/>
                  </a:lnTo>
                  <a:lnTo>
                    <a:pt x="1509" y="811"/>
                  </a:lnTo>
                  <a:lnTo>
                    <a:pt x="1524" y="799"/>
                  </a:lnTo>
                  <a:lnTo>
                    <a:pt x="1541" y="780"/>
                  </a:lnTo>
                  <a:lnTo>
                    <a:pt x="1551" y="761"/>
                  </a:lnTo>
                  <a:lnTo>
                    <a:pt x="1561" y="740"/>
                  </a:lnTo>
                  <a:lnTo>
                    <a:pt x="1565" y="713"/>
                  </a:lnTo>
                  <a:lnTo>
                    <a:pt x="1562" y="690"/>
                  </a:lnTo>
                  <a:lnTo>
                    <a:pt x="1559" y="666"/>
                  </a:lnTo>
                  <a:lnTo>
                    <a:pt x="1551" y="637"/>
                  </a:lnTo>
                  <a:lnTo>
                    <a:pt x="1544" y="605"/>
                  </a:lnTo>
                  <a:lnTo>
                    <a:pt x="1536" y="576"/>
                  </a:lnTo>
                  <a:lnTo>
                    <a:pt x="1535" y="553"/>
                  </a:lnTo>
                  <a:lnTo>
                    <a:pt x="1535" y="532"/>
                  </a:lnTo>
                  <a:lnTo>
                    <a:pt x="1538" y="503"/>
                  </a:lnTo>
                  <a:lnTo>
                    <a:pt x="1545" y="479"/>
                  </a:lnTo>
                  <a:lnTo>
                    <a:pt x="1553" y="460"/>
                  </a:lnTo>
                  <a:lnTo>
                    <a:pt x="1564" y="442"/>
                  </a:lnTo>
                  <a:lnTo>
                    <a:pt x="1579" y="422"/>
                  </a:lnTo>
                  <a:lnTo>
                    <a:pt x="1596" y="403"/>
                  </a:lnTo>
                  <a:lnTo>
                    <a:pt x="1617" y="386"/>
                  </a:lnTo>
                  <a:lnTo>
                    <a:pt x="1640" y="372"/>
                  </a:lnTo>
                  <a:lnTo>
                    <a:pt x="1661" y="365"/>
                  </a:lnTo>
                  <a:lnTo>
                    <a:pt x="1682" y="358"/>
                  </a:lnTo>
                  <a:lnTo>
                    <a:pt x="1705" y="355"/>
                  </a:lnTo>
                  <a:lnTo>
                    <a:pt x="1732" y="355"/>
                  </a:lnTo>
                  <a:lnTo>
                    <a:pt x="1760" y="35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97360" y="3462480"/>
              <a:ext cx="3098520" cy="3395520"/>
            </a:xfrm>
            <a:custGeom>
              <a:avLst/>
              <a:gdLst/>
              <a:ahLst/>
              <a:rect l="l" t="t" r="r" b="b"/>
              <a:pathLst>
                <a:path w="1952" h="2139">
                  <a:moveTo>
                    <a:pt x="744" y="447"/>
                  </a:moveTo>
                  <a:lnTo>
                    <a:pt x="763" y="423"/>
                  </a:lnTo>
                  <a:lnTo>
                    <a:pt x="777" y="400"/>
                  </a:lnTo>
                  <a:lnTo>
                    <a:pt x="785" y="374"/>
                  </a:lnTo>
                  <a:lnTo>
                    <a:pt x="785" y="341"/>
                  </a:lnTo>
                  <a:lnTo>
                    <a:pt x="775" y="303"/>
                  </a:lnTo>
                  <a:lnTo>
                    <a:pt x="768" y="271"/>
                  </a:lnTo>
                  <a:lnTo>
                    <a:pt x="757" y="231"/>
                  </a:lnTo>
                  <a:lnTo>
                    <a:pt x="753" y="189"/>
                  </a:lnTo>
                  <a:lnTo>
                    <a:pt x="757" y="163"/>
                  </a:lnTo>
                  <a:lnTo>
                    <a:pt x="765" y="131"/>
                  </a:lnTo>
                  <a:lnTo>
                    <a:pt x="780" y="98"/>
                  </a:lnTo>
                  <a:lnTo>
                    <a:pt x="801" y="66"/>
                  </a:lnTo>
                  <a:lnTo>
                    <a:pt x="829" y="40"/>
                  </a:lnTo>
                  <a:lnTo>
                    <a:pt x="853" y="20"/>
                  </a:lnTo>
                  <a:lnTo>
                    <a:pt x="886" y="8"/>
                  </a:lnTo>
                  <a:lnTo>
                    <a:pt x="926" y="2"/>
                  </a:lnTo>
                  <a:lnTo>
                    <a:pt x="968" y="0"/>
                  </a:lnTo>
                  <a:lnTo>
                    <a:pt x="1026" y="0"/>
                  </a:lnTo>
                  <a:lnTo>
                    <a:pt x="1072" y="5"/>
                  </a:lnTo>
                  <a:lnTo>
                    <a:pt x="1098" y="14"/>
                  </a:lnTo>
                  <a:lnTo>
                    <a:pt x="1117" y="26"/>
                  </a:lnTo>
                  <a:lnTo>
                    <a:pt x="1139" y="40"/>
                  </a:lnTo>
                  <a:lnTo>
                    <a:pt x="1160" y="61"/>
                  </a:lnTo>
                  <a:lnTo>
                    <a:pt x="1180" y="89"/>
                  </a:lnTo>
                  <a:lnTo>
                    <a:pt x="1195" y="113"/>
                  </a:lnTo>
                  <a:lnTo>
                    <a:pt x="1203" y="134"/>
                  </a:lnTo>
                  <a:lnTo>
                    <a:pt x="1209" y="171"/>
                  </a:lnTo>
                  <a:lnTo>
                    <a:pt x="1209" y="203"/>
                  </a:lnTo>
                  <a:lnTo>
                    <a:pt x="1204" y="234"/>
                  </a:lnTo>
                  <a:lnTo>
                    <a:pt x="1198" y="259"/>
                  </a:lnTo>
                  <a:lnTo>
                    <a:pt x="1190" y="298"/>
                  </a:lnTo>
                  <a:lnTo>
                    <a:pt x="1180" y="339"/>
                  </a:lnTo>
                  <a:lnTo>
                    <a:pt x="1175" y="365"/>
                  </a:lnTo>
                  <a:lnTo>
                    <a:pt x="1183" y="391"/>
                  </a:lnTo>
                  <a:lnTo>
                    <a:pt x="1192" y="409"/>
                  </a:lnTo>
                  <a:lnTo>
                    <a:pt x="1209" y="434"/>
                  </a:lnTo>
                  <a:lnTo>
                    <a:pt x="1233" y="453"/>
                  </a:lnTo>
                  <a:lnTo>
                    <a:pt x="1256" y="470"/>
                  </a:lnTo>
                  <a:lnTo>
                    <a:pt x="1289" y="484"/>
                  </a:lnTo>
                  <a:lnTo>
                    <a:pt x="1323" y="493"/>
                  </a:lnTo>
                  <a:lnTo>
                    <a:pt x="1355" y="500"/>
                  </a:lnTo>
                  <a:lnTo>
                    <a:pt x="1388" y="505"/>
                  </a:lnTo>
                  <a:lnTo>
                    <a:pt x="1423" y="514"/>
                  </a:lnTo>
                  <a:lnTo>
                    <a:pt x="1450" y="523"/>
                  </a:lnTo>
                  <a:lnTo>
                    <a:pt x="1472" y="534"/>
                  </a:lnTo>
                  <a:lnTo>
                    <a:pt x="1488" y="546"/>
                  </a:lnTo>
                  <a:lnTo>
                    <a:pt x="1500" y="560"/>
                  </a:lnTo>
                  <a:lnTo>
                    <a:pt x="1510" y="576"/>
                  </a:lnTo>
                  <a:lnTo>
                    <a:pt x="1517" y="596"/>
                  </a:lnTo>
                  <a:lnTo>
                    <a:pt x="1520" y="614"/>
                  </a:lnTo>
                  <a:lnTo>
                    <a:pt x="1523" y="631"/>
                  </a:lnTo>
                  <a:lnTo>
                    <a:pt x="1523" y="654"/>
                  </a:lnTo>
                  <a:lnTo>
                    <a:pt x="1520" y="680"/>
                  </a:lnTo>
                  <a:lnTo>
                    <a:pt x="1520" y="700"/>
                  </a:lnTo>
                  <a:lnTo>
                    <a:pt x="1525" y="724"/>
                  </a:lnTo>
                  <a:lnTo>
                    <a:pt x="1535" y="745"/>
                  </a:lnTo>
                  <a:lnTo>
                    <a:pt x="1548" y="763"/>
                  </a:lnTo>
                  <a:lnTo>
                    <a:pt x="1563" y="777"/>
                  </a:lnTo>
                  <a:lnTo>
                    <a:pt x="1583" y="792"/>
                  </a:lnTo>
                  <a:lnTo>
                    <a:pt x="1602" y="801"/>
                  </a:lnTo>
                  <a:lnTo>
                    <a:pt x="1633" y="808"/>
                  </a:lnTo>
                  <a:lnTo>
                    <a:pt x="1659" y="811"/>
                  </a:lnTo>
                  <a:lnTo>
                    <a:pt x="1683" y="812"/>
                  </a:lnTo>
                  <a:lnTo>
                    <a:pt x="1710" y="811"/>
                  </a:lnTo>
                  <a:lnTo>
                    <a:pt x="1744" y="808"/>
                  </a:lnTo>
                  <a:lnTo>
                    <a:pt x="1769" y="806"/>
                  </a:lnTo>
                  <a:lnTo>
                    <a:pt x="1795" y="803"/>
                  </a:lnTo>
                  <a:lnTo>
                    <a:pt x="1820" y="801"/>
                  </a:lnTo>
                  <a:lnTo>
                    <a:pt x="1849" y="803"/>
                  </a:lnTo>
                  <a:lnTo>
                    <a:pt x="1864" y="806"/>
                  </a:lnTo>
                  <a:lnTo>
                    <a:pt x="1882" y="811"/>
                  </a:lnTo>
                  <a:lnTo>
                    <a:pt x="1899" y="820"/>
                  </a:lnTo>
                  <a:lnTo>
                    <a:pt x="1917" y="833"/>
                  </a:lnTo>
                  <a:lnTo>
                    <a:pt x="1931" y="849"/>
                  </a:lnTo>
                  <a:lnTo>
                    <a:pt x="1941" y="871"/>
                  </a:lnTo>
                  <a:lnTo>
                    <a:pt x="1946" y="891"/>
                  </a:lnTo>
                  <a:lnTo>
                    <a:pt x="1949" y="915"/>
                  </a:lnTo>
                  <a:lnTo>
                    <a:pt x="1952" y="960"/>
                  </a:lnTo>
                  <a:lnTo>
                    <a:pt x="1950" y="1011"/>
                  </a:lnTo>
                  <a:lnTo>
                    <a:pt x="1952" y="1066"/>
                  </a:lnTo>
                  <a:lnTo>
                    <a:pt x="1947" y="1130"/>
                  </a:lnTo>
                  <a:lnTo>
                    <a:pt x="1943" y="1174"/>
                  </a:lnTo>
                  <a:lnTo>
                    <a:pt x="1938" y="1209"/>
                  </a:lnTo>
                  <a:lnTo>
                    <a:pt x="1931" y="1229"/>
                  </a:lnTo>
                  <a:lnTo>
                    <a:pt x="1918" y="1247"/>
                  </a:lnTo>
                  <a:lnTo>
                    <a:pt x="1905" y="1259"/>
                  </a:lnTo>
                  <a:lnTo>
                    <a:pt x="1886" y="1270"/>
                  </a:lnTo>
                  <a:lnTo>
                    <a:pt x="1865" y="1276"/>
                  </a:lnTo>
                  <a:lnTo>
                    <a:pt x="1847" y="1280"/>
                  </a:lnTo>
                  <a:lnTo>
                    <a:pt x="1809" y="1282"/>
                  </a:lnTo>
                  <a:lnTo>
                    <a:pt x="1776" y="1280"/>
                  </a:lnTo>
                  <a:lnTo>
                    <a:pt x="1748" y="1276"/>
                  </a:lnTo>
                  <a:lnTo>
                    <a:pt x="1724" y="1274"/>
                  </a:lnTo>
                  <a:lnTo>
                    <a:pt x="1697" y="1273"/>
                  </a:lnTo>
                  <a:lnTo>
                    <a:pt x="1672" y="1273"/>
                  </a:lnTo>
                  <a:lnTo>
                    <a:pt x="1651" y="1274"/>
                  </a:lnTo>
                  <a:lnTo>
                    <a:pt x="1628" y="1276"/>
                  </a:lnTo>
                  <a:lnTo>
                    <a:pt x="1601" y="1283"/>
                  </a:lnTo>
                  <a:lnTo>
                    <a:pt x="1586" y="1289"/>
                  </a:lnTo>
                  <a:lnTo>
                    <a:pt x="1572" y="1295"/>
                  </a:lnTo>
                  <a:lnTo>
                    <a:pt x="1554" y="1308"/>
                  </a:lnTo>
                  <a:lnTo>
                    <a:pt x="1541" y="1323"/>
                  </a:lnTo>
                  <a:lnTo>
                    <a:pt x="1532" y="1337"/>
                  </a:lnTo>
                  <a:lnTo>
                    <a:pt x="1523" y="1353"/>
                  </a:lnTo>
                  <a:lnTo>
                    <a:pt x="1519" y="1370"/>
                  </a:lnTo>
                  <a:lnTo>
                    <a:pt x="1517" y="1388"/>
                  </a:lnTo>
                  <a:lnTo>
                    <a:pt x="1519" y="1408"/>
                  </a:lnTo>
                  <a:lnTo>
                    <a:pt x="1519" y="1441"/>
                  </a:lnTo>
                  <a:lnTo>
                    <a:pt x="1517" y="1476"/>
                  </a:lnTo>
                  <a:lnTo>
                    <a:pt x="1508" y="1502"/>
                  </a:lnTo>
                  <a:lnTo>
                    <a:pt x="1499" y="1524"/>
                  </a:lnTo>
                  <a:lnTo>
                    <a:pt x="1485" y="1539"/>
                  </a:lnTo>
                  <a:lnTo>
                    <a:pt x="1465" y="1551"/>
                  </a:lnTo>
                  <a:lnTo>
                    <a:pt x="1446" y="1562"/>
                  </a:lnTo>
                  <a:lnTo>
                    <a:pt x="1423" y="1568"/>
                  </a:lnTo>
                  <a:lnTo>
                    <a:pt x="1394" y="1574"/>
                  </a:lnTo>
                  <a:lnTo>
                    <a:pt x="1370" y="1581"/>
                  </a:lnTo>
                  <a:lnTo>
                    <a:pt x="1341" y="1586"/>
                  </a:lnTo>
                  <a:lnTo>
                    <a:pt x="1317" y="1590"/>
                  </a:lnTo>
                  <a:lnTo>
                    <a:pt x="1289" y="1596"/>
                  </a:lnTo>
                  <a:lnTo>
                    <a:pt x="1268" y="1607"/>
                  </a:lnTo>
                  <a:lnTo>
                    <a:pt x="1244" y="1618"/>
                  </a:lnTo>
                  <a:lnTo>
                    <a:pt x="1221" y="1631"/>
                  </a:lnTo>
                  <a:lnTo>
                    <a:pt x="1204" y="1650"/>
                  </a:lnTo>
                  <a:lnTo>
                    <a:pt x="1189" y="1671"/>
                  </a:lnTo>
                  <a:lnTo>
                    <a:pt x="1177" y="1697"/>
                  </a:lnTo>
                  <a:lnTo>
                    <a:pt x="1174" y="1720"/>
                  </a:lnTo>
                  <a:lnTo>
                    <a:pt x="1175" y="1745"/>
                  </a:lnTo>
                  <a:lnTo>
                    <a:pt x="1180" y="1770"/>
                  </a:lnTo>
                  <a:lnTo>
                    <a:pt x="1187" y="1796"/>
                  </a:lnTo>
                  <a:lnTo>
                    <a:pt x="1193" y="1824"/>
                  </a:lnTo>
                  <a:lnTo>
                    <a:pt x="1198" y="1850"/>
                  </a:lnTo>
                  <a:lnTo>
                    <a:pt x="1204" y="1884"/>
                  </a:lnTo>
                  <a:lnTo>
                    <a:pt x="1204" y="1917"/>
                  </a:lnTo>
                  <a:lnTo>
                    <a:pt x="1196" y="1951"/>
                  </a:lnTo>
                  <a:lnTo>
                    <a:pt x="1189" y="1976"/>
                  </a:lnTo>
                  <a:lnTo>
                    <a:pt x="1180" y="2002"/>
                  </a:lnTo>
                  <a:lnTo>
                    <a:pt x="1168" y="2027"/>
                  </a:lnTo>
                  <a:lnTo>
                    <a:pt x="1151" y="2057"/>
                  </a:lnTo>
                  <a:lnTo>
                    <a:pt x="1133" y="2077"/>
                  </a:lnTo>
                  <a:lnTo>
                    <a:pt x="1117" y="2090"/>
                  </a:lnTo>
                  <a:lnTo>
                    <a:pt x="1098" y="2107"/>
                  </a:lnTo>
                  <a:lnTo>
                    <a:pt x="1076" y="2122"/>
                  </a:lnTo>
                  <a:lnTo>
                    <a:pt x="1057" y="2130"/>
                  </a:lnTo>
                  <a:lnTo>
                    <a:pt x="1038" y="2135"/>
                  </a:lnTo>
                  <a:lnTo>
                    <a:pt x="1008" y="2138"/>
                  </a:lnTo>
                  <a:lnTo>
                    <a:pt x="973" y="2139"/>
                  </a:lnTo>
                  <a:lnTo>
                    <a:pt x="930" y="2138"/>
                  </a:lnTo>
                  <a:lnTo>
                    <a:pt x="911" y="2138"/>
                  </a:lnTo>
                  <a:lnTo>
                    <a:pt x="885" y="2133"/>
                  </a:lnTo>
                  <a:lnTo>
                    <a:pt x="858" y="2125"/>
                  </a:lnTo>
                  <a:lnTo>
                    <a:pt x="833" y="2112"/>
                  </a:lnTo>
                  <a:lnTo>
                    <a:pt x="818" y="2100"/>
                  </a:lnTo>
                  <a:lnTo>
                    <a:pt x="801" y="2083"/>
                  </a:lnTo>
                  <a:lnTo>
                    <a:pt x="788" y="2068"/>
                  </a:lnTo>
                  <a:lnTo>
                    <a:pt x="774" y="2048"/>
                  </a:lnTo>
                  <a:lnTo>
                    <a:pt x="763" y="2028"/>
                  </a:lnTo>
                  <a:lnTo>
                    <a:pt x="754" y="2004"/>
                  </a:lnTo>
                  <a:lnTo>
                    <a:pt x="750" y="1978"/>
                  </a:lnTo>
                  <a:lnTo>
                    <a:pt x="748" y="1958"/>
                  </a:lnTo>
                  <a:lnTo>
                    <a:pt x="748" y="1931"/>
                  </a:lnTo>
                  <a:lnTo>
                    <a:pt x="750" y="1908"/>
                  </a:lnTo>
                  <a:lnTo>
                    <a:pt x="757" y="1884"/>
                  </a:lnTo>
                  <a:lnTo>
                    <a:pt x="763" y="1855"/>
                  </a:lnTo>
                  <a:lnTo>
                    <a:pt x="771" y="1828"/>
                  </a:lnTo>
                  <a:lnTo>
                    <a:pt x="775" y="1803"/>
                  </a:lnTo>
                  <a:lnTo>
                    <a:pt x="777" y="1780"/>
                  </a:lnTo>
                  <a:lnTo>
                    <a:pt x="775" y="1762"/>
                  </a:lnTo>
                  <a:lnTo>
                    <a:pt x="771" y="1744"/>
                  </a:lnTo>
                  <a:lnTo>
                    <a:pt x="759" y="1721"/>
                  </a:lnTo>
                  <a:lnTo>
                    <a:pt x="747" y="1706"/>
                  </a:lnTo>
                  <a:lnTo>
                    <a:pt x="731" y="1689"/>
                  </a:lnTo>
                  <a:lnTo>
                    <a:pt x="715" y="1677"/>
                  </a:lnTo>
                  <a:lnTo>
                    <a:pt x="698" y="1665"/>
                  </a:lnTo>
                  <a:lnTo>
                    <a:pt x="674" y="1656"/>
                  </a:lnTo>
                  <a:lnTo>
                    <a:pt x="652" y="1650"/>
                  </a:lnTo>
                  <a:lnTo>
                    <a:pt x="625" y="1644"/>
                  </a:lnTo>
                  <a:lnTo>
                    <a:pt x="601" y="1641"/>
                  </a:lnTo>
                  <a:lnTo>
                    <a:pt x="578" y="1634"/>
                  </a:lnTo>
                  <a:lnTo>
                    <a:pt x="551" y="1628"/>
                  </a:lnTo>
                  <a:lnTo>
                    <a:pt x="528" y="1619"/>
                  </a:lnTo>
                  <a:lnTo>
                    <a:pt x="500" y="1612"/>
                  </a:lnTo>
                  <a:lnTo>
                    <a:pt x="479" y="1603"/>
                  </a:lnTo>
                  <a:lnTo>
                    <a:pt x="462" y="1589"/>
                  </a:lnTo>
                  <a:lnTo>
                    <a:pt x="449" y="1571"/>
                  </a:lnTo>
                  <a:lnTo>
                    <a:pt x="440" y="1548"/>
                  </a:lnTo>
                  <a:lnTo>
                    <a:pt x="432" y="1517"/>
                  </a:lnTo>
                  <a:lnTo>
                    <a:pt x="430" y="1493"/>
                  </a:lnTo>
                  <a:lnTo>
                    <a:pt x="432" y="1466"/>
                  </a:lnTo>
                  <a:lnTo>
                    <a:pt x="435" y="1444"/>
                  </a:lnTo>
                  <a:lnTo>
                    <a:pt x="432" y="1419"/>
                  </a:lnTo>
                  <a:lnTo>
                    <a:pt x="424" y="1399"/>
                  </a:lnTo>
                  <a:lnTo>
                    <a:pt x="411" y="1378"/>
                  </a:lnTo>
                  <a:lnTo>
                    <a:pt x="397" y="1364"/>
                  </a:lnTo>
                  <a:lnTo>
                    <a:pt x="380" y="1350"/>
                  </a:lnTo>
                  <a:lnTo>
                    <a:pt x="357" y="1341"/>
                  </a:lnTo>
                  <a:lnTo>
                    <a:pt x="332" y="1332"/>
                  </a:lnTo>
                  <a:lnTo>
                    <a:pt x="304" y="1329"/>
                  </a:lnTo>
                  <a:lnTo>
                    <a:pt x="281" y="1326"/>
                  </a:lnTo>
                  <a:lnTo>
                    <a:pt x="256" y="1326"/>
                  </a:lnTo>
                  <a:lnTo>
                    <a:pt x="233" y="1329"/>
                  </a:lnTo>
                  <a:lnTo>
                    <a:pt x="210" y="1330"/>
                  </a:lnTo>
                  <a:lnTo>
                    <a:pt x="187" y="1333"/>
                  </a:lnTo>
                  <a:lnTo>
                    <a:pt x="164" y="1337"/>
                  </a:lnTo>
                  <a:lnTo>
                    <a:pt x="126" y="1337"/>
                  </a:lnTo>
                  <a:lnTo>
                    <a:pt x="102" y="1335"/>
                  </a:lnTo>
                  <a:lnTo>
                    <a:pt x="76" y="1329"/>
                  </a:lnTo>
                  <a:lnTo>
                    <a:pt x="58" y="1320"/>
                  </a:lnTo>
                  <a:lnTo>
                    <a:pt x="38" y="1305"/>
                  </a:lnTo>
                  <a:lnTo>
                    <a:pt x="25" y="1288"/>
                  </a:lnTo>
                  <a:lnTo>
                    <a:pt x="16" y="1270"/>
                  </a:lnTo>
                  <a:lnTo>
                    <a:pt x="5" y="1235"/>
                  </a:lnTo>
                  <a:lnTo>
                    <a:pt x="3" y="1198"/>
                  </a:lnTo>
                  <a:lnTo>
                    <a:pt x="2" y="1162"/>
                  </a:lnTo>
                  <a:lnTo>
                    <a:pt x="0" y="1116"/>
                  </a:lnTo>
                  <a:lnTo>
                    <a:pt x="3" y="1077"/>
                  </a:lnTo>
                  <a:lnTo>
                    <a:pt x="5" y="1034"/>
                  </a:lnTo>
                  <a:lnTo>
                    <a:pt x="6" y="996"/>
                  </a:lnTo>
                  <a:lnTo>
                    <a:pt x="9" y="957"/>
                  </a:lnTo>
                  <a:lnTo>
                    <a:pt x="14" y="926"/>
                  </a:lnTo>
                  <a:lnTo>
                    <a:pt x="19" y="893"/>
                  </a:lnTo>
                  <a:lnTo>
                    <a:pt x="25" y="867"/>
                  </a:lnTo>
                  <a:lnTo>
                    <a:pt x="34" y="850"/>
                  </a:lnTo>
                  <a:lnTo>
                    <a:pt x="47" y="833"/>
                  </a:lnTo>
                  <a:lnTo>
                    <a:pt x="61" y="823"/>
                  </a:lnTo>
                  <a:lnTo>
                    <a:pt x="79" y="811"/>
                  </a:lnTo>
                  <a:lnTo>
                    <a:pt x="96" y="808"/>
                  </a:lnTo>
                  <a:lnTo>
                    <a:pt x="117" y="803"/>
                  </a:lnTo>
                  <a:lnTo>
                    <a:pt x="145" y="801"/>
                  </a:lnTo>
                  <a:lnTo>
                    <a:pt x="169" y="803"/>
                  </a:lnTo>
                  <a:lnTo>
                    <a:pt x="202" y="808"/>
                  </a:lnTo>
                  <a:lnTo>
                    <a:pt x="231" y="809"/>
                  </a:lnTo>
                  <a:lnTo>
                    <a:pt x="256" y="811"/>
                  </a:lnTo>
                  <a:lnTo>
                    <a:pt x="289" y="812"/>
                  </a:lnTo>
                  <a:lnTo>
                    <a:pt x="324" y="808"/>
                  </a:lnTo>
                  <a:lnTo>
                    <a:pt x="353" y="801"/>
                  </a:lnTo>
                  <a:lnTo>
                    <a:pt x="380" y="791"/>
                  </a:lnTo>
                  <a:lnTo>
                    <a:pt x="399" y="780"/>
                  </a:lnTo>
                  <a:lnTo>
                    <a:pt x="417" y="763"/>
                  </a:lnTo>
                  <a:lnTo>
                    <a:pt x="430" y="742"/>
                  </a:lnTo>
                  <a:lnTo>
                    <a:pt x="440" y="721"/>
                  </a:lnTo>
                  <a:lnTo>
                    <a:pt x="443" y="698"/>
                  </a:lnTo>
                  <a:lnTo>
                    <a:pt x="441" y="681"/>
                  </a:lnTo>
                  <a:lnTo>
                    <a:pt x="440" y="649"/>
                  </a:lnTo>
                  <a:lnTo>
                    <a:pt x="441" y="618"/>
                  </a:lnTo>
                  <a:lnTo>
                    <a:pt x="447" y="593"/>
                  </a:lnTo>
                  <a:lnTo>
                    <a:pt x="455" y="570"/>
                  </a:lnTo>
                  <a:lnTo>
                    <a:pt x="465" y="554"/>
                  </a:lnTo>
                  <a:lnTo>
                    <a:pt x="487" y="537"/>
                  </a:lnTo>
                  <a:lnTo>
                    <a:pt x="509" y="525"/>
                  </a:lnTo>
                  <a:lnTo>
                    <a:pt x="538" y="516"/>
                  </a:lnTo>
                  <a:lnTo>
                    <a:pt x="567" y="508"/>
                  </a:lnTo>
                  <a:lnTo>
                    <a:pt x="592" y="502"/>
                  </a:lnTo>
                  <a:lnTo>
                    <a:pt x="622" y="497"/>
                  </a:lnTo>
                  <a:lnTo>
                    <a:pt x="651" y="491"/>
                  </a:lnTo>
                  <a:lnTo>
                    <a:pt x="684" y="482"/>
                  </a:lnTo>
                  <a:lnTo>
                    <a:pt x="716" y="469"/>
                  </a:lnTo>
                  <a:lnTo>
                    <a:pt x="744" y="44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95480" y="4340520"/>
            <a:ext cx="320040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usuwan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szelkich przeszkód w swobodnym przepływie osób, usłu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i kapitał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1065600"/>
            <a:ext cx="25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znoszenia ceł i ograniczeń ilościowy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11520"/>
            <a:ext cx="26668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ustanowienia wspólnej taryfy celnej i wspólnej polity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handlow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358160"/>
            <a:ext cx="264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zyję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spólnej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lityki 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dziedzinie rolnic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4494600"/>
            <a:ext cx="30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zyję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spólnej polity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 dziedzin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transpor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6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81080"/>
            <a:ext cx="8915400" cy="328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Unia celna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- Cła w handlu wewnętrznym między krajami Wspólno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przestają obowiązywa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- narodowe taryfy celne zostają zastąpione Wspól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Taryfą, która obowiązuje w handlu z krajami sp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spólno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i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6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69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762120"/>
            <a:ext cx="289548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spólna polityka handlowa obejmuj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2593440"/>
            <a:ext cx="4343400" cy="1437120"/>
            <a:chOff x="457200" y="2593440"/>
            <a:chExt cx="4343400" cy="1437120"/>
          </a:xfrm>
        </p:grpSpPr>
        <p:sp>
          <p:nvSpPr>
            <p:cNvPr id="193" name=""/>
            <p:cNvSpPr/>
            <p:nvPr/>
          </p:nvSpPr>
          <p:spPr>
            <a:xfrm>
              <a:off x="457200" y="2971800"/>
              <a:ext cx="3353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- ustalenie wspólnej taryfy celne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52840" y="2593440"/>
              <a:ext cx="1247760" cy="1437120"/>
              <a:chOff x="3552840" y="2593440"/>
              <a:chExt cx="1247760" cy="1437120"/>
            </a:xfrm>
          </p:grpSpPr>
          <p:pic>
            <p:nvPicPr>
              <p:cNvPr id="195" name="back048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2840" y="2666880"/>
                <a:ext cx="1247760" cy="13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000000">
                <a:off x="3708000" y="2664360"/>
                <a:ext cx="9075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el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57200" y="3886200"/>
            <a:ext cx="8686800" cy="890640"/>
            <a:chOff x="457200" y="3886200"/>
            <a:chExt cx="8686800" cy="890640"/>
          </a:xfrm>
        </p:grpSpPr>
        <p:sp>
          <p:nvSpPr>
            <p:cNvPr id="198" name=""/>
            <p:cNvSpPr/>
            <p:nvPr/>
          </p:nvSpPr>
          <p:spPr>
            <a:xfrm>
              <a:off x="457200" y="4038840"/>
              <a:ext cx="6934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- zawieranie umów celnych i handlow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HANDSHK1" descr=""/>
            <p:cNvPicPr/>
            <p:nvPr/>
          </p:nvPicPr>
          <p:blipFill>
            <a:blip r:embed="rId3"/>
            <a:stretch/>
          </p:blipFill>
          <p:spPr>
            <a:xfrm>
              <a:off x="7238880" y="3886200"/>
              <a:ext cx="1905120" cy="8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457200" y="4724280"/>
            <a:ext cx="7467480" cy="1194840"/>
            <a:chOff x="457200" y="4724280"/>
            <a:chExt cx="7467480" cy="1194840"/>
          </a:xfrm>
        </p:grpSpPr>
        <p:sp>
          <p:nvSpPr>
            <p:cNvPr id="201" name=""/>
            <p:cNvSpPr/>
            <p:nvPr/>
          </p:nvSpPr>
          <p:spPr>
            <a:xfrm>
              <a:off x="457200" y="4971960"/>
              <a:ext cx="678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- ujednolicenie narzędzi polityki eksportowej i środków ochronnych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172200" y="4724280"/>
              <a:ext cx="1752480" cy="1135080"/>
              <a:chOff x="6172200" y="4724280"/>
              <a:chExt cx="1752480" cy="1135080"/>
            </a:xfrm>
          </p:grpSpPr>
          <p:pic>
            <p:nvPicPr>
              <p:cNvPr id="203" name="back07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72200" y="4724280"/>
                <a:ext cx="175248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6562800" y="4799160"/>
                <a:ext cx="120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X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600" y="1112760"/>
            <a:ext cx="4114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imes New Roman"/>
              </a:rPr>
              <a:t>W Luksemburgu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imes New Roman"/>
              </a:rPr>
              <a:t>został podpisan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imes New Roman"/>
              </a:rPr>
              <a:t>Jednolity Akt Europejsk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10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581280" cy="233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04920" y="2957400"/>
            <a:ext cx="830556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rynek wewnętrzn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obszar bez granic wewnętrznyc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opiera się na czterech podstawowych filara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towa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osób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usłu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kapitału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800" y="308880"/>
            <a:ext cx="7999920" cy="779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ele działania rynku wewnętrzn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157760"/>
            <a:ext cx="4419720" cy="1770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Ryne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wewnętrzn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23000" y="2590920"/>
            <a:ext cx="3006000" cy="2044440"/>
            <a:chOff x="423000" y="2590920"/>
            <a:chExt cx="3006000" cy="2044440"/>
          </a:xfrm>
        </p:grpSpPr>
        <p:sp>
          <p:nvSpPr>
            <p:cNvPr id="219" name=""/>
            <p:cNvSpPr/>
            <p:nvPr/>
          </p:nvSpPr>
          <p:spPr>
            <a:xfrm>
              <a:off x="457200" y="3124080"/>
              <a:ext cx="2971800" cy="550800"/>
            </a:xfrm>
            <a:prstGeom prst="rect">
              <a:avLst/>
            </a:prstGeom>
            <a:noFill/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Times New Roman"/>
                </a:rPr>
                <a:t>Cele zewnętrzn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" y="3809880"/>
              <a:ext cx="3000240" cy="825480"/>
            </a:xfrm>
            <a:prstGeom prst="rect">
              <a:avLst/>
            </a:prstGeom>
            <a:noFill/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Wzmocni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konkurencyjności 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981080" y="2590920"/>
              <a:ext cx="914400" cy="45720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029200" y="2590920"/>
            <a:ext cx="3200400" cy="1752480"/>
            <a:chOff x="5029200" y="2590920"/>
            <a:chExt cx="3200400" cy="1752480"/>
          </a:xfrm>
        </p:grpSpPr>
        <p:sp>
          <p:nvSpPr>
            <p:cNvPr id="223" name=""/>
            <p:cNvSpPr/>
            <p:nvPr/>
          </p:nvSpPr>
          <p:spPr>
            <a:xfrm>
              <a:off x="5029200" y="3124080"/>
              <a:ext cx="3200400" cy="55080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Times New Roman"/>
                </a:rPr>
                <a:t>Cele wewnętrzn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9200" y="3825720"/>
              <a:ext cx="3198960" cy="51768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Swobodny przepły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2590920"/>
              <a:ext cx="38088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666880" y="4511520"/>
            <a:ext cx="2133720" cy="1965240"/>
            <a:chOff x="2666880" y="4511520"/>
            <a:chExt cx="2133720" cy="1965240"/>
          </a:xfrm>
        </p:grpSpPr>
        <p:pic>
          <p:nvPicPr>
            <p:cNvPr id="227" name="SHOPCART" descr=""/>
            <p:cNvPicPr/>
            <p:nvPr/>
          </p:nvPicPr>
          <p:blipFill>
            <a:blip r:embed="rId2"/>
            <a:stretch/>
          </p:blipFill>
          <p:spPr>
            <a:xfrm>
              <a:off x="2666880" y="5425920"/>
              <a:ext cx="101124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45000" y="50450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towar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886200" y="4511520"/>
              <a:ext cx="914400" cy="533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267080" y="4692240"/>
            <a:ext cx="1692360" cy="1784520"/>
            <a:chOff x="4267080" y="4692240"/>
            <a:chExt cx="1692360" cy="1784520"/>
          </a:xfrm>
        </p:grpSpPr>
        <p:pic>
          <p:nvPicPr>
            <p:cNvPr id="231" name="BIZMTG" descr=""/>
            <p:cNvPicPr/>
            <p:nvPr/>
          </p:nvPicPr>
          <p:blipFill>
            <a:blip r:embed="rId3"/>
            <a:stretch/>
          </p:blipFill>
          <p:spPr>
            <a:xfrm>
              <a:off x="4267080" y="5449680"/>
              <a:ext cx="169236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741920" y="50688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osó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19000" y="4692240"/>
              <a:ext cx="562680" cy="447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400800" y="4651200"/>
            <a:ext cx="1380960" cy="1825560"/>
            <a:chOff x="6400800" y="4651200"/>
            <a:chExt cx="1380960" cy="1825560"/>
          </a:xfrm>
        </p:grpSpPr>
        <p:pic>
          <p:nvPicPr>
            <p:cNvPr id="235" name="MTGPEOPL" descr=""/>
            <p:cNvPicPr/>
            <p:nvPr/>
          </p:nvPicPr>
          <p:blipFill>
            <a:blip r:embed="rId4"/>
            <a:stretch/>
          </p:blipFill>
          <p:spPr>
            <a:xfrm>
              <a:off x="6400800" y="5565600"/>
              <a:ext cx="138096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513480" y="51084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usłu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7640" y="4651200"/>
              <a:ext cx="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912440" y="4572000"/>
            <a:ext cx="1231560" cy="1784520"/>
            <a:chOff x="7912440" y="4572000"/>
            <a:chExt cx="1231560" cy="1784520"/>
          </a:xfrm>
        </p:grpSpPr>
        <p:pic>
          <p:nvPicPr>
            <p:cNvPr id="239" name="COINS" descr=""/>
            <p:cNvPicPr/>
            <p:nvPr/>
          </p:nvPicPr>
          <p:blipFill>
            <a:blip r:embed="rId5"/>
            <a:stretch/>
          </p:blipFill>
          <p:spPr>
            <a:xfrm>
              <a:off x="8153280" y="5410080"/>
              <a:ext cx="99072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912440" y="49528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apitał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4572000"/>
              <a:ext cx="53352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Flaga_UE" descr=""/>
          <p:cNvPicPr/>
          <p:nvPr/>
        </p:nvPicPr>
        <p:blipFill>
          <a:blip r:embed="rId6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4920" y="2286000"/>
            <a:ext cx="693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towa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SHOPCART" descr=""/>
          <p:cNvPicPr/>
          <p:nvPr/>
        </p:nvPicPr>
        <p:blipFill>
          <a:blip r:embed="rId2"/>
          <a:stretch/>
        </p:blipFill>
        <p:spPr>
          <a:xfrm>
            <a:off x="6781680" y="1066680"/>
            <a:ext cx="1689120" cy="1752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3124080"/>
            <a:ext cx="8076960" cy="3276720"/>
            <a:chOff x="304920" y="3124080"/>
            <a:chExt cx="8076960" cy="3276720"/>
          </a:xfrm>
        </p:grpSpPr>
        <p:sp>
          <p:nvSpPr>
            <p:cNvPr id="255" name=""/>
            <p:cNvSpPr/>
            <p:nvPr/>
          </p:nvSpPr>
          <p:spPr>
            <a:xfrm>
              <a:off x="2133720" y="3352680"/>
              <a:ext cx="548640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Nie ma gran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Nie ma ceł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Dotyczy to wszystkich towaró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Harmonizacja podatkó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Jednolite standardy (normy, certyfikaty) dotyczące produktó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920" y="3124080"/>
              <a:ext cx="8076960" cy="32767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BIZMTG" descr=""/>
          <p:cNvPicPr/>
          <p:nvPr/>
        </p:nvPicPr>
        <p:blipFill>
          <a:blip r:embed="rId2"/>
          <a:stretch/>
        </p:blipFill>
        <p:spPr>
          <a:xfrm>
            <a:off x="6172200" y="1141560"/>
            <a:ext cx="2514600" cy="1525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5781600"/>
            <a:ext cx="8458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003399"/>
                </a:solidFill>
                <a:latin typeface="Times New Roman"/>
              </a:rPr>
              <a:t>Również jednakowe prawa w dziedzinach: edukacji, ochrony zdrowia (ulgi, zasiłki, stypendia itp.) oraz wzajemne uznawanie dyplomó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28600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osó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2280" y="3048120"/>
            <a:ext cx="1828800" cy="1375920"/>
            <a:chOff x="152280" y="3048120"/>
            <a:chExt cx="1828800" cy="1375920"/>
          </a:xfrm>
        </p:grpSpPr>
        <p:sp>
          <p:nvSpPr>
            <p:cNvPr id="271" name=""/>
            <p:cNvSpPr/>
            <p:nvPr/>
          </p:nvSpPr>
          <p:spPr>
            <a:xfrm>
              <a:off x="152280" y="3048120"/>
              <a:ext cx="1706400" cy="137160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280" y="3124080"/>
              <a:ext cx="182880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ac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981080" y="3048120"/>
            <a:ext cx="1905120" cy="1375920"/>
            <a:chOff x="1981080" y="3048120"/>
            <a:chExt cx="1905120" cy="1375920"/>
          </a:xfrm>
        </p:grpSpPr>
        <p:sp>
          <p:nvSpPr>
            <p:cNvPr id="274" name=""/>
            <p:cNvSpPr/>
            <p:nvPr/>
          </p:nvSpPr>
          <p:spPr>
            <a:xfrm>
              <a:off x="1981080" y="3048120"/>
              <a:ext cx="1777680" cy="137160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1080" y="3124080"/>
              <a:ext cx="190512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ży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86200" y="3048120"/>
            <a:ext cx="2437920" cy="1371600"/>
            <a:chOff x="3886200" y="3048120"/>
            <a:chExt cx="2437920" cy="1371600"/>
          </a:xfrm>
        </p:grpSpPr>
        <p:sp>
          <p:nvSpPr>
            <p:cNvPr id="277" name=""/>
            <p:cNvSpPr/>
            <p:nvPr/>
          </p:nvSpPr>
          <p:spPr>
            <a:xfrm>
              <a:off x="3886200" y="3048120"/>
              <a:ext cx="2275200" cy="137160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6200" y="3124080"/>
              <a:ext cx="24379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osiedlania si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48520" y="3048120"/>
            <a:ext cx="2895120" cy="1710720"/>
            <a:chOff x="6248520" y="3048120"/>
            <a:chExt cx="2895120" cy="1710720"/>
          </a:xfrm>
        </p:grpSpPr>
        <p:sp>
          <p:nvSpPr>
            <p:cNvPr id="280" name=""/>
            <p:cNvSpPr/>
            <p:nvPr/>
          </p:nvSpPr>
          <p:spPr>
            <a:xfrm>
              <a:off x="6248520" y="3048120"/>
              <a:ext cx="2701800" cy="171072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3142800"/>
              <a:ext cx="2895120" cy="15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korzystania ze świadczeń socjal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91840" y="4419360"/>
            <a:ext cx="7099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 jakimkolwiek kraju na ter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E bez względu na przynależność państw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MTGPEOPL" descr=""/>
          <p:cNvPicPr/>
          <p:nvPr/>
        </p:nvPicPr>
        <p:blipFill>
          <a:blip r:embed="rId2"/>
          <a:stretch/>
        </p:blipFill>
        <p:spPr>
          <a:xfrm>
            <a:off x="6086520" y="990720"/>
            <a:ext cx="2676600" cy="1765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228600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usł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680" y="5333400"/>
            <a:ext cx="678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 kraju własnym i innym członkows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724280" y="3394080"/>
            <a:ext cx="3581280" cy="1711080"/>
            <a:chOff x="4724280" y="3394080"/>
            <a:chExt cx="3581280" cy="1711080"/>
          </a:xfrm>
        </p:grpSpPr>
        <p:sp>
          <p:nvSpPr>
            <p:cNvPr id="296" name=""/>
            <p:cNvSpPr/>
            <p:nvPr/>
          </p:nvSpPr>
          <p:spPr>
            <a:xfrm>
              <a:off x="4724280" y="3394080"/>
              <a:ext cx="3342240" cy="171108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4280" y="3488760"/>
              <a:ext cx="35812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przedaży usłu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62120" y="3394080"/>
            <a:ext cx="3580920" cy="1711080"/>
            <a:chOff x="762120" y="3394080"/>
            <a:chExt cx="3580920" cy="1711080"/>
          </a:xfrm>
        </p:grpSpPr>
        <p:sp>
          <p:nvSpPr>
            <p:cNvPr id="299" name=""/>
            <p:cNvSpPr/>
            <p:nvPr/>
          </p:nvSpPr>
          <p:spPr>
            <a:xfrm>
              <a:off x="762120" y="3394080"/>
              <a:ext cx="3341880" cy="171108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3488760"/>
              <a:ext cx="35809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zakupu usług zagranicz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COINS" descr=""/>
          <p:cNvPicPr/>
          <p:nvPr/>
        </p:nvPicPr>
        <p:blipFill>
          <a:blip r:embed="rId2"/>
          <a:stretch/>
        </p:blipFill>
        <p:spPr>
          <a:xfrm>
            <a:off x="6705720" y="106668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228600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kapitał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57200" y="3048120"/>
            <a:ext cx="3809520" cy="3047040"/>
            <a:chOff x="457200" y="3048120"/>
            <a:chExt cx="3809520" cy="3047040"/>
          </a:xfrm>
        </p:grpSpPr>
        <p:sp>
          <p:nvSpPr>
            <p:cNvPr id="313" name=""/>
            <p:cNvSpPr/>
            <p:nvPr/>
          </p:nvSpPr>
          <p:spPr>
            <a:xfrm>
              <a:off x="457200" y="3048120"/>
              <a:ext cx="3555000" cy="304704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" y="3216600"/>
              <a:ext cx="380952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odnosi się do samodzielnych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transakcji finansowych, nie związanych z przepływem towarów, usług czy osó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00600" y="3048120"/>
            <a:ext cx="4114440" cy="3047040"/>
            <a:chOff x="4800600" y="3048120"/>
            <a:chExt cx="4114440" cy="3047040"/>
          </a:xfrm>
        </p:grpSpPr>
        <p:sp>
          <p:nvSpPr>
            <p:cNvPr id="316" name=""/>
            <p:cNvSpPr/>
            <p:nvPr/>
          </p:nvSpPr>
          <p:spPr>
            <a:xfrm>
              <a:off x="4800600" y="3048120"/>
              <a:ext cx="3839760" cy="304704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0600" y="3216600"/>
              <a:ext cx="411444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Times New Roman"/>
                </a:rPr>
                <a:t>jest to niezbędny warunek korzystania z pozostałych swobód (np. prowadzenia działalności gospodarczej na terenie innego państwa członkowskiego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0040" y="1778040"/>
            <a:ext cx="349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. Strefa woln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hand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32320" y="182880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wołanie Europejskiego Systemu Walutowego (E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rzez Radę Minist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7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7716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uropejski System Walutowy zastąpił istniejący do tej pory "wąż walutowy"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rozpoczął działalność w 1979)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 Był  oparty na trz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lement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0"/>
            <a:ext cx="167616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grud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7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854680" y="4267080"/>
            <a:ext cx="3289320" cy="2210040"/>
            <a:chOff x="5854680" y="4267080"/>
            <a:chExt cx="3289320" cy="2210040"/>
          </a:xfrm>
        </p:grpSpPr>
        <p:sp>
          <p:nvSpPr>
            <p:cNvPr id="328" name=""/>
            <p:cNvSpPr/>
            <p:nvPr/>
          </p:nvSpPr>
          <p:spPr>
            <a:xfrm>
              <a:off x="6311880" y="4267080"/>
              <a:ext cx="2362320" cy="22100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4680" y="4572000"/>
              <a:ext cx="3289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uropejska Jednostka Walutow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C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28600" y="5410080"/>
            <a:ext cx="2514600" cy="1067040"/>
            <a:chOff x="228600" y="5410080"/>
            <a:chExt cx="2514600" cy="1067040"/>
          </a:xfrm>
        </p:grpSpPr>
        <p:sp>
          <p:nvSpPr>
            <p:cNvPr id="331" name=""/>
            <p:cNvSpPr/>
            <p:nvPr/>
          </p:nvSpPr>
          <p:spPr>
            <a:xfrm>
              <a:off x="228600" y="5410080"/>
              <a:ext cx="2514600" cy="1067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548604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echanizmy kredytow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76720" y="4114800"/>
            <a:ext cx="2895480" cy="2362320"/>
            <a:chOff x="3276720" y="4114800"/>
            <a:chExt cx="2895480" cy="2362320"/>
          </a:xfrm>
        </p:grpSpPr>
        <p:sp>
          <p:nvSpPr>
            <p:cNvPr id="334" name=""/>
            <p:cNvSpPr/>
            <p:nvPr/>
          </p:nvSpPr>
          <p:spPr>
            <a:xfrm>
              <a:off x="3276720" y="4114800"/>
              <a:ext cx="2895480" cy="2362320"/>
            </a:xfrm>
            <a:prstGeom prst="triangle">
              <a:avLst>
                <a:gd name="adj" fmla="val 5000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1640" y="5486040"/>
              <a:ext cx="217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echanizm interwencj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7200" y="10666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Plan integracji</a:t>
            </a: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gospodarczej i walutowej – Raport Delorsa</a:t>
            </a: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8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487692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jednolity ryne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polityka konkurencj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wspólna polityka dotycząca przemian w gospodar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polityka antyinflacyj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4937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wymienialność wal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liberalizacja transakcji kapitałow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eliminacja wahań kursów walutow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integracja rynku finans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181480" y="2133720"/>
            <a:ext cx="2971800" cy="2666880"/>
            <a:chOff x="5181480" y="2133720"/>
            <a:chExt cx="2971800" cy="2666880"/>
          </a:xfrm>
        </p:grpSpPr>
        <p:sp>
          <p:nvSpPr>
            <p:cNvPr id="347" name=""/>
            <p:cNvSpPr/>
            <p:nvPr/>
          </p:nvSpPr>
          <p:spPr>
            <a:xfrm>
              <a:off x="5333760" y="2133720"/>
              <a:ext cx="2666880" cy="2666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274104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Unia Walutowa - obszar walutowy na którym zapewnione są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09480" y="2133720"/>
            <a:ext cx="2971800" cy="2666880"/>
            <a:chOff x="609480" y="2133720"/>
            <a:chExt cx="2971800" cy="2666880"/>
          </a:xfrm>
        </p:grpSpPr>
        <p:sp>
          <p:nvSpPr>
            <p:cNvPr id="350" name=""/>
            <p:cNvSpPr/>
            <p:nvPr/>
          </p:nvSpPr>
          <p:spPr>
            <a:xfrm>
              <a:off x="761760" y="2133720"/>
              <a:ext cx="2667240" cy="2666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2762640"/>
              <a:ext cx="297180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Unia Gospodarcza - obszar gospodarczy na którym zapewnione są:</a:t>
              </a: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7320" y="6445800"/>
            <a:ext cx="86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828800" y="2409840"/>
            <a:ext cx="6858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Utworzenie jednolitego rynku wewnętrznego było tylko etapem niezbędnym do osiągnięcia wyższego poziomu integracji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Times New Roman"/>
              </a:rPr>
              <a:t>Uni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3960" y="3808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1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143000"/>
            <a:ext cx="2209680" cy="3200400"/>
            <a:chOff x="0" y="1143000"/>
            <a:chExt cx="2209680" cy="3200400"/>
          </a:xfrm>
        </p:grpSpPr>
        <p:pic>
          <p:nvPicPr>
            <p:cNvPr id="362" name="Traktat" descr="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0" y="1687320"/>
              <a:ext cx="1990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Maastric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200400" y="2819160"/>
            <a:ext cx="60199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Stworzenie podstaw prawnych dla UG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1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3656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armonogram tworzenia UG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567432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Zasady funkcjonowania Europejskiego Banku Central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4647600"/>
            <a:ext cx="5257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ryteria członkostwa w UG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809720"/>
            <a:ext cx="731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 Sprawach Unii Gospodarczej i  Walutow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600" y="6499800"/>
            <a:ext cx="86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1143000"/>
            <a:ext cx="2209680" cy="3200400"/>
            <a:chOff x="0" y="1143000"/>
            <a:chExt cx="2209680" cy="3200400"/>
          </a:xfrm>
        </p:grpSpPr>
        <p:pic>
          <p:nvPicPr>
            <p:cNvPr id="379" name="Traktat" descr="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0" y="1687320"/>
              <a:ext cx="1990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Maastric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320" y="38088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Bookman Old Style"/>
              </a:rPr>
              <a:t>     </a:t>
            </a:r>
            <a:r>
              <a:rPr b="1" lang="pl-PL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32680" y="380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820080"/>
            <a:ext cx="4419720" cy="2769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Unia  Gospodarcza i Walutow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oznacz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419720" y="3733920"/>
            <a:ext cx="4495680" cy="2590560"/>
            <a:chOff x="4419720" y="3733920"/>
            <a:chExt cx="4495680" cy="2590560"/>
          </a:xfrm>
        </p:grpSpPr>
        <p:sp>
          <p:nvSpPr>
            <p:cNvPr id="389" name=""/>
            <p:cNvSpPr/>
            <p:nvPr/>
          </p:nvSpPr>
          <p:spPr>
            <a:xfrm>
              <a:off x="4419720" y="3733920"/>
              <a:ext cx="4419360" cy="2590560"/>
            </a:xfrm>
            <a:prstGeom prst="flowChartDelay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4066560"/>
              <a:ext cx="434340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nieodwracalne ustalenie kursów walut państw członkowskich między sobą i wprowadzenie jednolitej jednostki walutowej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04920" y="3733920"/>
            <a:ext cx="3962160" cy="2590560"/>
            <a:chOff x="304920" y="3733920"/>
            <a:chExt cx="3962160" cy="2590560"/>
          </a:xfrm>
        </p:grpSpPr>
        <p:sp>
          <p:nvSpPr>
            <p:cNvPr id="392" name=""/>
            <p:cNvSpPr/>
            <p:nvPr/>
          </p:nvSpPr>
          <p:spPr>
            <a:xfrm flipH="1">
              <a:off x="304920" y="3733920"/>
              <a:ext cx="3962160" cy="2590560"/>
            </a:xfrm>
            <a:prstGeom prst="flowChartDelay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" y="4210560"/>
              <a:ext cx="35053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uzgadnianie i prowadzenie jednolitej polityki monetarnej i fiskalnej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04920" y="205740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Zaczyna funkcjonowa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10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581280" cy="2334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04920" y="2957400"/>
            <a:ext cx="830556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ryne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obszar bez granic wewnętrznyc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0"/>
            <a:ext cx="1676520" cy="15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440676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Utworzenie wspólnego rynku umożliwiło zwiększenie skali produkcji i osiąganie z tego większych korzyści, zapewnienie swobodnej konkurencji, stwarzanie zachęt do inwest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Program budowy jednolitego rynku wewnętrznego wpłynął na poprawę wyników gospodarczych państw członkowsk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80880" y="1017720"/>
            <a:ext cx="510552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Drugi etap realizac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UGW (1994 - 199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3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0"/>
            <a:ext cx="1600200" cy="15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11" descr=""/>
          <p:cNvPicPr/>
          <p:nvPr/>
        </p:nvPicPr>
        <p:blipFill>
          <a:blip r:embed="rId2"/>
          <a:stretch/>
        </p:blipFill>
        <p:spPr>
          <a:xfrm>
            <a:off x="0" y="3186000"/>
            <a:ext cx="2395440" cy="3672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514600" y="2514600"/>
            <a:ext cx="662940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umacnianie współpracy między narodowymi bankami   centralny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dążenie do zapewnienia stabilności c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kontrola funkcjonowania Europejskiego Systemu Walut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rzygotowania do prowadzenia w UGW jednolitej polityki walutow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rzygotowania do funkcjonowania Europejskiego Systemu   Banków Central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rzygotowanie emisji banknotów nowego pieniąd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2133720"/>
            <a:ext cx="6629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ziałania Europejskiego Instytutu Monetar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9960" y="609516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CRTHO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66880" y="98568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1600200"/>
            <a:ext cx="6781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333399"/>
                </a:solidFill>
                <a:latin typeface="Times New Roman"/>
              </a:rPr>
              <a:t>Traktat z Maastricht - 1992;</a:t>
            </a:r>
            <a:r>
              <a:rPr b="1" lang="pl-PL" sz="2000" spc="-1" strike="noStrike">
                <a:solidFill>
                  <a:srgbClr val="333399"/>
                </a:solidFill>
                <a:latin typeface="Times New Roman"/>
              </a:rPr>
              <a:t> Traktat Amsterdamski - 1997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8195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3560" y="3276720"/>
            <a:ext cx="21589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Dzied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wspólno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819520"/>
            <a:ext cx="2133720" cy="304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2819520"/>
            <a:ext cx="2133720" cy="304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2819520"/>
            <a:ext cx="53352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2819520"/>
            <a:ext cx="53316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4320" y="2819520"/>
            <a:ext cx="24210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zied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spół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 spraw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wewnętrzn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rawiedliwośc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2819520"/>
            <a:ext cx="234648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zied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spó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lity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zagraniczn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bezpieczeństw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Flaga_UE" descr=""/>
          <p:cNvPicPr/>
          <p:nvPr/>
        </p:nvPicPr>
        <p:blipFill>
          <a:blip r:embed="rId5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666880" y="45216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7200" y="1219320"/>
            <a:ext cx="8305920" cy="5043240"/>
            <a:chOff x="457200" y="1219320"/>
            <a:chExt cx="8305920" cy="5043240"/>
          </a:xfrm>
        </p:grpSpPr>
        <p:sp>
          <p:nvSpPr>
            <p:cNvPr id="436" name=""/>
            <p:cNvSpPr/>
            <p:nvPr/>
          </p:nvSpPr>
          <p:spPr>
            <a:xfrm>
              <a:off x="457200" y="1752480"/>
              <a:ext cx="8305920" cy="449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11120" y="1219320"/>
              <a:ext cx="4662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Wspólnoty Europejsk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7240" y="1752480"/>
              <a:ext cx="771372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WE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EWWS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  EW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unia celna i rynek wewnętrz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a rol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a struktural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a handlow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Nowe lub zmienione dyspozycje dotyczą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obywatelstwa Un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edukacji i kultu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sieci transeuropejsk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ochrony konsum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zdrow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badań naukowych i środowis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i socjalne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i azy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granic zewnętrzny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i imigracyjne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87960" y="5441400"/>
              <a:ext cx="37872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45216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57200" y="1219320"/>
            <a:ext cx="8413560" cy="5029200"/>
            <a:chOff x="457200" y="1219320"/>
            <a:chExt cx="8413560" cy="5029200"/>
          </a:xfrm>
        </p:grpSpPr>
        <p:sp>
          <p:nvSpPr>
            <p:cNvPr id="446" name=""/>
            <p:cNvSpPr/>
            <p:nvPr/>
          </p:nvSpPr>
          <p:spPr>
            <a:xfrm>
              <a:off x="457200" y="1752480"/>
              <a:ext cx="8305920" cy="449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8280" y="1219320"/>
              <a:ext cx="8305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I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Wspólna polityka zagraniczna i bezpieczeństw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440" y="2044800"/>
              <a:ext cx="8410320" cy="31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Polityka zagraniczna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Polityka bezpieczeństw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spółpraca, wspólne stanowiska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ze wsparciem UZE; kwesti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i działania - utrzymanie pokoju,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dotyczące bezpieczeństwa UE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prawa człowieka,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rozbrojenie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demokracja,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ekonomiczne aspek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pomoc krajom trzecim.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zbrojeń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długoterminowo; europejsk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system bezpieczeństwa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89680" y="5441400"/>
              <a:ext cx="5770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Times New Roman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0040" y="1876320"/>
            <a:ext cx="2835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I. Unia ce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30600" y="2590920"/>
            <a:ext cx="46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362320"/>
            <a:ext cx="381240" cy="1447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45216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" y="1143000"/>
            <a:ext cx="8305920" cy="5105520"/>
            <a:chOff x="457200" y="1143000"/>
            <a:chExt cx="8305920" cy="5105520"/>
          </a:xfrm>
        </p:grpSpPr>
        <p:sp>
          <p:nvSpPr>
            <p:cNvPr id="456" name=""/>
            <p:cNvSpPr/>
            <p:nvPr/>
          </p:nvSpPr>
          <p:spPr>
            <a:xfrm>
              <a:off x="457200" y="1905120"/>
              <a:ext cx="8305920" cy="4343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5840" y="1143000"/>
              <a:ext cx="7383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II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Współpraca w dziedzinie sprawiedliwośc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 spraw wewnętrz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0120" y="2590920"/>
              <a:ext cx="7514280" cy="25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spółpraca sądowa w materii cywilnej i karnej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spółpraca policyjna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rasizmem i ksenofobią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narkomanią i przemytem broni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przestępczością zorganizowaną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terroryzmem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e zbrodniami popełnianymi na dzieciach i z hand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żywym towarem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91400" y="5441400"/>
              <a:ext cx="7750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Times New Roman"/>
                </a:rPr>
                <a:t>II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619600" y="3930480"/>
            <a:ext cx="3295800" cy="1860840"/>
            <a:chOff x="5619600" y="3930480"/>
            <a:chExt cx="3295800" cy="1860840"/>
          </a:xfrm>
        </p:grpSpPr>
        <p:pic>
          <p:nvPicPr>
            <p:cNvPr id="467" name="100EUROR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619600" y="3930480"/>
              <a:ext cx="3295800" cy="18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5791320" y="4010040"/>
              <a:ext cx="289548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3399"/>
                  </a:solidFill>
                  <a:latin typeface="Times New Roman"/>
                </a:rPr>
                <a:t>EBC ma wyłączne prawo wydawania zgody na emisję banknotów eur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EBC-eurotower" descr=""/>
          <p:cNvPicPr/>
          <p:nvPr/>
        </p:nvPicPr>
        <p:blipFill>
          <a:blip r:embed="rId3"/>
          <a:stretch/>
        </p:blipFill>
        <p:spPr>
          <a:xfrm>
            <a:off x="7682040" y="838080"/>
            <a:ext cx="1461960" cy="25909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76320" y="1920960"/>
            <a:ext cx="8153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We Frankfurcie nad Menem - kieruje polityką monetarną państw Unii, w których obowiązuje waluta eu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EBC jest niezależny od jakichkolwiek wpływów polityczn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6320" y="3179880"/>
            <a:ext cx="5333760" cy="3263760"/>
            <a:chOff x="76320" y="3179880"/>
            <a:chExt cx="5333760" cy="3263760"/>
          </a:xfrm>
        </p:grpSpPr>
        <p:pic>
          <p:nvPicPr>
            <p:cNvPr id="472" name="Zloto-0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52280" y="3179880"/>
              <a:ext cx="5105160" cy="32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76320" y="3276720"/>
              <a:ext cx="5333760" cy="29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Zadania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EBC zarządza rezerwami walutowymi 12 państw członkowskich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ustala poziom stóp procentowych w strefie euro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przeprowadza operacje dewizowe i dba o sprawne działanie systemów płatniczy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pełni funkcje doradcze - opini wobec organów UE i organów narodowych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80880" y="914400"/>
            <a:ext cx="320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Europejs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Bank Centraln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czer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280" y="1171440"/>
            <a:ext cx="38862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uropejski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anków Central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825640"/>
            <a:ext cx="632448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zadan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definiowanie i realizacja polityki walutowej Wspólnot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przeprowadzanie operacji dewizowych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przechowywanie oficjalnych rezerw dewizowych państw członkowskich i zarządzanie nimi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wspieranie sprawnego działania systemów płatniczy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Euro-na-dloni" descr=""/>
          <p:cNvPicPr/>
          <p:nvPr/>
        </p:nvPicPr>
        <p:blipFill>
          <a:blip r:embed="rId2"/>
          <a:stretch/>
        </p:blipFill>
        <p:spPr>
          <a:xfrm>
            <a:off x="0" y="320040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04920" y="17622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-  tworzy go Europejski Bank Centralny wraz z narodowymi bankami central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1187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tworzenie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ospodarczej i Walutowej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-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Trzeci etap realizacji U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2286000"/>
            <a:ext cx="66294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Kryteria wejścia kraju do UG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określone w Traktacie z Maastrich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Średnia stopa infla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eficyt budżet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ług publicz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Średnia nominalna długookresowa stopa procentow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Państwo musi zachować przedział wahań kursów wal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MONEY1" descr=""/>
          <p:cNvPicPr/>
          <p:nvPr/>
        </p:nvPicPr>
        <p:blipFill>
          <a:blip r:embed="rId2"/>
          <a:stretch/>
        </p:blipFill>
        <p:spPr>
          <a:xfrm>
            <a:off x="7367760" y="5029200"/>
            <a:ext cx="1776240" cy="1444680"/>
          </a:xfrm>
          <a:prstGeom prst="rect">
            <a:avLst/>
          </a:prstGeom>
          <a:ln w="0">
            <a:noFill/>
          </a:ln>
        </p:spPr>
      </p:pic>
      <p:pic>
        <p:nvPicPr>
          <p:cNvPr id="498" name="MONEY1" descr=""/>
          <p:cNvPicPr/>
          <p:nvPr/>
        </p:nvPicPr>
        <p:blipFill>
          <a:blip r:embed="rId3"/>
          <a:stretch/>
        </p:blipFill>
        <p:spPr>
          <a:xfrm>
            <a:off x="0" y="5032440"/>
            <a:ext cx="177624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1EUROR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4572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988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480" y="879480"/>
            <a:ext cx="2487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ńst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złonkows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G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-4494240" y="5105520"/>
            <a:ext cx="9675720" cy="3507480"/>
            <a:chOff x="-4494240" y="5105520"/>
            <a:chExt cx="9675720" cy="3507480"/>
          </a:xfrm>
        </p:grpSpPr>
        <p:sp>
          <p:nvSpPr>
            <p:cNvPr id="506" name=""/>
            <p:cNvSpPr/>
            <p:nvPr/>
          </p:nvSpPr>
          <p:spPr>
            <a:xfrm>
              <a:off x="0" y="5425920"/>
              <a:ext cx="5181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Do strefy euro nie należą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Dania, Wielka Brytania i Szwecja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71600" y="5867280"/>
              <a:ext cx="7383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3"/>
            <a:stretch/>
          </p:blipFill>
          <p:spPr>
            <a:xfrm>
              <a:off x="100080" y="5867280"/>
              <a:ext cx="7380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4"/>
            <a:stretch/>
          </p:blipFill>
          <p:spPr>
            <a:xfrm>
              <a:off x="2819520" y="5867280"/>
              <a:ext cx="7380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-4494240" y="5105520"/>
              <a:ext cx="8991360" cy="350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9" y="0"/>
                  </a:moveTo>
                  <a:arcTo wR="10800" hR="10800" stAng="-5419286" swAng="54192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9" y="0"/>
                  </a:moveTo>
                  <a:arcTo wR="10800" hR="10800" stAng="-5419286" swAng="5419286"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400800" y="2133720"/>
            <a:ext cx="19051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Fin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876320"/>
            <a:ext cx="152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Aust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2514600"/>
            <a:ext cx="152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4419720"/>
            <a:ext cx="152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7400" y="4648320"/>
            <a:ext cx="10666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1680" y="2895480"/>
            <a:ext cx="18288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4038480"/>
            <a:ext cx="22096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rtugal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10280" y="3581280"/>
            <a:ext cx="1752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Hiszp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1523880"/>
            <a:ext cx="1143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5029200"/>
            <a:ext cx="16765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5638680"/>
            <a:ext cx="18288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3276720"/>
            <a:ext cx="1447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łoch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4500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600200"/>
            <a:ext cx="4713120" cy="4044960"/>
            <a:chOff x="2514600" y="1600200"/>
            <a:chExt cx="4713120" cy="4044960"/>
          </a:xfrm>
        </p:grpSpPr>
        <p:pic>
          <p:nvPicPr>
            <p:cNvPr id="525" name="" descr=""/>
            <p:cNvPicPr/>
            <p:nvPr/>
          </p:nvPicPr>
          <p:blipFill>
            <a:blip r:embed="rId5"/>
            <a:stretch/>
          </p:blipFill>
          <p:spPr>
            <a:xfrm>
              <a:off x="4572000" y="16002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6"/>
            <a:stretch/>
          </p:blipFill>
          <p:spPr>
            <a:xfrm>
              <a:off x="6248520" y="28195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7"/>
            <a:stretch/>
          </p:blipFill>
          <p:spPr>
            <a:xfrm>
              <a:off x="4191120" y="51055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8"/>
            <a:stretch/>
          </p:blipFill>
          <p:spPr>
            <a:xfrm>
              <a:off x="2514600" y="32004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9"/>
            <a:stretch/>
          </p:blipFill>
          <p:spPr>
            <a:xfrm>
              <a:off x="3124080" y="4724280"/>
              <a:ext cx="82728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0"/>
            <a:stretch/>
          </p:blipFill>
          <p:spPr>
            <a:xfrm>
              <a:off x="6172200" y="43434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1"/>
            <a:stretch/>
          </p:blipFill>
          <p:spPr>
            <a:xfrm>
              <a:off x="5334120" y="495288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f_por" descr=""/>
            <p:cNvPicPr/>
            <p:nvPr/>
          </p:nvPicPr>
          <p:blipFill>
            <a:blip r:embed="rId12"/>
            <a:stretch/>
          </p:blipFill>
          <p:spPr>
            <a:xfrm>
              <a:off x="2590920" y="39625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3"/>
            <a:stretch/>
          </p:blipFill>
          <p:spPr>
            <a:xfrm>
              <a:off x="5715000" y="2057400"/>
              <a:ext cx="826920" cy="5396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534" name="" descr=""/>
            <p:cNvPicPr/>
            <p:nvPr/>
          </p:nvPicPr>
          <p:blipFill>
            <a:blip r:embed="rId14"/>
            <a:stretch/>
          </p:blipFill>
          <p:spPr>
            <a:xfrm>
              <a:off x="3505320" y="18288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f_his" descr=""/>
            <p:cNvPicPr/>
            <p:nvPr/>
          </p:nvPicPr>
          <p:blipFill>
            <a:blip r:embed="rId15"/>
            <a:stretch/>
          </p:blipFill>
          <p:spPr>
            <a:xfrm>
              <a:off x="6400800" y="358128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f_gre" descr=""/>
            <p:cNvPicPr/>
            <p:nvPr/>
          </p:nvPicPr>
          <p:blipFill>
            <a:blip r:embed="rId16"/>
            <a:stretch/>
          </p:blipFill>
          <p:spPr>
            <a:xfrm>
              <a:off x="2819520" y="2514600"/>
              <a:ext cx="8269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523880" y="838080"/>
            <a:ext cx="5867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Fazy wprowadzania eu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7936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9424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" y="1827000"/>
            <a:ext cx="85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Ogłoszenie listy krajów zakwalifikowanych do U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Przyjęcie prawodawstwa niezbędnego do wprowadzania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Przyjęcie systemu finansowego do przyjęcia nowej wal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3610080"/>
            <a:ext cx="868680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uro samodzielną walut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ieodwołalne usztywnianie kursów walut państw UGW względem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ozpoczęcie działalności Europejskiego Banku Central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uro używane tylko w rozliczeniach bezgotówk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owe emisje instrumentów finansowych – włączanie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soby prywatne i przedsiębiorstwa mogą mieć rachunek bankowy w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320" y="2895480"/>
            <a:ext cx="9065520" cy="762120"/>
            <a:chOff x="76320" y="2895480"/>
            <a:chExt cx="9065520" cy="762120"/>
          </a:xfrm>
        </p:grpSpPr>
        <p:sp>
          <p:nvSpPr>
            <p:cNvPr id="547" name=""/>
            <p:cNvSpPr/>
            <p:nvPr/>
          </p:nvSpPr>
          <p:spPr>
            <a:xfrm>
              <a:off x="984600" y="3123000"/>
              <a:ext cx="81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OKRES PRZEJŚCIOWY (1</a:t>
              </a:r>
              <a:r>
                <a:rPr b="1" lang="pl-PL" sz="2400" spc="-1" strike="noStrike">
                  <a:solidFill>
                    <a:srgbClr val="000080"/>
                  </a:solidFill>
                  <a:latin typeface="Times New Roman"/>
                </a:rPr>
                <a:t> stycznia </a:t>
              </a: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1999 - 31 </a:t>
              </a:r>
              <a:r>
                <a:rPr b="1" lang="pl-PL" sz="2400" spc="-1" strike="noStrike">
                  <a:solidFill>
                    <a:srgbClr val="000080"/>
                  </a:solidFill>
                  <a:latin typeface="Times New Roman"/>
                </a:rPr>
                <a:t>grudnia </a:t>
              </a: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200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1EUROR" descr=""/>
            <p:cNvPicPr/>
            <p:nvPr/>
          </p:nvPicPr>
          <p:blipFill>
            <a:blip r:embed="rId2"/>
            <a:stretch/>
          </p:blipFill>
          <p:spPr>
            <a:xfrm>
              <a:off x="76320" y="289548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76320" y="1143000"/>
            <a:ext cx="6345000" cy="762120"/>
            <a:chOff x="76320" y="1143000"/>
            <a:chExt cx="6345000" cy="762120"/>
          </a:xfrm>
        </p:grpSpPr>
        <p:sp>
          <p:nvSpPr>
            <p:cNvPr id="550" name=""/>
            <p:cNvSpPr/>
            <p:nvPr/>
          </p:nvSpPr>
          <p:spPr>
            <a:xfrm>
              <a:off x="993600" y="1294200"/>
              <a:ext cx="542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OKRES PRZYGOTOWAWCZY (19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1EUROR" descr=""/>
            <p:cNvPicPr/>
            <p:nvPr/>
          </p:nvPicPr>
          <p:blipFill>
            <a:blip r:embed="rId3"/>
            <a:stretch/>
          </p:blipFill>
          <p:spPr>
            <a:xfrm>
              <a:off x="76320" y="114300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523880" y="838080"/>
            <a:ext cx="5867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Fazy wprowadzania eu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7936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9424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960" y="2282760"/>
            <a:ext cx="871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anknoty i monety wprowadzone do obie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arodowe banknoty i monety stopniowo wycofywane z obie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łace, świadczenia socjalne i transakcje detaliczne dokonywane w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Zakończenie procesów dostawczych w instytucjach publicznych i jednostkach usługowych, narodowe waluty przestają być prawnym środkiem płatnicz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d 28 lutego  2002 euro jedynym środkiem płatniczym U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6320" y="1371600"/>
            <a:ext cx="7422840" cy="762120"/>
            <a:chOff x="76320" y="1371600"/>
            <a:chExt cx="7422840" cy="762120"/>
          </a:xfrm>
        </p:grpSpPr>
        <p:sp>
          <p:nvSpPr>
            <p:cNvPr id="560" name=""/>
            <p:cNvSpPr/>
            <p:nvPr/>
          </p:nvSpPr>
          <p:spPr>
            <a:xfrm>
              <a:off x="989280" y="1522800"/>
              <a:ext cx="65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Times New Roman"/>
                </a:rPr>
                <a:t>OKRES KOŃCOWY (1 stycznia - 31 lipca 200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1EUROR" descr=""/>
            <p:cNvPicPr/>
            <p:nvPr/>
          </p:nvPicPr>
          <p:blipFill>
            <a:blip r:embed="rId2"/>
            <a:stretch/>
          </p:blipFill>
          <p:spPr>
            <a:xfrm>
              <a:off x="76320" y="137160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"/>
          <p:cNvGrpSpPr/>
          <p:nvPr/>
        </p:nvGrpSpPr>
        <p:grpSpPr>
          <a:xfrm>
            <a:off x="0" y="5638680"/>
            <a:ext cx="8305920" cy="838440"/>
            <a:chOff x="0" y="5638680"/>
            <a:chExt cx="8305920" cy="838440"/>
          </a:xfrm>
        </p:grpSpPr>
        <p:sp>
          <p:nvSpPr>
            <p:cNvPr id="563" name=""/>
            <p:cNvSpPr/>
            <p:nvPr/>
          </p:nvSpPr>
          <p:spPr>
            <a:xfrm>
              <a:off x="0" y="6477120"/>
              <a:ext cx="830592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100EUROR" descr=""/>
            <p:cNvPicPr/>
            <p:nvPr/>
          </p:nvPicPr>
          <p:blipFill>
            <a:blip r:embed="rId3"/>
            <a:stretch/>
          </p:blipFill>
          <p:spPr>
            <a:xfrm>
              <a:off x="2844720" y="5638680"/>
              <a:ext cx="12700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10EUROR" descr=""/>
            <p:cNvPicPr/>
            <p:nvPr/>
          </p:nvPicPr>
          <p:blipFill>
            <a:blip r:embed="rId4"/>
            <a:stretch/>
          </p:blipFill>
          <p:spPr>
            <a:xfrm>
              <a:off x="6934320" y="5638680"/>
              <a:ext cx="127764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200EUROR" descr=""/>
            <p:cNvPicPr/>
            <p:nvPr/>
          </p:nvPicPr>
          <p:blipFill>
            <a:blip r:embed="rId5"/>
            <a:stretch/>
          </p:blipFill>
          <p:spPr>
            <a:xfrm>
              <a:off x="1447920" y="5638680"/>
              <a:ext cx="13176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20EUROR" descr=""/>
            <p:cNvPicPr/>
            <p:nvPr/>
          </p:nvPicPr>
          <p:blipFill>
            <a:blip r:embed="rId6"/>
            <a:stretch/>
          </p:blipFill>
          <p:spPr>
            <a:xfrm>
              <a:off x="5562720" y="5638680"/>
              <a:ext cx="12808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500EUROR" descr=""/>
            <p:cNvPicPr/>
            <p:nvPr/>
          </p:nvPicPr>
          <p:blipFill>
            <a:blip r:embed="rId7"/>
            <a:stretch/>
          </p:blipFill>
          <p:spPr>
            <a:xfrm>
              <a:off x="0" y="5638680"/>
              <a:ext cx="13780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50EUROR" descr=""/>
            <p:cNvPicPr/>
            <p:nvPr/>
          </p:nvPicPr>
          <p:blipFill>
            <a:blip r:embed="rId8"/>
            <a:stretch/>
          </p:blipFill>
          <p:spPr>
            <a:xfrm>
              <a:off x="4191120" y="5638680"/>
              <a:ext cx="125892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1752480"/>
            <a:ext cx="914400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Zaczyna funkcjonować wspó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uropejska waluta: E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01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4343400" cy="31543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80988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7936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9424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0" y="5506920"/>
            <a:ext cx="9144000" cy="817560"/>
            <a:chOff x="0" y="5506920"/>
            <a:chExt cx="9144000" cy="817560"/>
          </a:xfrm>
        </p:grpSpPr>
        <p:sp>
          <p:nvSpPr>
            <p:cNvPr id="584" name=""/>
            <p:cNvSpPr/>
            <p:nvPr/>
          </p:nvSpPr>
          <p:spPr>
            <a:xfrm>
              <a:off x="1219320" y="5572080"/>
              <a:ext cx="79246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konsolidacja narodowych rynków kapitałowych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OK_kciuk" descr=""/>
            <p:cNvPicPr/>
            <p:nvPr/>
          </p:nvPicPr>
          <p:blipFill>
            <a:blip r:embed="rId2"/>
            <a:stretch/>
          </p:blipFill>
          <p:spPr>
            <a:xfrm>
              <a:off x="0" y="5506920"/>
              <a:ext cx="1219320" cy="81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"/>
          <p:cNvSpPr/>
          <p:nvPr/>
        </p:nvSpPr>
        <p:spPr>
          <a:xfrm>
            <a:off x="990720" y="990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66"/>
                </a:solidFill>
                <a:latin typeface="Times New Roman"/>
              </a:rPr>
              <a:t>Efekty i korzyści utworzenia UGW</a:t>
            </a:r>
            <a:r>
              <a:rPr b="1" lang="pl-PL" sz="27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0" y="1676520"/>
            <a:ext cx="9144000" cy="817560"/>
            <a:chOff x="0" y="1676520"/>
            <a:chExt cx="9144000" cy="817560"/>
          </a:xfrm>
        </p:grpSpPr>
        <p:pic>
          <p:nvPicPr>
            <p:cNvPr id="588" name="OK_kciuk" descr=""/>
            <p:cNvPicPr/>
            <p:nvPr/>
          </p:nvPicPr>
          <p:blipFill>
            <a:blip r:embed="rId3"/>
            <a:stretch/>
          </p:blipFill>
          <p:spPr>
            <a:xfrm>
              <a:off x="0" y="167652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1219320" y="1676520"/>
              <a:ext cx="7924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700" spc="-1" strike="noStrike">
                  <a:solidFill>
                    <a:srgbClr val="003399"/>
                  </a:solidFill>
                  <a:latin typeface="Times New Roman"/>
                </a:rPr>
                <a:t>likwidacja kosztów wymiany walut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0" y="2344680"/>
            <a:ext cx="9144000" cy="911160"/>
            <a:chOff x="0" y="2344680"/>
            <a:chExt cx="9144000" cy="911160"/>
          </a:xfrm>
        </p:grpSpPr>
        <p:pic>
          <p:nvPicPr>
            <p:cNvPr id="591" name="OK_kciuk" descr=""/>
            <p:cNvPicPr/>
            <p:nvPr/>
          </p:nvPicPr>
          <p:blipFill>
            <a:blip r:embed="rId4"/>
            <a:stretch/>
          </p:blipFill>
          <p:spPr>
            <a:xfrm>
              <a:off x="0" y="243828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219320" y="2344680"/>
              <a:ext cx="7924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eliminacja ryzyka kursowego,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0" y="3182760"/>
            <a:ext cx="9144000" cy="835200"/>
            <a:chOff x="0" y="3182760"/>
            <a:chExt cx="9144000" cy="835200"/>
          </a:xfrm>
        </p:grpSpPr>
        <p:pic>
          <p:nvPicPr>
            <p:cNvPr id="594" name="OK_kciuk" descr=""/>
            <p:cNvPicPr/>
            <p:nvPr/>
          </p:nvPicPr>
          <p:blipFill>
            <a:blip r:embed="rId5"/>
            <a:stretch/>
          </p:blipFill>
          <p:spPr>
            <a:xfrm>
              <a:off x="0" y="320040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219320" y="3182760"/>
              <a:ext cx="7924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łatwiejszy dostęp do rynku europejskiego,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0" y="3962520"/>
            <a:ext cx="9144000" cy="817560"/>
            <a:chOff x="0" y="3962520"/>
            <a:chExt cx="9144000" cy="817560"/>
          </a:xfrm>
        </p:grpSpPr>
        <p:pic>
          <p:nvPicPr>
            <p:cNvPr id="597" name="OK_kciuk" descr=""/>
            <p:cNvPicPr/>
            <p:nvPr/>
          </p:nvPicPr>
          <p:blipFill>
            <a:blip r:embed="rId6"/>
            <a:stretch/>
          </p:blipFill>
          <p:spPr>
            <a:xfrm>
              <a:off x="0" y="396252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219320" y="3971880"/>
              <a:ext cx="79246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700" spc="-1" strike="noStrike">
                  <a:solidFill>
                    <a:srgbClr val="003399"/>
                  </a:solidFill>
                  <a:latin typeface="Times New Roman"/>
                </a:rPr>
                <a:t>większa przejrzystość cen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0" y="4606920"/>
            <a:ext cx="9144000" cy="957960"/>
            <a:chOff x="0" y="4606920"/>
            <a:chExt cx="9144000" cy="957960"/>
          </a:xfrm>
        </p:grpSpPr>
        <p:pic>
          <p:nvPicPr>
            <p:cNvPr id="600" name="OK_kciuk" descr=""/>
            <p:cNvPicPr/>
            <p:nvPr/>
          </p:nvPicPr>
          <p:blipFill>
            <a:blip r:embed="rId7"/>
            <a:stretch/>
          </p:blipFill>
          <p:spPr>
            <a:xfrm>
              <a:off x="0" y="464832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219320" y="4606920"/>
              <a:ext cx="7924680" cy="9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szybszy wzrost gospodarczy w państwach członkowskich,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1520" y="5835600"/>
            <a:ext cx="90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3399"/>
                </a:solidFill>
                <a:latin typeface="Times New Roman"/>
              </a:rPr>
              <a:t>Budżet UE w 2002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3399"/>
                </a:solidFill>
                <a:latin typeface="Times New Roman"/>
              </a:rPr>
              <a:t>- Publikacja Pełnomocnika Rządu ds. Informacji Europejsk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98160" y="690120"/>
            <a:ext cx="305820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truktura wpł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819520" y="2133720"/>
            <a:ext cx="2576520" cy="3333600"/>
            <a:chOff x="2819520" y="2133720"/>
            <a:chExt cx="2576520" cy="3333600"/>
          </a:xfrm>
        </p:grpSpPr>
        <p:pic>
          <p:nvPicPr>
            <p:cNvPr id="608" name="Worek-do-pieniedzy" descr=""/>
            <p:cNvPicPr/>
            <p:nvPr/>
          </p:nvPicPr>
          <p:blipFill>
            <a:blip r:embed="rId2"/>
            <a:stretch/>
          </p:blipFill>
          <p:spPr>
            <a:xfrm>
              <a:off x="2819520" y="2133720"/>
              <a:ext cx="257652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Z-Euro" descr=""/>
            <p:cNvPicPr/>
            <p:nvPr/>
          </p:nvPicPr>
          <p:blipFill>
            <a:blip r:embed="rId3"/>
            <a:stretch/>
          </p:blipFill>
          <p:spPr>
            <a:xfrm>
              <a:off x="3581280" y="373356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0" name=""/>
          <p:cNvSpPr/>
          <p:nvPr/>
        </p:nvSpPr>
        <p:spPr>
          <a:xfrm>
            <a:off x="266400" y="2525760"/>
            <a:ext cx="3331440" cy="2942640"/>
          </a:xfrm>
          <a:prstGeom prst="rightArrowCallout">
            <a:avLst>
              <a:gd name="adj1" fmla="val 25002"/>
              <a:gd name="adj2" fmla="val 25000"/>
              <a:gd name="adj3" fmla="val 18869"/>
              <a:gd name="adj4" fmla="val 6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- rolne opła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wyrównawcz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ora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- cła wynikają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ze stosowa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wspólne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taryfy celnej;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Razem  16,6 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89440" y="215640"/>
            <a:ext cx="2285280" cy="2700360"/>
          </a:xfrm>
          <a:prstGeom prst="down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ochod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ytu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datku V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8,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280" y="309240"/>
            <a:ext cx="1845000" cy="145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6080" y="2482920"/>
            <a:ext cx="4189320" cy="3018240"/>
          </a:xfrm>
          <a:prstGeom prst="leftArrowCallout">
            <a:avLst>
              <a:gd name="adj1" fmla="val 25002"/>
              <a:gd name="adj2" fmla="val 25000"/>
              <a:gd name="adj3" fmla="val 23133"/>
              <a:gd name="adj4" fmla="val 66673"/>
            </a:avLst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pła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ańst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złonkows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(1,27 % PKB danego kraj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43,0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429000" y="4952880"/>
            <a:ext cx="1600200" cy="1098720"/>
            <a:chOff x="3429000" y="4952880"/>
            <a:chExt cx="1600200" cy="1098720"/>
          </a:xfrm>
        </p:grpSpPr>
        <p:sp>
          <p:nvSpPr>
            <p:cNvPr id="615" name=""/>
            <p:cNvSpPr/>
            <p:nvPr/>
          </p:nvSpPr>
          <p:spPr>
            <a:xfrm>
              <a:off x="3429000" y="4952880"/>
              <a:ext cx="1600200" cy="1067040"/>
            </a:xfrm>
            <a:prstGeom prst="upArrowCallout">
              <a:avLst>
                <a:gd name="adj1" fmla="val 37495"/>
                <a:gd name="adj2" fmla="val 37492"/>
                <a:gd name="adj3" fmla="val 16667"/>
                <a:gd name="adj4" fmla="val 66660"/>
              </a:avLst>
            </a:prstGeom>
            <a:noFill/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95600" y="5226120"/>
              <a:ext cx="140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Pozostał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3,1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640" y="1876320"/>
            <a:ext cx="39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. Unia ce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II. Wspólny ryn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32680" y="2514600"/>
            <a:ext cx="471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 swobodny przepły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apitału, usług, lud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5146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0" y="6431040"/>
            <a:ext cx="17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Dane: 1999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460840" y="414360"/>
            <a:ext cx="863640" cy="5763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7670880" y="231948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581280" y="6858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019920" y="577224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380880" y="5359320"/>
            <a:ext cx="827280" cy="5400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2133720" y="635472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7315200" y="3767040"/>
            <a:ext cx="863640" cy="5763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>
            <a:off x="2590920" y="380880"/>
            <a:ext cx="826920" cy="540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9"/>
          <a:stretch/>
        </p:blipFill>
        <p:spPr>
          <a:xfrm>
            <a:off x="380880" y="304812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28" name="f_por" descr=""/>
          <p:cNvPicPr/>
          <p:nvPr/>
        </p:nvPicPr>
        <p:blipFill>
          <a:blip r:embed="rId10"/>
          <a:stretch/>
        </p:blipFill>
        <p:spPr>
          <a:xfrm>
            <a:off x="380880" y="16002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1"/>
          <a:stretch/>
        </p:blipFill>
        <p:spPr>
          <a:xfrm>
            <a:off x="380880" y="863640"/>
            <a:ext cx="827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30" name="f_gre" descr=""/>
          <p:cNvPicPr/>
          <p:nvPr/>
        </p:nvPicPr>
        <p:blipFill>
          <a:blip r:embed="rId12"/>
          <a:stretch/>
        </p:blipFill>
        <p:spPr>
          <a:xfrm>
            <a:off x="380880" y="22860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3"/>
          <a:stretch/>
        </p:blipFill>
        <p:spPr>
          <a:xfrm>
            <a:off x="380880" y="3809880"/>
            <a:ext cx="827280" cy="54000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4"/>
          <a:stretch/>
        </p:blipFill>
        <p:spPr>
          <a:xfrm>
            <a:off x="380880" y="45720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33" name="Flaga_UE" descr=""/>
          <p:cNvPicPr/>
          <p:nvPr/>
        </p:nvPicPr>
        <p:blipFill>
          <a:blip r:embed="rId15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00" y="-5400"/>
            <a:ext cx="260928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 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266240" y="-4680"/>
            <a:ext cx="1426680" cy="118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pł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600200" y="914400"/>
          <a:ext cx="6807240" cy="545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00200" y="914400"/>
                    <a:ext cx="68072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"/>
          <p:cNvGrpSpPr/>
          <p:nvPr/>
        </p:nvGrpSpPr>
        <p:grpSpPr>
          <a:xfrm>
            <a:off x="4038480" y="3048120"/>
            <a:ext cx="1219320" cy="1523880"/>
            <a:chOff x="4038480" y="3048120"/>
            <a:chExt cx="1219320" cy="1523880"/>
          </a:xfrm>
        </p:grpSpPr>
        <p:pic>
          <p:nvPicPr>
            <p:cNvPr id="640" name="Worek-do-pieniedzy" descr=""/>
            <p:cNvPicPr/>
            <p:nvPr/>
          </p:nvPicPr>
          <p:blipFill>
            <a:blip r:embed="rId18"/>
            <a:stretch/>
          </p:blipFill>
          <p:spPr>
            <a:xfrm>
              <a:off x="4038480" y="3048120"/>
              <a:ext cx="12193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Z-Euro" descr=""/>
            <p:cNvPicPr/>
            <p:nvPr/>
          </p:nvPicPr>
          <p:blipFill>
            <a:blip r:embed="rId19"/>
            <a:stretch/>
          </p:blipFill>
          <p:spPr>
            <a:xfrm>
              <a:off x="4398840" y="3779280"/>
              <a:ext cx="504720" cy="48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f_his" descr=""/>
          <p:cNvPicPr/>
          <p:nvPr/>
        </p:nvPicPr>
        <p:blipFill>
          <a:blip r:embed="rId20"/>
          <a:stretch/>
        </p:blipFill>
        <p:spPr>
          <a:xfrm>
            <a:off x="4114800" y="5943600"/>
            <a:ext cx="826920" cy="5396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H="1" rot="1623600">
            <a:off x="6138000" y="1278360"/>
            <a:ext cx="27424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03040">
            <a:solidFill>
              <a:srgbClr val="003399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6172200" y="5028480"/>
            <a:ext cx="5028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03040">
            <a:solidFill>
              <a:srgbClr val="003399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rot="11079000">
            <a:off x="-1954800" y="5156280"/>
            <a:ext cx="3961440" cy="11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00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66240" y="-4680"/>
            <a:ext cx="1426680" cy="118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pł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2971800"/>
            <a:ext cx="2286000" cy="0"/>
          </a:xfrm>
          <a:prstGeom prst="line">
            <a:avLst/>
          </a:prstGeom>
          <a:ln w="152280">
            <a:solidFill>
              <a:srgbClr val="00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0080" y="304920"/>
            <a:ext cx="4564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00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0" y="6431040"/>
            <a:ext cx="17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Dane: 1997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049640" y="29844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334120" y="29844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2678040" y="3747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7935840" y="33465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4648320" y="5867280"/>
            <a:ext cx="826920" cy="5400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6"/>
          <a:stretch/>
        </p:blipFill>
        <p:spPr>
          <a:xfrm>
            <a:off x="6553080" y="58611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7"/>
          <a:stretch/>
        </p:blipFill>
        <p:spPr>
          <a:xfrm>
            <a:off x="7543800" y="1898640"/>
            <a:ext cx="831960" cy="539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8"/>
          <a:stretch/>
        </p:blipFill>
        <p:spPr>
          <a:xfrm>
            <a:off x="609480" y="12477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9"/>
          <a:stretch/>
        </p:blipFill>
        <p:spPr>
          <a:xfrm>
            <a:off x="685800" y="434340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60" name="f_por" descr=""/>
          <p:cNvPicPr/>
          <p:nvPr/>
        </p:nvPicPr>
        <p:blipFill>
          <a:blip r:embed="rId10"/>
          <a:stretch/>
        </p:blipFill>
        <p:spPr>
          <a:xfrm>
            <a:off x="609480" y="281952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1"/>
          <a:stretch/>
        </p:blipFill>
        <p:spPr>
          <a:xfrm>
            <a:off x="609480" y="2057400"/>
            <a:ext cx="827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62" name="f_gre" descr=""/>
          <p:cNvPicPr/>
          <p:nvPr/>
        </p:nvPicPr>
        <p:blipFill>
          <a:blip r:embed="rId12"/>
          <a:stretch/>
        </p:blipFill>
        <p:spPr>
          <a:xfrm>
            <a:off x="609480" y="3581280"/>
            <a:ext cx="827280" cy="540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3"/>
          <a:stretch/>
        </p:blipFill>
        <p:spPr>
          <a:xfrm>
            <a:off x="696960" y="510552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14"/>
          <a:stretch/>
        </p:blipFill>
        <p:spPr>
          <a:xfrm>
            <a:off x="1839960" y="586116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65" name="Flaga_UE" descr=""/>
          <p:cNvPicPr/>
          <p:nvPr/>
        </p:nvPicPr>
        <p:blipFill>
          <a:blip r:embed="rId15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00" y="-5400"/>
            <a:ext cx="260928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 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42080" y="-5400"/>
            <a:ext cx="2408760" cy="172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korzyści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219320" y="477720"/>
          <a:ext cx="6805440" cy="592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19320" y="477720"/>
                    <a:ext cx="680544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1" name="Z-Euro" descr=""/>
          <p:cNvPicPr/>
          <p:nvPr/>
        </p:nvPicPr>
        <p:blipFill>
          <a:blip r:embed="rId18"/>
          <a:stretch/>
        </p:blipFill>
        <p:spPr>
          <a:xfrm>
            <a:off x="3962520" y="3124080"/>
            <a:ext cx="1315800" cy="1270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72" name="f_his" descr=""/>
          <p:cNvPicPr/>
          <p:nvPr/>
        </p:nvPicPr>
        <p:blipFill>
          <a:blip r:embed="rId19"/>
          <a:stretch/>
        </p:blipFill>
        <p:spPr>
          <a:xfrm>
            <a:off x="7848720" y="4572000"/>
            <a:ext cx="826920" cy="5396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rot="18246600">
            <a:off x="4347720" y="1780560"/>
            <a:ext cx="4266000" cy="131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03040">
            <a:solidFill>
              <a:srgbClr val="cc0066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1725600">
            <a:off x="4183200" y="3869640"/>
            <a:ext cx="487656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rot="20821200">
            <a:off x="381960" y="5419800"/>
            <a:ext cx="518112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04560" y="3505320"/>
            <a:ext cx="2057400" cy="0"/>
          </a:xfrm>
          <a:prstGeom prst="line">
            <a:avLst/>
          </a:prstGeom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3733920" y="-1677240"/>
            <a:ext cx="60840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42080" y="-5400"/>
            <a:ext cx="2408760" cy="172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korzyści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376200" y="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aldo wpłat i uzyskanych korzy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0" y="2362320"/>
          <a:ext cx="899460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99460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609480" y="838080"/>
          <a:ext cx="8294760" cy="1559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838080"/>
                    <a:ext cx="829476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1904040" y="3276720"/>
            <a:ext cx="1569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jako % P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95400" y="838080"/>
          <a:ext cx="90104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838080"/>
                    <a:ext cx="9010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1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147240"/>
            <a:ext cx="364356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 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82000" y="756720"/>
            <a:ext cx="387360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truktura wydatk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8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Budżet UE w 2002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500EURO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600200"/>
            <a:ext cx="7848720" cy="40194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22360" y="309240"/>
            <a:ext cx="1845000" cy="145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080" y="721800"/>
            <a:ext cx="248364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erspekty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623880" y="2008080"/>
          <a:ext cx="7861320" cy="325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3880" y="2008080"/>
                    <a:ext cx="786132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a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929600" y="3921120"/>
            <a:ext cx="52801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103032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973080" y="6431040"/>
            <a:ext cx="65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50160" y="19692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6120" y="6029280"/>
            <a:ext cx="7148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ezentację na podstawie materiałów z Przedstawiciels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Komisji Europejskiej w Polsce opracował: Marek Chał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133720" y="380880"/>
          <a:ext cx="701028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880"/>
                    <a:ext cx="70102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>
            <a:off x="608040" y="1674720"/>
            <a:ext cx="80787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Do zobaczen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Bookman Old Style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Unii Europejskiej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3720" y="1876320"/>
            <a:ext cx="35337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. Unia ce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I. Wspólny ry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V. Un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Gospodarcza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32680" y="2514600"/>
            <a:ext cx="4714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 swobodny przepły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apitału, usług, lud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4. harmonizacja polity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ospodarcz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438280"/>
            <a:ext cx="609840" cy="3353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5160" y="1219320"/>
            <a:ext cx="39250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. Unia ce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I. Wspólny ry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V. Unia Gospodarcza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V. Pełna integr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- U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Gospodarc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 Walutowa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32680" y="1828800"/>
            <a:ext cx="4714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 swobodny przepły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apitału, usług, lud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4. harmonizacja polity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ospodarczej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. wspólna walut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jedna polity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ursowa i pienięż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1905120"/>
            <a:ext cx="533160" cy="4343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334120" y="842760"/>
            <a:ext cx="3581280" cy="2866320"/>
            <a:chOff x="5334120" y="842760"/>
            <a:chExt cx="3581280" cy="2866320"/>
          </a:xfrm>
        </p:grpSpPr>
        <p:sp>
          <p:nvSpPr>
            <p:cNvPr id="94" name=""/>
            <p:cNvSpPr/>
            <p:nvPr/>
          </p:nvSpPr>
          <p:spPr>
            <a:xfrm>
              <a:off x="6248520" y="2579040"/>
              <a:ext cx="2666880" cy="1130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Arial"/>
                </a:rPr>
                <a:t>Wspólna waluta; jednolita polityka pieniężna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34120" y="842040"/>
              <a:ext cx="2438280" cy="1373400"/>
            </a:xfrm>
            <a:prstGeom prst="wedgeRectCallout">
              <a:avLst>
                <a:gd name="adj1" fmla="val -14796"/>
                <a:gd name="adj2" fmla="val -73763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V  Unia Gospodarcza i Walutow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0"/>
            <a:ext cx="8686800" cy="685800"/>
          </a:xfrm>
          <a:prstGeom prst="flowChartAlternateProcess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tapy integracji gospodarczej i walutowej 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1147680"/>
            <a:ext cx="8686800" cy="5244120"/>
            <a:chOff x="228600" y="1147680"/>
            <a:chExt cx="8686800" cy="5244120"/>
          </a:xfrm>
        </p:grpSpPr>
        <p:sp>
          <p:nvSpPr>
            <p:cNvPr id="101" name=""/>
            <p:cNvSpPr/>
            <p:nvPr/>
          </p:nvSpPr>
          <p:spPr>
            <a:xfrm>
              <a:off x="228600" y="5871240"/>
              <a:ext cx="868680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Brak ceł wewnętrz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28600" y="1146960"/>
              <a:ext cx="1523880" cy="1373400"/>
            </a:xfrm>
            <a:prstGeom prst="wedgeRectCallout">
              <a:avLst>
                <a:gd name="adj1" fmla="val -37412"/>
                <a:gd name="adj2" fmla="val -270620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I Stre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wolne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handl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04920" y="1294920"/>
              <a:ext cx="8534160" cy="43434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990720" y="2824200"/>
            <a:ext cx="7924680" cy="2958120"/>
            <a:chOff x="990720" y="2824200"/>
            <a:chExt cx="7924680" cy="2958120"/>
          </a:xfrm>
        </p:grpSpPr>
        <p:sp>
          <p:nvSpPr>
            <p:cNvPr id="105" name=""/>
            <p:cNvSpPr/>
            <p:nvPr/>
          </p:nvSpPr>
          <p:spPr>
            <a:xfrm>
              <a:off x="1600200" y="5261760"/>
              <a:ext cx="731520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Wspólna taryfa cel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90720" y="2824200"/>
              <a:ext cx="1295280" cy="946800"/>
            </a:xfrm>
            <a:prstGeom prst="wedgeRectCallout">
              <a:avLst>
                <a:gd name="adj1" fmla="val -2101"/>
                <a:gd name="adj2" fmla="val -175615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II Unia cel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05120" y="1147680"/>
            <a:ext cx="7010280" cy="4024440"/>
            <a:chOff x="1905120" y="1147680"/>
            <a:chExt cx="7010280" cy="4024440"/>
          </a:xfrm>
        </p:grpSpPr>
        <p:sp>
          <p:nvSpPr>
            <p:cNvPr id="108" name=""/>
            <p:cNvSpPr/>
            <p:nvPr/>
          </p:nvSpPr>
          <p:spPr>
            <a:xfrm>
              <a:off x="2971800" y="4346640"/>
              <a:ext cx="5943600" cy="825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wobodny przepływ ludzi, towarów, usług i kapitał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905120" y="1146960"/>
              <a:ext cx="1600200" cy="1373400"/>
            </a:xfrm>
            <a:prstGeom prst="wedgeRectCallout">
              <a:avLst>
                <a:gd name="adj1" fmla="val 15856"/>
                <a:gd name="adj2" fmla="val -180106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III Wspólny ryne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1071360"/>
            <a:ext cx="5257800" cy="3171240"/>
            <a:chOff x="3657600" y="1071360"/>
            <a:chExt cx="5257800" cy="3171240"/>
          </a:xfrm>
        </p:grpSpPr>
        <p:sp>
          <p:nvSpPr>
            <p:cNvPr id="111" name=""/>
            <p:cNvSpPr/>
            <p:nvPr/>
          </p:nvSpPr>
          <p:spPr>
            <a:xfrm>
              <a:off x="3962520" y="3813480"/>
              <a:ext cx="4952880" cy="429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Arial"/>
                </a:rPr>
                <a:t>Harmonizacja polityki gospodarcze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657600" y="1070640"/>
              <a:ext cx="1523880" cy="1373400"/>
            </a:xfrm>
            <a:prstGeom prst="wedgeRectCallout">
              <a:avLst>
                <a:gd name="adj1" fmla="val -26171"/>
                <a:gd name="adj2" fmla="val -144287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3399"/>
                  </a:solidFill>
                  <a:latin typeface="Times New Roman"/>
                </a:rPr>
                <a:t>IV Unia Gospo-darcz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99800" y="1054080"/>
            <a:ext cx="51444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99"/>
                </a:solidFill>
                <a:latin typeface="Times New Roman"/>
              </a:rPr>
              <a:t>Integracj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3581280"/>
            <a:ext cx="899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Przedstawienie historii UE dotyczy najczęściej faktów politycz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Teraz też o historii, ale dotyczącej kolej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pogłębiania współpracy i więzi gospodarcz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7160" y="2286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tworzeni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8160" y="6019920"/>
            <a:ext cx="70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Postanowienia Traktatu weszły w życie 1 stycznia 19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2133720" cy="3124080"/>
            <a:chOff x="0" y="0"/>
            <a:chExt cx="2133720" cy="3124080"/>
          </a:xfrm>
        </p:grpSpPr>
        <p:pic>
          <p:nvPicPr>
            <p:cNvPr id="126" name="Traktat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3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9280" y="730800"/>
              <a:ext cx="182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zymsk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6120" y="55627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Rozpoczął się proces tworz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spólnego ryn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3257640"/>
            <a:ext cx="8839080" cy="2220480"/>
            <a:chOff x="304920" y="3257640"/>
            <a:chExt cx="8839080" cy="2220480"/>
          </a:xfrm>
        </p:grpSpPr>
        <p:sp>
          <p:nvSpPr>
            <p:cNvPr id="131" name=""/>
            <p:cNvSpPr/>
            <p:nvPr/>
          </p:nvSpPr>
          <p:spPr>
            <a:xfrm>
              <a:off x="2590920" y="3257640"/>
              <a:ext cx="4419360" cy="22204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333399"/>
                  </a:solidFill>
                  <a:latin typeface="Times New Roman"/>
                </a:rPr>
                <a:t>Europejsk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333399"/>
                  </a:solidFill>
                  <a:latin typeface="Times New Roman"/>
                </a:rPr>
                <a:t>Wspólnota Gospodarcz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6324480" y="3962520"/>
              <a:ext cx="8636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6248520" y="330984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467480" y="3429000"/>
              <a:ext cx="167652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Francja Niem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Włoch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2590920" y="330984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04920" y="3429000"/>
              <a:ext cx="220968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elgia Holandia Luksembur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6248520" y="46483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2590920" y="46483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9"/>
            <a:stretch/>
          </p:blipFill>
          <p:spPr>
            <a:xfrm>
              <a:off x="2438280" y="3962520"/>
              <a:ext cx="82728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18:49Z</dcterms:created>
  <dc:creator>Marek Chałas</dc:creator>
  <dc:description/>
  <dc:language>en-US</dc:language>
  <cp:lastModifiedBy>Rafał</cp:lastModifiedBy>
  <dcterms:modified xsi:type="dcterms:W3CDTF">2002-12-04T11:54:59Z</dcterms:modified>
  <cp:revision>11</cp:revision>
  <dc:subject/>
  <dc:title>Bez tytułu slajdu</dc:title>
</cp:coreProperties>
</file>