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590-E62B-4BE2-8E7D-69394570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9AF-47B8-4D87-9171-4A555C0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15F-AE4B-4A6C-B7F2-69C0E8CA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1A9-901E-43F4-9601-E2C03D2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405-292F-44BF-BAD5-627E558C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F8E-6EE3-40F6-8EDF-92F6396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763-843D-4A8F-A281-108202B7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AF9-2280-4FF5-ACE4-9C49AD4B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09A-2A6E-4DD2-AF27-E49C1A5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EB8-9494-45D9-AD69-584E184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2A0-F75B-4B8F-AC43-A4F4DB4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C79-15CB-4ACC-B0D7-01187C6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852-8028-4DFD-91EC-8604BA57B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4419720"/>
            <a:ext cx="320040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Instytu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Parlament Europejski ma swoją siedzibę 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5360" y="2590920"/>
            <a:ext cx="426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erli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trasbur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Mona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2720" y="3124080"/>
            <a:ext cx="49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trasbur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Ile mandatów ma aktualnie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 w Parlamencie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uropejski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2895480"/>
            <a:ext cx="501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jeszcze nie 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2000" y="2666880"/>
            <a:ext cx="691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jeszcze nie ma, p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rzystąpieniu do Uni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Europejskiej dostani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50 mandató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. Ilu sędziów liczy Europejski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rybunał Sprawiedliwośc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9200" y="2438280"/>
            <a:ext cx="19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9200" y="320040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2. Siedzibą Europejskiego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rybunału Sprawiedliwości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9920" y="2438280"/>
            <a:ext cx="4676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uksembu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ichtenste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ozan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5000" y="3276720"/>
            <a:ext cx="536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Luksembu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228600"/>
            <a:ext cx="86104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3. Czy Trybunał Obrachunkowy można porównać do instytucji NIK w Polsc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9400" y="33526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8520" y="3352680"/>
            <a:ext cx="285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4. Które spośród poniższych również są instytucjami Unii Europejski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9560" y="2438280"/>
            <a:ext cx="641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Społeczno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-Ekonomicz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Region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Central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Nadzor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81952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tet Społeczno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-Ekonomicz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tet Regionó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. Gdzie mieści się siedziba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uropejskiego Banku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entralne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7600" y="3048120"/>
            <a:ext cx="5336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Hadz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e Frankfurc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Zury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3429000"/>
            <a:ext cx="602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we Frankfurc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6. Jak nazywa się ostatnia inicjatywa europejska, w której Polska ma trzech swoich przedstawiciel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0" y="3505320"/>
            <a:ext cx="77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Komitet Przyłączeni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Kon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Komisja Przedakcesyj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971800"/>
            <a:ext cx="83055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Kon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- przedstawiciele Polsk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Danuta Hüb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Józef Olek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Edmunt Wittbro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Najwyższą instytucją Unii Europejskiej 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320" y="2438280"/>
            <a:ext cx="7639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Ogólno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Unij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2880" y="3048120"/>
            <a:ext cx="65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ad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Określenia Rady Ministrów UE używa się czasami dl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3600" y="2438280"/>
            <a:ext cx="748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y Związkow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y Unii Europejski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u 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71800"/>
            <a:ext cx="841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Rady Unii Europejski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Instytucją wykonawczą i prawodawczą Unii Europejskiej 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21480" y="2971800"/>
            <a:ext cx="669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sj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sja Un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Ministrów 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4280" y="3200400"/>
            <a:ext cx="73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sj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Siedzibą Komisji Europejskiej 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8480" y="2438280"/>
            <a:ext cx="366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ary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ene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rukse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7600" y="2971800"/>
            <a:ext cx="434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rukse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Ile jest oficjalnych języków, w których sporządzane są dokumenty U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1480" y="2819520"/>
            <a:ext cx="19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6920" y="312408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Dyrekcje generalne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parat administracyj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sji Europejski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azwy komórek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arlamentu Europejski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rzędy w stolicach państw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nii Europejski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680" y="2133720"/>
            <a:ext cx="749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parat administracyj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sji Europejski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7. Które państw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ktualnie </a:t>
            </a:r>
            <a:r>
              <a:rPr b="1" lang="pl-PL" sz="4000" spc="-1" strike="noStrike">
                <a:solidFill>
                  <a:srgbClr val="4c2600"/>
                </a:solidFill>
                <a:latin typeface="Times New Roman"/>
              </a:rPr>
              <a:t>(II połowa 2002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przewodniczy (prezydencja) Unii Europejski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0800" y="3429000"/>
            <a:ext cx="342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Is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re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3600" y="3657600"/>
            <a:ext cx="35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Czy Rada Europejska i Rada Europy to to sam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920" y="24382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960" y="2514600"/>
            <a:ext cx="278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Instytucje UE</dc:description>
  <dc:language>en-US</dc:language>
  <cp:lastModifiedBy>Marek Chałas</cp:lastModifiedBy>
  <dcterms:modified xsi:type="dcterms:W3CDTF">2002-09-01T10:48:20Z</dcterms:modified>
  <cp:revision>25</cp:revision>
  <dc:subject/>
  <dc:title>Quiz</dc:title>
</cp:coreProperties>
</file>