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E11-942F-4910-9BC1-AE8AFA9B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C17-74F5-44A9-AA30-60C8D69C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154-215F-4F11-851E-D914691C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7FB-0659-4267-909B-FAB3FADB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3AB-F079-45B0-B4E8-51C31575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01F-26BC-481E-9A03-9B4A8D08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97F-8177-405F-8F0C-D5D24995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51B-C7F4-4223-863A-2D105B91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ABA-2448-45F3-8EF7-63E4310F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A9A2-CC58-4064-A613-ECF34AD1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8E0-1C20-471B-920D-AADE998B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5C0-5CE9-4D19-A985-4F274F9D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5184-FBA0-49A4-8F90-AA272EC6A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200" y="762120"/>
            <a:ext cx="39571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4c2600"/>
                </a:solidFill>
                <a:latin typeface="Times New Roman"/>
              </a:rPr>
              <a:t>Q u i z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4880" y="4419720"/>
            <a:ext cx="3048120" cy="99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2600"/>
                </a:solidFill>
                <a:latin typeface="Times New Roman"/>
              </a:rPr>
              <a:t>Integrac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4680" y="380880"/>
            <a:ext cx="8869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c2600"/>
                </a:solidFill>
                <a:latin typeface="Times New Roman"/>
              </a:rPr>
              <a:t>9. Gdzie jest siedziba Europejskiego Banku Centralnego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3600" y="3048120"/>
            <a:ext cx="379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we Frankfur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w Brukse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w Paryż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5053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800000"/>
                </a:solidFill>
                <a:latin typeface="Times New Roman"/>
              </a:rPr>
              <a:t>a.) we Frankfurcie nad Men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38088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0. Dochody Unii Europejskiej pochodzą w największej części z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35053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wpłat państw członkowskich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różnych podatków pobieranych przez Uni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własnej działalności gospodarcz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52560" y="3905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a.) wpłat państw członkowski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8088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1. Które z państw daje największy wkład do budżetu Uni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3600" y="3048120"/>
            <a:ext cx="284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Portug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Hiszpa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Niem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3733920"/>
            <a:ext cx="51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c.) Niem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8088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2. Na jaki cel zostaje przeznaczona największa część wydatków z budżetu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3048120"/>
            <a:ext cx="595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polityka struktural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wspólna polityka rol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działania zewnętrz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3733920"/>
            <a:ext cx="624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b.) wspólna polityka rol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38088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3. Nowa europejska walu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ałkowicie zastąpiła waluty narodowe z dnie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2160" y="3048120"/>
            <a:ext cx="373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1 sierpnia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1 grudnia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1 sierpnia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3505320"/>
            <a:ext cx="519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.) 1 sierpnia 200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3808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4. W której ze stolic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 możemy zapłacić eur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00640" y="2589120"/>
            <a:ext cx="2440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Madry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Helsin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Berl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d.) Rzy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e.) Londy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92200" y="4387680"/>
            <a:ext cx="3786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e.) Londy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29600" y="3645000"/>
            <a:ext cx="52801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ul.E.Plater 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2600"/>
                </a:solidFill>
                <a:latin typeface="Arial"/>
              </a:rPr>
              <a:t>(Warszawskie Centrum Finans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00-113 Warsz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tel. (22) 520 82 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www.europa.delpol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LOGO%20kolorowe%20%20Punktu%20Informacyjnego" descr=""/>
          <p:cNvPicPr/>
          <p:nvPr/>
        </p:nvPicPr>
        <p:blipFill>
          <a:blip r:embed="rId2"/>
          <a:stretch/>
        </p:blipFill>
        <p:spPr>
          <a:xfrm>
            <a:off x="1901880" y="878040"/>
            <a:ext cx="5334120" cy="2779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6120" y="6188040"/>
            <a:ext cx="6500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600"/>
                </a:solidFill>
                <a:latin typeface="Arial"/>
              </a:rPr>
              <a:t>© Przedstawicielstwo Komisji Europejskiej w Pol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4c2600"/>
                </a:solidFill>
                <a:latin typeface="Arial"/>
              </a:rPr>
              <a:t>Prezentację przygotował:  Marek Chał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46920" y="87480"/>
            <a:ext cx="424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c2600"/>
                </a:solidFill>
                <a:latin typeface="Times New Roman"/>
              </a:rPr>
              <a:t>Dziękujemy za uwag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228600"/>
            <a:ext cx="83818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. Wymień etapy integracji gospodarczej i walutow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9000" y="2133720"/>
            <a:ext cx="50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1. Strefa wolnego handl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8000" y="2895480"/>
            <a:ext cx="27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2. Unia cel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5360" y="4495680"/>
            <a:ext cx="41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4. Unia gospodarc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9000" y="5334120"/>
            <a:ext cx="636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Unia gospodarcza i walutow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4080" y="3581280"/>
            <a:ext cx="36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3. Wspólny ryn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808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2. Kiedy rozpoczął się proces tworzenia wspólnego rynku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2160" y="3048120"/>
            <a:ext cx="217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w 195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w 19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w 195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590920"/>
            <a:ext cx="69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a.) 25 marca 1957 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w Traktacie Rzymsk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808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3. Unia celna oznacz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cła w handlu wewnętrznym między krajami Wspólnoty przestają obowiązywa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znosi się wszelkie cła z wszystkimi kraja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pozostają wszystkie dotychczasowe cła, a jedynie w ramach unii uzgadnia się ich wysokoś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2860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a.) cła w handlu wewnętrznym między krajami Wspólnoty przestają obowiązywa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380880"/>
            <a:ext cx="88390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4. Jakie są zasadnicze cele jednolitego rynku wewnętrzneg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1320" y="2666880"/>
            <a:ext cx="33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Swobodny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przepływ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60440" y="2944800"/>
            <a:ext cx="24926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- towarów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- osób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- usług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- kapitału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5. Kiedy został zapoczątkowany jednolity rynek europejsk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2520" y="3048120"/>
            <a:ext cx="249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w 1990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w 1993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w 1997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3505320"/>
            <a:ext cx="51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b.) 1 stycznia 1993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38088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6. Jaki jest cel zewnętrzny jednolitego rynku wewnętrzneg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3920" y="3638520"/>
            <a:ext cx="720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a.) wzmocnienie konkurencyjności państw UE na świec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63680" y="3487680"/>
            <a:ext cx="710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wzmocnienie konkurencyjności państw U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ochrona cel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80880"/>
            <a:ext cx="8458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7. Do Unii Gospodarczej i Walutowej </a:t>
            </a:r>
            <a:r>
              <a:rPr b="1" lang="en-US" sz="4000" spc="-1" strike="noStrike">
                <a:solidFill>
                  <a:srgbClr val="4c2600"/>
                </a:solidFill>
                <a:latin typeface="Times New Roman"/>
              </a:rPr>
              <a:t>(od2001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) należy</a:t>
            </a:r>
            <a:r>
              <a:rPr b="1" lang="en-US" sz="6000" spc="-1" strike="noStrike">
                <a:solidFill>
                  <a:srgbClr val="4c26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2160" y="3048120"/>
            <a:ext cx="296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10 państ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12 państ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15 państw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3505320"/>
            <a:ext cx="519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b.) 1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wszystkie państwa UE, z wyjątkiem Danii, Szwecji i Wielkiej Brytan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3808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8. Współpracę Unii Europejskiej podzielono n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5040" y="3048120"/>
            <a:ext cx="35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a.) „dwa filar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b.) „trzy filar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2600"/>
                </a:solidFill>
                <a:latin typeface="Times New Roman"/>
              </a:rPr>
              <a:t>c.) „cztery filar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08280" y="3557520"/>
            <a:ext cx="57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b.) „trzy filar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11:15:34Z</dcterms:created>
  <dc:creator>Marek Chałas</dc:creator>
  <dc:description>Quiz Integracja</dc:description>
  <dc:language>en-US</dc:language>
  <cp:lastModifiedBy>Marek Chałas</cp:lastModifiedBy>
  <dcterms:modified xsi:type="dcterms:W3CDTF">2002-09-01T11:08:58Z</dcterms:modified>
  <cp:revision>19</cp:revision>
  <dc:subject/>
  <dc:title>Quiz</dc:title>
</cp:coreProperties>
</file>