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5497C-9820-410B-8580-17ACDEB3F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45305-CDB7-424C-BC2A-6CC7229D7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60314-8C22-4F10-9823-4BE19B872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81DC6-9CF8-4764-A310-2B77745D2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4852E-6820-4187-BEE7-5343C536C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0CA08-7313-4459-BC61-6EBFD8FEC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C24BA-683C-40BD-922A-3E6428A43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88338-85C6-45DB-AAF6-0E1D52A7F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19336-4AC8-4A4B-8545-DCFD83835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6B9CA-C50B-4A2B-B65D-6B2A226E7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3C646-8F4F-4F17-8750-DF276B53A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F18B6-16DB-412A-B73C-DEFCB835E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9E598-BB0F-453A-8D53-CA29077070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17120" y="762120"/>
            <a:ext cx="395712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4c2600"/>
                </a:solidFill>
                <a:latin typeface="Times New Roman"/>
              </a:rPr>
              <a:t>Q u i z</a:t>
            </a:r>
            <a:endParaRPr b="0" lang="en-US" sz="10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Flaga_UE" descr=""/>
          <p:cNvPicPr/>
          <p:nvPr/>
        </p:nvPicPr>
        <p:blipFill>
          <a:blip r:embed="rId1"/>
          <a:stretch/>
        </p:blipFill>
        <p:spPr>
          <a:xfrm>
            <a:off x="8223120" y="6243480"/>
            <a:ext cx="914400" cy="6145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3124080" y="6491160"/>
            <a:ext cx="518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imes New Roman"/>
              </a:rPr>
              <a:t>Przedstawicielstwo Komisji Europejskiej w Pols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4419720"/>
            <a:ext cx="3581280" cy="990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c2600"/>
                </a:solidFill>
                <a:latin typeface="Times New Roman"/>
              </a:rPr>
              <a:t>Rozszerzeni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533520" y="228600"/>
            <a:ext cx="8610480" cy="14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9. Kryteria przyjęcia nowego kraju do UE to kryteria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060640" y="2438280"/>
            <a:ext cx="45745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a.)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kopenhaski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b.)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praski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c.)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paryski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679760" y="2971800"/>
            <a:ext cx="4803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a.)</a:t>
            </a: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   kopenhaski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533520" y="228600"/>
            <a:ext cx="8610480" cy="21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10. Z Europy Środkowej i Wschodniej do Unii Europejskiej kandyduje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983600" y="3124080"/>
            <a:ext cx="39481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a.)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5 państw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b.)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7 państw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c.)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10 państw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755000" y="3429000"/>
            <a:ext cx="4633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c.)</a:t>
            </a: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10 państw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533520" y="228600"/>
            <a:ext cx="8610480" cy="14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800" spc="-1" strike="noStrike">
                <a:solidFill>
                  <a:srgbClr val="4c2600"/>
                </a:solidFill>
                <a:latin typeface="Times New Roman"/>
              </a:rPr>
              <a:t>11. Programy pomocy przedakcesyjnej noszą nazwę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058840" y="2438280"/>
            <a:ext cx="3795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800" spc="-1" strike="noStrike">
                <a:solidFill>
                  <a:srgbClr val="4c2600"/>
                </a:solidFill>
                <a:latin typeface="Times New Roman"/>
              </a:rPr>
              <a:t>a.)</a:t>
            </a:r>
            <a:r>
              <a:rPr b="1" lang="pl-PL" sz="48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pl-PL" sz="4800" spc="-1" strike="noStrike">
                <a:solidFill>
                  <a:srgbClr val="4c2600"/>
                </a:solidFill>
                <a:latin typeface="Times New Roman"/>
              </a:rPr>
              <a:t>Phar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800" spc="-1" strike="noStrike">
                <a:solidFill>
                  <a:srgbClr val="4c2600"/>
                </a:solidFill>
                <a:latin typeface="Times New Roman"/>
              </a:rPr>
              <a:t>b.)</a:t>
            </a:r>
            <a:r>
              <a:rPr b="1" lang="pl-PL" sz="48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pl-PL" sz="4800" spc="-1" strike="noStrike">
                <a:solidFill>
                  <a:srgbClr val="4c2600"/>
                </a:solidFill>
                <a:latin typeface="Times New Roman"/>
              </a:rPr>
              <a:t>ISP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800" spc="-1" strike="noStrike">
                <a:solidFill>
                  <a:srgbClr val="4c2600"/>
                </a:solidFill>
                <a:latin typeface="Times New Roman"/>
              </a:rPr>
              <a:t>c.)</a:t>
            </a:r>
            <a:r>
              <a:rPr b="1" lang="pl-PL" sz="48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pl-PL" sz="4800" spc="-1" strike="noStrike">
                <a:solidFill>
                  <a:srgbClr val="4c2600"/>
                </a:solidFill>
                <a:latin typeface="Times New Roman"/>
              </a:rPr>
              <a:t>SAPAR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800" spc="-1" strike="noStrike">
                <a:solidFill>
                  <a:srgbClr val="4c2600"/>
                </a:solidFill>
                <a:latin typeface="Times New Roman"/>
              </a:rPr>
              <a:t>d.)</a:t>
            </a:r>
            <a:r>
              <a:rPr b="1" lang="pl-PL" sz="48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pl-PL" sz="4800" spc="-1" strike="noStrike">
                <a:solidFill>
                  <a:srgbClr val="4c2600"/>
                </a:solidFill>
                <a:latin typeface="Times New Roman"/>
              </a:rPr>
              <a:t>HELP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677960" y="2438280"/>
            <a:ext cx="4481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800" spc="-1" strike="noStrike">
                <a:solidFill>
                  <a:srgbClr val="990000"/>
                </a:solidFill>
                <a:latin typeface="Times New Roman"/>
              </a:rPr>
              <a:t>a.)</a:t>
            </a:r>
            <a:r>
              <a:rPr b="1" lang="pl-PL" sz="4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pl-PL" sz="4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pl-PL" sz="4800" spc="-1" strike="noStrike">
                <a:solidFill>
                  <a:srgbClr val="990000"/>
                </a:solidFill>
                <a:latin typeface="Times New Roman"/>
              </a:rPr>
              <a:t>Phar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800" spc="-1" strike="noStrike">
                <a:solidFill>
                  <a:srgbClr val="990000"/>
                </a:solidFill>
                <a:latin typeface="Times New Roman"/>
              </a:rPr>
              <a:t>b.)</a:t>
            </a:r>
            <a:r>
              <a:rPr b="1" lang="pl-PL" sz="4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pl-PL" sz="4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pl-PL" sz="4800" spc="-1" strike="noStrike">
                <a:solidFill>
                  <a:srgbClr val="990000"/>
                </a:solidFill>
                <a:latin typeface="Times New Roman"/>
              </a:rPr>
              <a:t>ISP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800" spc="-1" strike="noStrike">
                <a:solidFill>
                  <a:srgbClr val="990000"/>
                </a:solidFill>
                <a:latin typeface="Times New Roman"/>
              </a:rPr>
              <a:t>c.)</a:t>
            </a:r>
            <a:r>
              <a:rPr b="1" lang="pl-PL" sz="4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pl-PL" sz="4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pl-PL" sz="4800" spc="-1" strike="noStrike">
                <a:solidFill>
                  <a:srgbClr val="990000"/>
                </a:solidFill>
                <a:latin typeface="Times New Roman"/>
              </a:rPr>
              <a:t>SAPAR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533520" y="228600"/>
            <a:ext cx="8610480" cy="78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800" spc="-1" strike="noStrike">
                <a:solidFill>
                  <a:srgbClr val="4c2600"/>
                </a:solidFill>
                <a:latin typeface="Times New Roman"/>
              </a:rPr>
              <a:t>12. Twinning oznacza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63560" y="2286000"/>
            <a:ext cx="80629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a.)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program współpracy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bliźniaczej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b.)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program dla rybołówstw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838800" y="2666880"/>
            <a:ext cx="6531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a.)</a:t>
            </a: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program współprac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bliźniaczej</a:t>
            </a: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228600" y="228600"/>
            <a:ext cx="8915400" cy="20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c2600"/>
                </a:solidFill>
                <a:latin typeface="Times New Roman"/>
              </a:rPr>
              <a:t>13. Do którego, spośród krajów kandydujących, Unia Europejska najwięcej eksportuje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5040" y="2666880"/>
            <a:ext cx="37605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a.)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Polsk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b.)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Słoweni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c.)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Rumuni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523880" y="2895480"/>
            <a:ext cx="7620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a.)</a:t>
            </a: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Polska</a:t>
            </a: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22,4%</a:t>
            </a: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30040" y="228600"/>
            <a:ext cx="8913960" cy="20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c2600"/>
                </a:solidFill>
                <a:latin typeface="Times New Roman"/>
              </a:rPr>
              <a:t>14. Z którego, spośród krajów kandydujących, Unia Europejska najwięcej importuje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059200" y="3276720"/>
            <a:ext cx="36601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a.)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Polsk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b.)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Bułgari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c.)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Słowacj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449360" y="3429000"/>
            <a:ext cx="6429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a.)</a:t>
            </a: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Polska</a:t>
            </a: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19,8%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533520" y="228600"/>
            <a:ext cx="8610480" cy="78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15. Program SAPARD wspiera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37120" y="2286000"/>
            <a:ext cx="8587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a.)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modernizację rolnictw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b.)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dofinansowanie szkolnictw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838440" y="2666880"/>
            <a:ext cx="7241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a.)</a:t>
            </a: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modernizację rolnictw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Flaga_UE" descr=""/>
          <p:cNvPicPr/>
          <p:nvPr/>
        </p:nvPicPr>
        <p:blipFill>
          <a:blip r:embed="rId1"/>
          <a:stretch/>
        </p:blipFill>
        <p:spPr>
          <a:xfrm>
            <a:off x="8229600" y="6243480"/>
            <a:ext cx="914400" cy="61452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929600" y="3645000"/>
            <a:ext cx="5280120" cy="24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c2600"/>
                </a:solidFill>
                <a:latin typeface="Arial"/>
              </a:rPr>
              <a:t>ul.E.Plater 5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c2600"/>
                </a:solidFill>
                <a:latin typeface="Arial"/>
              </a:rPr>
              <a:t>(Warszawskie Centrum Finansow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c2600"/>
                </a:solidFill>
                <a:latin typeface="Arial"/>
              </a:rPr>
              <a:t>00-113 Warszaw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c2600"/>
                </a:solidFill>
                <a:latin typeface="Arial"/>
              </a:rPr>
              <a:t>tel. (22) 520 82 6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c2600"/>
                </a:solidFill>
                <a:latin typeface="Arial"/>
              </a:rPr>
              <a:t>www.europa.delpol.p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LOGO%20kolorowe%20%20Punktu%20Informacyjnego" descr=""/>
          <p:cNvPicPr/>
          <p:nvPr/>
        </p:nvPicPr>
        <p:blipFill>
          <a:blip r:embed="rId2"/>
          <a:stretch/>
        </p:blipFill>
        <p:spPr>
          <a:xfrm>
            <a:off x="1901880" y="878040"/>
            <a:ext cx="5334120" cy="277956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-6120" y="6188040"/>
            <a:ext cx="65008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c2600"/>
                </a:solidFill>
                <a:latin typeface="Arial"/>
              </a:rPr>
              <a:t>© Przedstawicielstwo Komisji Europejskiej w Pols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c26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4c2600"/>
                </a:solidFill>
                <a:latin typeface="Arial"/>
              </a:rPr>
              <a:t>Prezentację przygotował:  Marek Chał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46920" y="87480"/>
            <a:ext cx="42436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4c2600"/>
                </a:solidFill>
                <a:latin typeface="Times New Roman"/>
              </a:rPr>
              <a:t>Dziękujemy za uwagę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33520" y="228600"/>
            <a:ext cx="8610480" cy="14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1. Początki Unii Europejskiej tworzyło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059920" y="2438280"/>
            <a:ext cx="36432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a.)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5 państw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b.)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6 państw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c.)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8 państw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677960" y="2971800"/>
            <a:ext cx="475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b.)</a:t>
            </a: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6 państw</a:t>
            </a: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228600"/>
            <a:ext cx="8610480" cy="14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2. Aktualnie Unię Europejską tworzy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059560" y="2438280"/>
            <a:ext cx="39481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a.)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12 państw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b.)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15 państw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c.)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21 państw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676520" y="2971800"/>
            <a:ext cx="5638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b.)</a:t>
            </a: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15 państw</a:t>
            </a: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533520" y="228600"/>
            <a:ext cx="8610480" cy="14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3. W krajach Unii Europejskiej mieszka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061720" y="2438280"/>
            <a:ext cx="48441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800" spc="-1" strike="noStrike">
                <a:solidFill>
                  <a:srgbClr val="4c2600"/>
                </a:solidFill>
                <a:latin typeface="Times New Roman"/>
              </a:rPr>
              <a:t>a.)</a:t>
            </a:r>
            <a:r>
              <a:rPr b="1" lang="pl-PL" sz="48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pl-PL" sz="4800" spc="-1" strike="noStrike">
                <a:solidFill>
                  <a:srgbClr val="4c2600"/>
                </a:solidFill>
                <a:latin typeface="Times New Roman"/>
              </a:rPr>
              <a:t>275 mln ludzi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800" spc="-1" strike="noStrike">
                <a:solidFill>
                  <a:srgbClr val="4c2600"/>
                </a:solidFill>
                <a:latin typeface="Times New Roman"/>
              </a:rPr>
              <a:t>b.)</a:t>
            </a:r>
            <a:r>
              <a:rPr b="1" lang="pl-PL" sz="48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pl-PL" sz="4800" spc="-1" strike="noStrike">
                <a:solidFill>
                  <a:srgbClr val="4c2600"/>
                </a:solidFill>
                <a:latin typeface="Times New Roman"/>
              </a:rPr>
              <a:t>375 mln ludzi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800" spc="-1" strike="noStrike">
                <a:solidFill>
                  <a:srgbClr val="4c2600"/>
                </a:solidFill>
                <a:latin typeface="Times New Roman"/>
              </a:rPr>
              <a:t>c.)</a:t>
            </a:r>
            <a:r>
              <a:rPr b="1" lang="pl-PL" sz="48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pl-PL" sz="4800" spc="-1" strike="noStrike">
                <a:solidFill>
                  <a:srgbClr val="4c2600"/>
                </a:solidFill>
                <a:latin typeface="Times New Roman"/>
              </a:rPr>
              <a:t>475 mln ludzi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971800"/>
            <a:ext cx="6705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800" spc="-1" strike="noStrike">
                <a:solidFill>
                  <a:srgbClr val="990000"/>
                </a:solidFill>
                <a:latin typeface="Times New Roman"/>
              </a:rPr>
              <a:t>b.)</a:t>
            </a:r>
            <a:r>
              <a:rPr b="1" lang="pl-PL" sz="4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pl-PL" sz="4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pl-PL" sz="4800" spc="-1" strike="noStrike">
                <a:solidFill>
                  <a:srgbClr val="990000"/>
                </a:solidFill>
                <a:latin typeface="Times New Roman"/>
              </a:rPr>
              <a:t>375 mln ludzi</a:t>
            </a:r>
            <a:r>
              <a:rPr b="1" lang="pl-PL" sz="4800" spc="-1" strike="noStrike">
                <a:solidFill>
                  <a:srgbClr val="990000"/>
                </a:solidFill>
                <a:latin typeface="Times New Roman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33520" y="228600"/>
            <a:ext cx="8610480" cy="14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4. Które z poniższych państw są członkami Unii Europejskiej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212920" y="2057400"/>
            <a:ext cx="40654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a.)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Portugali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b.)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Francj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c.)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Niemc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d.)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Irlandi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e.)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Tunezj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f.)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Grecj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679760" y="1981080"/>
            <a:ext cx="38368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a.)</a:t>
            </a: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Portugali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b.)</a:t>
            </a: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Francj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c.)</a:t>
            </a: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Niemc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d.)</a:t>
            </a: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Irlandi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e.)</a:t>
            </a: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-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f.)</a:t>
            </a: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Grecja</a:t>
            </a: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33520" y="228600"/>
            <a:ext cx="8610480" cy="21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5. Czy Unia Europejska jest gotowa przyjąć każde państwo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8520" y="2895480"/>
            <a:ext cx="2169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a.)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tak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b.)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ni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84080" y="2743200"/>
            <a:ext cx="74455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a.)</a:t>
            </a: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tak, każde państwo,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które respektuje zasady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Unii Europejskiej</a:t>
            </a: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533520" y="228600"/>
            <a:ext cx="8610480" cy="34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4c2600"/>
                </a:solidFill>
                <a:latin typeface="Times New Roman"/>
              </a:rPr>
              <a:t>6. Okres przygotowania kraju kandydującego jest opisany w umowie o stowarzyszeniu danego kraju z UE. Jak się nazywa taka umowa?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63200" y="3962520"/>
            <a:ext cx="78433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800" spc="-1" strike="noStrike">
                <a:solidFill>
                  <a:srgbClr val="4c2600"/>
                </a:solidFill>
                <a:latin typeface="Times New Roman"/>
              </a:rPr>
              <a:t>a.)</a:t>
            </a:r>
            <a:r>
              <a:rPr b="1" lang="pl-PL" sz="48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pl-PL" sz="4800" spc="-1" strike="noStrike">
                <a:solidFill>
                  <a:srgbClr val="4c2600"/>
                </a:solidFill>
                <a:latin typeface="Times New Roman"/>
              </a:rPr>
              <a:t>Układ Europejski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800" spc="-1" strike="noStrike">
                <a:solidFill>
                  <a:srgbClr val="4c2600"/>
                </a:solidFill>
                <a:latin typeface="Times New Roman"/>
              </a:rPr>
              <a:t>b.)</a:t>
            </a:r>
            <a:r>
              <a:rPr b="1" lang="pl-PL" sz="48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pl-PL" sz="4800" spc="-1" strike="noStrike">
                <a:solidFill>
                  <a:srgbClr val="4c2600"/>
                </a:solidFill>
                <a:latin typeface="Times New Roman"/>
              </a:rPr>
              <a:t>Układ Stowarzyszeniow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800" spc="-1" strike="noStrike">
                <a:solidFill>
                  <a:srgbClr val="4c2600"/>
                </a:solidFill>
                <a:latin typeface="Times New Roman"/>
              </a:rPr>
              <a:t>c.)</a:t>
            </a:r>
            <a:r>
              <a:rPr b="1" lang="pl-PL" sz="48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pl-PL" sz="4800" spc="-1" strike="noStrike">
                <a:solidFill>
                  <a:srgbClr val="4c2600"/>
                </a:solidFill>
                <a:latin typeface="Times New Roman"/>
              </a:rPr>
              <a:t>Układ Przystąpieniow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143000" y="4343400"/>
            <a:ext cx="8001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a.)</a:t>
            </a: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   Układ Europejski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533520" y="228600"/>
            <a:ext cx="8610480" cy="14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7. Polska złożyła wniosek o przyjęcie do UE w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059560" y="2438280"/>
            <a:ext cx="39481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a.)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1994 roku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b.)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1997 roku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c.)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2000 roku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068480" y="2971800"/>
            <a:ext cx="7495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a.)</a:t>
            </a: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   8 kwietnia 1994 roku</a:t>
            </a: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533520" y="228600"/>
            <a:ext cx="8610480" cy="14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8. Polska rozpoczęła negocjacje z Unią Europejską w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59560" y="2438280"/>
            <a:ext cx="39481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a.)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1995 roku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b.)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1998 roku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c.)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2000 roku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678680" y="2971800"/>
            <a:ext cx="4633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b.)</a:t>
            </a: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1998 roku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07T05:50:11Z</dcterms:created>
  <dc:creator>Marek Chałas</dc:creator>
  <dc:description>Quiz
Rozszerzenie</dc:description>
  <dc:language>en-US</dc:language>
  <cp:lastModifiedBy>Marek Chałas</cp:lastModifiedBy>
  <dcterms:modified xsi:type="dcterms:W3CDTF">2002-09-01T11:15:19Z</dcterms:modified>
  <cp:revision>34</cp:revision>
  <dc:subject/>
  <dc:title>Quiz</dc:title>
</cp:coreProperties>
</file>