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4A38-A525-488C-BDBF-E3C8F672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CCE1-5E54-410C-A47D-B9DFAC90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8BC-0413-40E6-B070-32858E11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A83D-5FF9-4B0F-9F32-D2BB7BD4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41C8-4379-42DB-A5AB-C82518CC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E8E8-602C-43E6-AC10-94C1217C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9C26-81EA-4175-AD19-26A83D5C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4153-F64C-42BA-8F98-FB0DC1EA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4F97-70C6-4EA1-9051-8A4EF302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7EA2-BCE4-4C45-B95B-F895EB8F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9E7-0C8E-4BA8-BAD3-981B05E6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5D79-F74C-41C5-923A-865710B8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9686-5D6B-4B4E-BBDA-FFAC8B38E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200" y="762120"/>
            <a:ext cx="39571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4c2600"/>
                </a:solidFill>
                <a:latin typeface="Times New Roman"/>
              </a:rPr>
              <a:t>Q u i z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58800" y="4495680"/>
            <a:ext cx="6019920" cy="914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c2600"/>
                </a:solidFill>
                <a:latin typeface="Times New Roman"/>
              </a:rPr>
              <a:t>Polska a Unia Europejs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9. Ile miejsc będzie miała Polska w Parlamencie Europejskim  po wejściu do Unii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2880" y="3124080"/>
            <a:ext cx="1933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5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4280" y="3962520"/>
            <a:ext cx="292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  50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228600"/>
            <a:ext cx="861048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10. Phare to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228600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4160" indent="-1154160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rogram pomoc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1154160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opłaty cel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1154160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zestaw przepisów prawny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2209680"/>
            <a:ext cx="7467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0" indent="-1047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program pomocy finansowej dla krajów kandydujących do UE, w tym Polsk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8571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11. Określenie Twinning oznacz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2438280"/>
            <a:ext cx="7238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4160" indent="-1154160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rodzaj sportu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1154160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współpracę bliźniacz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1154160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dyscyplinę naukow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33526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współpracę bliźniacz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228600"/>
            <a:ext cx="891540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12. Czy po wejściu do Unii dla młodzieży pojawią się nowe możliwości edukacyjn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3600" y="2666880"/>
            <a:ext cx="216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ta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30600" y="2895480"/>
            <a:ext cx="292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  tak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30040" y="228600"/>
            <a:ext cx="891396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13. Z którego, spośród krajów kandydujących, Unia Europejska najwięcej importuj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9200" y="3276720"/>
            <a:ext cx="3660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ol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ułgar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Słowac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9360" y="3429000"/>
            <a:ext cx="642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   Polska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19,8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228600"/>
            <a:ext cx="89154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14. Czy po wejściu do Unii można oczekiwać, że obniżą się cen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2057400"/>
            <a:ext cx="7696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9680" indent="-1039680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tak, wszystkich artykułów i usłu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1039680" indent="-1039680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tak, niektórych artykułów i usłu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1039680" indent="-1039680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nie obniżą si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2743200"/>
            <a:ext cx="7696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9680" indent="-1039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tak obniżą się ceny niektórych towarów i niektórych usłu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29600" y="3645000"/>
            <a:ext cx="52801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ul.E.Plater 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2600"/>
                </a:solidFill>
                <a:latin typeface="Arial"/>
              </a:rPr>
              <a:t>(Warszawskie Centrum Finans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00-113 Warsza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tel. (22) 520 82 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www.europa.delpol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LOGO%20kolorowe%20%20Punktu%20Informacyjnego" descr=""/>
          <p:cNvPicPr/>
          <p:nvPr/>
        </p:nvPicPr>
        <p:blipFill>
          <a:blip r:embed="rId2"/>
          <a:stretch/>
        </p:blipFill>
        <p:spPr>
          <a:xfrm>
            <a:off x="1901880" y="878040"/>
            <a:ext cx="5334120" cy="2779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-6120" y="6188040"/>
            <a:ext cx="65008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2600"/>
                </a:solidFill>
                <a:latin typeface="Arial"/>
              </a:rPr>
              <a:t>© Przedstawicielstwo Komisji Europejskiej w Pols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2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4c2600"/>
                </a:solidFill>
                <a:latin typeface="Arial"/>
              </a:rPr>
              <a:t>Prezentację przygotował:  Marek Chał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46920" y="87480"/>
            <a:ext cx="424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c2600"/>
                </a:solidFill>
                <a:latin typeface="Times New Roman"/>
              </a:rPr>
              <a:t>Dziękujemy za uwag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. Polska rozpoczęła starania o członkostwo w Unii Europejskiej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7800" y="2971800"/>
            <a:ext cx="4541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w 1984 ro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w 1994 ro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w 1999 ro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6760" y="3962520"/>
            <a:ext cx="607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8 kwietnia 199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2. Układem Europejskim nazywamy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9810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umowę o stowarzyszeniu Polski ze Wspólnotami Europejskim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międzynarodową umowę wszystkich krajów w Europ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666880"/>
            <a:ext cx="8305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85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umowę o stowarzyszeniu Polski ze Wspólnotami Europejskimi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3. Konwent ds. przyszłości Unii Europejskiej powołano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9200" y="2438280"/>
            <a:ext cx="4541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w 1992 ro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w 1995 ro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w 2002 ro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8320" y="2971800"/>
            <a:ext cx="4617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 w 2002 roku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228600"/>
            <a:ext cx="861048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4. Ile ludności jest w Polsc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60280" y="2438280"/>
            <a:ext cx="3710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36,8 ml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38,6 ml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39,8 ml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9400" y="2971800"/>
            <a:ext cx="348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 38,6 ml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28600"/>
            <a:ext cx="861048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5. Kto jest największym partnerem handlowym Unii Europejskiej spośród krajów kandydujący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9920" y="2971800"/>
            <a:ext cx="3660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ol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Słowen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Island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6240" y="3581280"/>
            <a:ext cx="282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Pol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228600"/>
            <a:ext cx="86104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6. Które z poniższych są nazwami programów pomocy dla krajów kandydujących - w tym Polski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11480" y="3200400"/>
            <a:ext cx="3795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Ph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ISP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SAPA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d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Goda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5160" y="3429000"/>
            <a:ext cx="3719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Ph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ISP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c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SAPAR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7. Program SAPARD jest przeznaczony głównie dl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8120" y="2438280"/>
            <a:ext cx="574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leśnictw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rolnictw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hodowli zwierzą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futerkowy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7960" y="2971800"/>
            <a:ext cx="371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 rolnictw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8. Ilu komisarzy w Komisji Europejskiej będzie miała Polska po wejściu do Unii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2880" y="3124080"/>
            <a:ext cx="1628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4280" y="3429000"/>
            <a:ext cx="170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 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7T05:50:11Z</dcterms:created>
  <dc:creator>Marek Chałas</dc:creator>
  <dc:description>Quiz
Polska a Unia Europejska</dc:description>
  <dc:language>en-US</dc:language>
  <cp:lastModifiedBy>Marek Chałas</cp:lastModifiedBy>
  <dcterms:modified xsi:type="dcterms:W3CDTF">2002-09-01T11:13:09Z</dcterms:modified>
  <cp:revision>40</cp:revision>
  <dc:subject/>
  <dc:title>Quiz</dc:title>
</cp:coreProperties>
</file>