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jpeg" ContentType="image/jpeg"/>
  <Override PartName="/ppt/media/image30.wmf" ContentType="image/x-wmf"/>
  <Override PartName="/ppt/media/image56.png" ContentType="image/png"/>
  <Override PartName="/ppt/media/image13.wmf" ContentType="image/x-wmf"/>
  <Override PartName="/ppt/media/image53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.png" ContentType="image/png"/>
  <Override PartName="/ppt/media/image73.wmf" ContentType="image/x-wmf"/>
  <Override PartName="/ppt/media/image3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71.wmf" ContentType="image/x-wmf"/>
  <Override PartName="/ppt/media/image55.wmf" ContentType="image/x-wmf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62.wmf" ContentType="image/x-wmf"/>
  <Override PartName="/ppt/media/image67.jpeg" ContentType="image/jpeg"/>
  <Override PartName="/ppt/media/image26.wmf" ContentType="image/x-wmf"/>
  <Override PartName="/ppt/media/image65.png" ContentType="image/png"/>
  <Override PartName="/ppt/media/image23.wmf" ContentType="image/x-wmf"/>
  <Override PartName="/ppt/media/image75.png" ContentType="image/png"/>
  <Override PartName="/ppt/media/image68.jpeg" ContentType="image/jpeg"/>
  <Override PartName="/ppt/media/image36.wmf" ContentType="image/x-wmf"/>
  <Override PartName="/ppt/media/image74.wmf" ContentType="image/x-wmf"/>
  <Override PartName="/ppt/media/image34.png" ContentType="image/png"/>
  <Override PartName="/ppt/media/image57.png" ContentType="image/png"/>
  <Override PartName="/ppt/media/image2.wmf" ContentType="image/x-wmf"/>
  <Override PartName="/ppt/media/image69.wmf" ContentType="image/x-wmf"/>
  <Override PartName="/ppt/media/image25.wmf" ContentType="image/x-wmf"/>
  <Override PartName="/ppt/media/image27.wmf" ContentType="image/x-wmf"/>
  <Override PartName="/ppt/media/image72.wmf" ContentType="image/x-wmf"/>
  <Override PartName="/ppt/media/image32.png" ContentType="image/png"/>
  <Override PartName="/ppt/media/image24.wmf" ContentType="image/x-wmf"/>
  <Override PartName="/ppt/media/image66.jpeg" ContentType="image/jpeg"/>
  <Override PartName="/ppt/media/image11.png" ContentType="image/png"/>
  <Override PartName="/ppt/media/image60.png" ContentType="image/png"/>
  <Override PartName="/ppt/media/image51.wmf" ContentType="image/x-wmf"/>
  <Override PartName="/ppt/media/image63.jpeg" ContentType="image/jpeg"/>
  <Override PartName="/ppt/media/image70.wmf" ContentType="image/x-wmf"/>
  <Override PartName="/ppt/media/image28.wmf" ContentType="image/x-wmf"/>
  <Override PartName="/ppt/media/image4.png" ContentType="image/png"/>
  <Override PartName="/ppt/media/image16.png" ContentType="image/png"/>
  <Override PartName="/ppt/media/image10.png" ContentType="image/png"/>
  <Override PartName="/ppt/media/image50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2.png" ContentType="image/png"/>
  <Override PartName="/ppt/media/image7.png" ContentType="image/png"/>
  <Override PartName="/ppt/media/image41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17.png" ContentType="image/png"/>
  <Override PartName="/ppt/media/image5.png" ContentType="image/png"/>
  <Override PartName="/ppt/media/image52.png" ContentType="image/png"/>
  <Override PartName="/ppt/media/image35.wmf" ContentType="image/x-wmf"/>
  <Override PartName="/ppt/media/image37.wmf" ContentType="image/x-wmf"/>
  <Override PartName="/ppt/media/image38.wmf" ContentType="image/x-wmf"/>
  <Override PartName="/ppt/media/image39.png" ContentType="image/png"/>
  <Override PartName="/ppt/media/image61.wmf" ContentType="image/x-wmf"/>
  <Override PartName="/ppt/media/image6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341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-36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5880" y="733320"/>
            <a:ext cx="488484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67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572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495720"/>
            <a:ext cx="2874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8AB-FCF9-4456-9A9C-D41FF3769DD8}" type="slidenum">
              <a:rPr b="0" lang="pl-PL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28240" y="4648320"/>
            <a:ext cx="6172200" cy="11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80"/>
                </a:solidFill>
                <a:latin typeface="Times New Roman"/>
              </a:rPr>
              <a:t>Główne obszary wsparcia ze środków P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Rozwój instytucjonalny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, czyli wzmocnienie administracji państwowej i instytucji prawnych oraz dostosowanie przepisów prawa polskiego do 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acquis communautaire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Twinning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ółpraca bliźniacza pomiędzy administracją publiczną w krajach UE a jej polskimi odpowiednikami. Finansowane są badania, szkolenia oraz zakup specjalistycznego sprzęt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Finansowanie inwestycj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niezbędnych dla stosowania unijnych norm prawnych i polityk wspólnotowy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Dostawy specjalistycznego sprzętu telekomunikacyjnego i transportowego dla policji i służb granicznych, pozwalającego zapobiegać nielegalnemu przemytowi towarów i osó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omoc dla regionów najuboższych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oraz obszarów przygraniczn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inansowanie rozwoju infrastruktury transportowej i ochrony środowiska, różnicowanie działalności produkcyjnej poprzez inwestycje małych i średnich przedsiębiorstw, szkolenia dla przedsiębiorców i bezrobotn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hare CBC – Program Współpracy Przygraniczne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 1995 roku w ramach Phare wydzielono Program Współpracy Przygranicznej CBC (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Cross-Border Co-operation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). Ma on na celu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wspieranie współpracy regionów Polski z sąsiadującymi regionami państw członkowskich UE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oraz z regionami innych państw kandydującyc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Na rozwijanie współpracy przygranicznej w latach 1994-2000 Polska otrzymała 367,15 mln eur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inansowane działania nie tylko wyrównują różnice ekonomiczne między regionami, ale także ułatwiają wzajemne zrozumienie i współpracę partnerów: administracji lokalnej, organizacji pozarządowych oraz lokalnych społeczności. Ze środków CBC finansuje się zarówno budowę dróg, przejść granicznych, jak również wspólne imprezy społeczne i kulturaln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80"/>
                </a:solidFill>
                <a:latin typeface="Times New Roman"/>
              </a:rPr>
              <a:t>Phare na granicy wschodniej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Po przystąpieniu Polski do UE  nasza granica wschodnia stanie się granicą zewnętrzną Unii.  Środki z programu Phare są przeznaczane na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uszczelnianie granic i wzmacnianie kontroli granicznej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. Straż graniczna, policja, służby celne i weterynaryjne otrzymują specjalistyczny sprzęt usprawniający łączność, transport oraz wykrywanie przemycanych towarów i nielegalnych emigrantów. Służy to zwiększeniu bezpieczeństwa wewnętrznego zarówno Polski, jak i innych państw członkowskich Uni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3399"/>
                </a:solidFill>
                <a:latin typeface="Times New Roman"/>
              </a:rPr>
              <a:t>Phare – programy dla partnerów w kilku krajach</a:t>
            </a:r>
            <a:r>
              <a:rPr b="1" lang="pl-PL" sz="11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Phare służy także pomocą w rozwiązywaniu wspólnych problemów krajów kandydujących za pośrednictwem tzw. programów dla wielu beneficjentów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100" spc="-1" strike="noStrike">
                <a:solidFill>
                  <a:srgbClr val="000000"/>
                </a:solidFill>
                <a:latin typeface="Times New Roman"/>
              </a:rPr>
              <a:t>(multibenefitiary programmes)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Celem tych programów jest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zukanie wspólnych rozwiązań dla problemów przekraczających obszar jednego państwa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, związanych m.in. z systemem zabezpieczeń socjalnych, ochroną środowiska, energetyką, bezpieczeństwem energetyki atomowej, transportem, telekomunikacją oraz zwalczaniem handlu narkotykam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Z ich środków w ramach współpracy krajów bałtyckich sfinansowano szereg przedsięwzięć z dziedziny transportu i ochrony środowisk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3399"/>
                </a:solidFill>
                <a:latin typeface="Times New Roman"/>
              </a:rPr>
              <a:t>Phare – źródło finansowania udziału w programach wspólnotowych</a:t>
            </a:r>
            <a:r>
              <a:rPr b="1" lang="pl-PL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Fundusze Phare częściowo finansują udział Polski w programach wspólnotowych, które zostały otwarte dla państw kandydujących. Unijna pomoc umożliwia realizację wspólnych projektów w wielu dziedzinach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Programy wspólnotowe, w których uczestniczy Polska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AVE I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cja racjonalnego i efektywnego wykorzystania energi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V Program Ramowy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finansowanie wspólnych projektów naukowych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KULTURA 2000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wanie różnorodności kulturalnej, europejskiego dorobku kulturalnego i tradycj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SOCRATES I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mocja i rozwój współpracy europejskiej w dziedzinie edukacj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LEONARDO DA VINCI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arcie finansowe dla międzynarodowych projektów z zakresu kształcenia i szkolenia zawodowego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MŁODZIEŻ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ułatwianie integracji społecznej młodych ludzi, promowanie równości na wszystkich szczeblach społecznych, zwalczanie rasizmu i ksenofobii oraz wspieranie działań na rzecz lepszego poznania różnorodności wspólnej kultury europejskiej i wspólnego dziedzictwa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wsparcie dla twórczości audiowizualnej promującej wartości i kulturę europejską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lang="pl-PL" sz="1100" spc="-1" strike="noStrike">
                <a:solidFill>
                  <a:srgbClr val="000000"/>
                </a:solidFill>
                <a:latin typeface="Times New Roman"/>
              </a:rPr>
              <a:t>FISCALIS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– program dla administracji podatkowej na rzecz poprawy systemu podatków bezpośrednich (Polska bierze udział  w części seminaryjnej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228240" y="4647960"/>
            <a:ext cx="6172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8F4-8DAD-4852-9DD2-FD3C026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0A6-CBDC-4B31-8AFF-81D547FC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39E-86C5-4F11-9F9D-D645C548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006-7788-4116-BDF1-989589E4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EF0-4663-47ED-ADD1-871C8434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3EF-C699-4D16-8837-BDAD050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50C-B2C3-49E3-8432-7DDE093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D22-5455-4C00-92D1-7D020E4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D55-5FEE-48D1-8176-8DAAF59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B5C-731B-4373-B312-A9DE7A3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68E-84DA-44F2-BDB0-F5E2202E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1BA-ED4B-4717-B388-40AEC472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CFC-4791-4176-9850-C461BAAB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35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56.png"/><Relationship Id="rId16" Type="http://schemas.openxmlformats.org/officeDocument/2006/relationships/image" Target="../media/image58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image" Target="../media/image60.pn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63.jpeg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63.jpeg"/><Relationship Id="rId10" Type="http://schemas.openxmlformats.org/officeDocument/2006/relationships/image" Target="../media/image64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6.png"/><Relationship Id="rId15" Type="http://schemas.openxmlformats.org/officeDocument/2006/relationships/image" Target="../media/image65.png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39640" y="457200"/>
            <a:ext cx="6260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Rozszerzen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3443400" y="2209680"/>
            <a:ext cx="2252520" cy="151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2920" y="493560"/>
          <a:ext cx="8924760" cy="560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493560"/>
                    <a:ext cx="892476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00" y="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raje UE w liczb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240" y="64612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Dane dla 2000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uty 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7524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Maastr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3399"/>
                </a:solidFill>
                <a:uFillTx/>
                <a:latin typeface="Times New Roman"/>
              </a:rPr>
              <a:t>Traktat o Unii 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718000">
            <a:off x="137880" y="1219320"/>
            <a:ext cx="1538280" cy="164448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``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````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08080" y="1600200"/>
          <a:ext cx="720720" cy="109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8080" y="1600200"/>
                    <a:ext cx="720720" cy="1093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62120" y="3581280"/>
            <a:ext cx="761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ykuł 49 Traktatu: Każde europejskie państwo respektujące zasady zawarte w artykule 6(1) może złożyć wniosek o członkostwo w Un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quotes" descr=""/>
          <p:cNvPicPr/>
          <p:nvPr/>
        </p:nvPicPr>
        <p:blipFill>
          <a:blip r:embed="rId4"/>
          <a:stretch/>
        </p:blipFill>
        <p:spPr>
          <a:xfrm>
            <a:off x="8153280" y="4648320"/>
            <a:ext cx="990720" cy="81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472428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ykuł 6 Traktatu: Unia opiera się na zasadach wolności, demokracji, respektowaniu praw człowieka i podstawowych wolności oraz na rządach prawa, zasadach, które są wspólne dla państw członkowsk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quotes2" descr=""/>
          <p:cNvPicPr/>
          <p:nvPr/>
        </p:nvPicPr>
        <p:blipFill>
          <a:blip r:embed="rId5"/>
          <a:stretch/>
        </p:blipFill>
        <p:spPr>
          <a:xfrm>
            <a:off x="0" y="3962520"/>
            <a:ext cx="1060560" cy="87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zerwiec 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09680"/>
            <a:ext cx="762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Szczyt Unii Europejskiej w Kopenhad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Ustalono, że  każde państwo Europy Środkowej i Wschodniej, które będzie w stanie zrealizować zobowiązania wynikające z członkostwa oraz będzie spełniać wymagania ekonomiczne i polityczne może zostać członkiem Unii Europejski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505320"/>
            <a:ext cx="822240" cy="1082520"/>
          </a:xfrm>
          <a:custGeom>
            <a:avLst/>
            <a:gdLst/>
            <a:ahLst/>
            <a:rect l="l" t="t" r="r" b="b"/>
            <a:pathLst>
              <a:path w="1224" h="1104">
                <a:moveTo>
                  <a:pt x="216" y="936"/>
                </a:moveTo>
                <a:cubicBezTo>
                  <a:pt x="264" y="864"/>
                  <a:pt x="288" y="696"/>
                  <a:pt x="360" y="648"/>
                </a:cubicBezTo>
                <a:cubicBezTo>
                  <a:pt x="432" y="600"/>
                  <a:pt x="576" y="672"/>
                  <a:pt x="648" y="648"/>
                </a:cubicBezTo>
                <a:cubicBezTo>
                  <a:pt x="720" y="624"/>
                  <a:pt x="744" y="528"/>
                  <a:pt x="792" y="504"/>
                </a:cubicBezTo>
                <a:cubicBezTo>
                  <a:pt x="840" y="480"/>
                  <a:pt x="888" y="576"/>
                  <a:pt x="936" y="504"/>
                </a:cubicBezTo>
                <a:cubicBezTo>
                  <a:pt x="984" y="432"/>
                  <a:pt x="1032" y="0"/>
                  <a:pt x="1080" y="72"/>
                </a:cubicBezTo>
                <a:cubicBezTo>
                  <a:pt x="1128" y="144"/>
                  <a:pt x="1224" y="792"/>
                  <a:pt x="1224" y="936"/>
                </a:cubicBezTo>
                <a:cubicBezTo>
                  <a:pt x="1224" y="1080"/>
                  <a:pt x="1128" y="936"/>
                  <a:pt x="1080" y="936"/>
                </a:cubicBezTo>
                <a:cubicBezTo>
                  <a:pt x="1032" y="936"/>
                  <a:pt x="984" y="936"/>
                  <a:pt x="936" y="936"/>
                </a:cubicBezTo>
                <a:cubicBezTo>
                  <a:pt x="888" y="936"/>
                  <a:pt x="840" y="912"/>
                  <a:pt x="792" y="936"/>
                </a:cubicBezTo>
                <a:cubicBezTo>
                  <a:pt x="744" y="960"/>
                  <a:pt x="768" y="1056"/>
                  <a:pt x="648" y="1080"/>
                </a:cubicBezTo>
                <a:cubicBezTo>
                  <a:pt x="528" y="1104"/>
                  <a:pt x="144" y="1104"/>
                  <a:pt x="72" y="1080"/>
                </a:cubicBezTo>
                <a:cubicBezTo>
                  <a:pt x="0" y="1056"/>
                  <a:pt x="168" y="1008"/>
                  <a:pt x="216" y="93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ue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716040" cy="4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15520" y="187200"/>
            <a:ext cx="4534920" cy="6426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Kryteria Kopenhask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90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Kryterium polity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aj kandydujący musi osiągnąć stabilność instytucji gwarantującej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mokrację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praworządność, przestrzegani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aw człowieka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oraz poszanowania mniejszości i ich och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743200"/>
            <a:ext cx="9144000" cy="17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Kryterium ekonomi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aj kandydujący musi posiadać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rawną gospodarkę rynkową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oraz zdolność do stawienia czoła presji konkurencji i zmierzenia się z siłami rynkowymi w łonie U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572000"/>
            <a:ext cx="914400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Kryterium zaadoptowania </a:t>
            </a:r>
            <a:r>
              <a:rPr b="1" lang="fr-BE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fr-BE" sz="2400" spc="-1" strike="noStrike">
                <a:solidFill>
                  <a:srgbClr val="ff6600"/>
                </a:solidFill>
                <a:latin typeface="Times New Roman"/>
              </a:rPr>
              <a:t>ac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Kraj musi być zdolny do </a:t>
            </a:r>
            <a:r>
              <a:rPr b="1" lang="pl-PL" sz="2800" spc="-1" strike="noStrike">
                <a:solidFill>
                  <a:srgbClr val="000066"/>
                </a:solidFill>
                <a:latin typeface="Times New Roman"/>
              </a:rPr>
              <a:t>podjęcia obowiązków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wynikających z    członkostwa, zwłaszcza przejęcia celów unii politycznej, gospodarczej i walutowej</a:t>
            </a:r>
            <a:r>
              <a:rPr b="1" lang="fr-BE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72120" y="457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Daty dla Pol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78200" y="2301840"/>
            <a:ext cx="3354120" cy="304920"/>
            <a:chOff x="1978200" y="2301840"/>
            <a:chExt cx="3354120" cy="304920"/>
          </a:xfrm>
        </p:grpSpPr>
        <p:sp>
          <p:nvSpPr>
            <p:cNvPr id="200" name=""/>
            <p:cNvSpPr/>
            <p:nvPr/>
          </p:nvSpPr>
          <p:spPr>
            <a:xfrm>
              <a:off x="197820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628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436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244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2320" y="230184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28600" y="1065600"/>
            <a:ext cx="7010280" cy="459720"/>
          </a:xfrm>
          <a:prstGeom prst="rect">
            <a:avLst/>
          </a:prstGeom>
          <a:solidFill>
            <a:srgbClr val="dcff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potkania, dyskusje, dokumenty przygotow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1065960"/>
            <a:ext cx="1218960" cy="614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527480"/>
            <a:ext cx="7010280" cy="764280"/>
          </a:xfrm>
          <a:prstGeom prst="rect">
            <a:avLst/>
          </a:prstGeom>
          <a:solidFill>
            <a:srgbClr val="d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łożenie przez kraj kandydujący wniosku o rozpoczęcie negocjacji w sprawie umowy o stowarzyszeniu z 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1675800"/>
            <a:ext cx="1218960" cy="614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5931000"/>
            <a:ext cx="3354480" cy="304560"/>
            <a:chOff x="1981080" y="5931000"/>
            <a:chExt cx="3354480" cy="304560"/>
          </a:xfrm>
        </p:grpSpPr>
        <p:sp>
          <p:nvSpPr>
            <p:cNvPr id="210" name=""/>
            <p:cNvSpPr/>
            <p:nvPr/>
          </p:nvSpPr>
          <p:spPr>
            <a:xfrm>
              <a:off x="198108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52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5760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560" y="593100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28600" y="3040560"/>
            <a:ext cx="7010280" cy="398880"/>
          </a:xfrm>
          <a:prstGeom prst="rect">
            <a:avLst/>
          </a:prstGeom>
          <a:solidFill>
            <a:srgbClr val="c3e6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mowa Przejś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2513880"/>
            <a:ext cx="1218960" cy="614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rudzi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594520"/>
            <a:ext cx="7010280" cy="429120"/>
          </a:xfrm>
          <a:prstGeom prst="rect">
            <a:avLst/>
          </a:prstGeom>
          <a:solidFill>
            <a:srgbClr val="c3e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dpisanie UKŁADU EUROPEJSK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81080" y="3454560"/>
            <a:ext cx="3354480" cy="304560"/>
            <a:chOff x="1981080" y="3454560"/>
            <a:chExt cx="3354480" cy="304560"/>
          </a:xfrm>
        </p:grpSpPr>
        <p:sp>
          <p:nvSpPr>
            <p:cNvPr id="219" name=""/>
            <p:cNvSpPr/>
            <p:nvPr/>
          </p:nvSpPr>
          <p:spPr>
            <a:xfrm>
              <a:off x="198108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1952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560" y="345456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28600" y="3727800"/>
            <a:ext cx="7010280" cy="764280"/>
          </a:xfrm>
          <a:prstGeom prst="rect">
            <a:avLst/>
          </a:prstGeom>
          <a:solidFill>
            <a:srgbClr val="aacd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chodzi w życie UKŁAD EUROPEJSKI ustanawiający stowarzyszenie kraju ze Wspólnotami Europejski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3809160"/>
            <a:ext cx="1219320" cy="614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981080" y="4495680"/>
            <a:ext cx="3354480" cy="304920"/>
            <a:chOff x="1981080" y="4495680"/>
            <a:chExt cx="3354480" cy="304920"/>
          </a:xfrm>
        </p:grpSpPr>
        <p:sp>
          <p:nvSpPr>
            <p:cNvPr id="227" name=""/>
            <p:cNvSpPr/>
            <p:nvPr/>
          </p:nvSpPr>
          <p:spPr>
            <a:xfrm>
              <a:off x="198108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60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560" y="4495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28600" y="4804200"/>
            <a:ext cx="7010280" cy="398880"/>
          </a:xfrm>
          <a:prstGeom prst="rect">
            <a:avLst/>
          </a:prstGeom>
          <a:solidFill>
            <a:srgbClr val="aacd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tzw. „Biała Księga” Komisji Europejski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647600"/>
            <a:ext cx="1218960" cy="6145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81080" y="5199120"/>
            <a:ext cx="3354480" cy="304920"/>
            <a:chOff x="1981080" y="5199120"/>
            <a:chExt cx="3354480" cy="304920"/>
          </a:xfrm>
        </p:grpSpPr>
        <p:sp>
          <p:nvSpPr>
            <p:cNvPr id="235" name=""/>
            <p:cNvSpPr/>
            <p:nvPr/>
          </p:nvSpPr>
          <p:spPr>
            <a:xfrm>
              <a:off x="198108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52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5560" y="519912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04920" y="5490000"/>
            <a:ext cx="7010280" cy="42912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ficjalny wniosek o członkostwo w Unii 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5409360"/>
            <a:ext cx="1218960" cy="6145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8 kwiet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914400" y="0"/>
          <a:ext cx="8229600" cy="62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8229600" cy="62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914400" y="457200"/>
            <a:ext cx="762012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Polska składa wniosek o przyjęcie do Unii Europejskiej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43200" y="2133720"/>
            <a:ext cx="2971800" cy="1485720"/>
            <a:chOff x="2743200" y="2133720"/>
            <a:chExt cx="2971800" cy="1485720"/>
          </a:xfrm>
        </p:grpSpPr>
        <p:pic>
          <p:nvPicPr>
            <p:cNvPr id="249" name="POLANDF" descr=""/>
            <p:cNvPicPr/>
            <p:nvPr/>
          </p:nvPicPr>
          <p:blipFill>
            <a:blip r:embed="rId4"/>
            <a:stretch/>
          </p:blipFill>
          <p:spPr>
            <a:xfrm>
              <a:off x="4876920" y="3095640"/>
              <a:ext cx="83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flipH="1">
              <a:off x="2743200" y="2133720"/>
              <a:ext cx="2743200" cy="914400"/>
            </a:xfrm>
            <a:custGeom>
              <a:avLst/>
              <a:gdLst>
                <a:gd name="textAreaLeft" fmla="*/ 486360 w 2743200"/>
                <a:gd name="textAreaRight" fmla="*/ 1955880 w 274320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4" hR="21600" stAng="10800000" swAng="5400000"/>
                  <a:lnTo>
                    <a:pt x="11570" y="0"/>
                  </a:lnTo>
                  <a:arcTo wR="7664" hR="21600" stAng="-5400000" swAng="2706010"/>
                  <a:lnTo>
                    <a:pt x="21162" y="14400"/>
                  </a:lnTo>
                  <a:lnTo>
                    <a:pt x="17280" y="21600"/>
                  </a:lnTo>
                  <a:lnTo>
                    <a:pt x="12522" y="14400"/>
                  </a:lnTo>
                  <a:lnTo>
                    <a:pt x="14889" y="14400"/>
                  </a:lnTo>
                  <a:arcTo wR="7664" hR="21600" stAng="-2693990" swAng="-2385499"/>
                  <a:lnTo>
                    <a:pt x="9617" y="713"/>
                  </a:lnTo>
                  <a:arcTo wR="7664" hR="21600" stAng="-5720511" swAng="-5079489"/>
                  <a:close/>
                </a:path>
                <a:path fill="darkenLess" w="21600" h="21600">
                  <a:moveTo>
                    <a:pt x="0" y="21600"/>
                  </a:moveTo>
                  <a:arcTo wR="7664" hR="21600" stAng="10800000" swAng="5400000"/>
                  <a:lnTo>
                    <a:pt x="7664" y="0"/>
                  </a:lnTo>
                  <a:arcTo wR="7664" hR="21600" stAng="-5400000" swAng="320511"/>
                  <a:lnTo>
                    <a:pt x="9617" y="713"/>
                  </a:lnTo>
                  <a:arcTo wR="7664" hR="21600" stAng="-5720511" swAng="-5079489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36640" y="5639760"/>
            <a:ext cx="2759400" cy="64404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8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wietnia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72120" y="457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Daty dla Pol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05120" y="2286000"/>
            <a:ext cx="3354120" cy="304920"/>
            <a:chOff x="1905120" y="2286000"/>
            <a:chExt cx="3354120" cy="304920"/>
          </a:xfrm>
        </p:grpSpPr>
        <p:sp>
          <p:nvSpPr>
            <p:cNvPr id="256" name=""/>
            <p:cNvSpPr/>
            <p:nvPr/>
          </p:nvSpPr>
          <p:spPr>
            <a:xfrm>
              <a:off x="190512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36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9240" y="22860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508880" y="990720"/>
            <a:ext cx="1406520" cy="785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imes New Roman"/>
              </a:rPr>
              <a:t>marzec - sierpień 199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1772640"/>
            <a:ext cx="1218960" cy="614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lip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81080" y="5638680"/>
            <a:ext cx="3354480" cy="304920"/>
            <a:chOff x="1981080" y="5638680"/>
            <a:chExt cx="3354480" cy="304920"/>
          </a:xfrm>
        </p:grpSpPr>
        <p:sp>
          <p:nvSpPr>
            <p:cNvPr id="264" name=""/>
            <p:cNvSpPr/>
            <p:nvPr/>
          </p:nvSpPr>
          <p:spPr>
            <a:xfrm>
              <a:off x="198108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1952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760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568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560" y="56386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620120" y="2663280"/>
            <a:ext cx="1218960" cy="614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rudzi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81080" y="6386400"/>
            <a:ext cx="3354480" cy="304920"/>
            <a:chOff x="1981080" y="6386400"/>
            <a:chExt cx="3354480" cy="304920"/>
          </a:xfrm>
        </p:grpSpPr>
        <p:sp>
          <p:nvSpPr>
            <p:cNvPr id="271" name=""/>
            <p:cNvSpPr/>
            <p:nvPr/>
          </p:nvSpPr>
          <p:spPr>
            <a:xfrm>
              <a:off x="198108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760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560" y="6386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20120" y="3276000"/>
            <a:ext cx="1218960" cy="614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rz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981080" y="3809880"/>
            <a:ext cx="3354480" cy="304920"/>
            <a:chOff x="1981080" y="3809880"/>
            <a:chExt cx="3354480" cy="304920"/>
          </a:xfrm>
        </p:grpSpPr>
        <p:sp>
          <p:nvSpPr>
            <p:cNvPr id="278" name=""/>
            <p:cNvSpPr/>
            <p:nvPr/>
          </p:nvSpPr>
          <p:spPr>
            <a:xfrm>
              <a:off x="198108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60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9568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560" y="38098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620120" y="4190400"/>
            <a:ext cx="1218960" cy="6145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zerw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1080" y="4876920"/>
            <a:ext cx="3354480" cy="304560"/>
            <a:chOff x="1981080" y="4876920"/>
            <a:chExt cx="3354480" cy="304560"/>
          </a:xfrm>
        </p:grpSpPr>
        <p:sp>
          <p:nvSpPr>
            <p:cNvPr id="285" name=""/>
            <p:cNvSpPr/>
            <p:nvPr/>
          </p:nvSpPr>
          <p:spPr>
            <a:xfrm>
              <a:off x="198108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1952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560" y="4876920"/>
              <a:ext cx="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0120" y="5119200"/>
            <a:ext cx="1218960" cy="585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paździer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832400"/>
            <a:ext cx="7010280" cy="42912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==&gt; złożenie do Parlamentu Europejsk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060920"/>
            <a:ext cx="7010280" cy="764280"/>
          </a:xfrm>
          <a:prstGeom prst="rect">
            <a:avLst/>
          </a:prstGeom>
          <a:solidFill>
            <a:srgbClr val="91b4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rzygotowanie (Komisja Europejska i Rząd kraju kandydującego) tzw. Opinii (Av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370680"/>
            <a:ext cx="7010280" cy="429120"/>
          </a:xfrm>
          <a:prstGeom prst="rect">
            <a:avLst/>
          </a:prstGeom>
          <a:solidFill>
            <a:srgbClr val="789b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czątek procesu rozsze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594520"/>
            <a:ext cx="7010280" cy="764280"/>
          </a:xfrm>
          <a:prstGeom prst="rect">
            <a:avLst/>
          </a:prstGeom>
          <a:solidFill>
            <a:srgbClr val="789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ozpoczęcie procesu rozszerzania (dot. kraju kandydującego)   -   decyz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109040"/>
            <a:ext cx="7010280" cy="764280"/>
          </a:xfrm>
          <a:prstGeom prst="rect">
            <a:avLst/>
          </a:prstGeom>
          <a:solidFill>
            <a:srgbClr val="5f82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Rząd przyjmuje Narodowy Program Przygotowania do Członkostwa w Unii 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5185080"/>
            <a:ext cx="7010280" cy="42912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twarcie negocjacji o członkos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5963040"/>
            <a:ext cx="7010280" cy="39888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Okresowe Raporty na temat postępów kraju na drodze do 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ocedura przyjmowania nowych państw do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665440" y="1371600"/>
            <a:ext cx="3354480" cy="304920"/>
            <a:chOff x="2665440" y="1371600"/>
            <a:chExt cx="3354480" cy="304920"/>
          </a:xfrm>
        </p:grpSpPr>
        <p:sp>
          <p:nvSpPr>
            <p:cNvPr id="300" name=""/>
            <p:cNvSpPr/>
            <p:nvPr/>
          </p:nvSpPr>
          <p:spPr>
            <a:xfrm>
              <a:off x="266544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388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196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004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13716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665440" y="2438280"/>
            <a:ext cx="3354480" cy="304920"/>
            <a:chOff x="2665440" y="2438280"/>
            <a:chExt cx="3354480" cy="304920"/>
          </a:xfrm>
        </p:grpSpPr>
        <p:sp>
          <p:nvSpPr>
            <p:cNvPr id="306" name=""/>
            <p:cNvSpPr/>
            <p:nvPr/>
          </p:nvSpPr>
          <p:spPr>
            <a:xfrm>
              <a:off x="266544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388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196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24382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665440" y="3200400"/>
            <a:ext cx="3354480" cy="304920"/>
            <a:chOff x="2665440" y="3200400"/>
            <a:chExt cx="3354480" cy="304920"/>
          </a:xfrm>
        </p:grpSpPr>
        <p:sp>
          <p:nvSpPr>
            <p:cNvPr id="312" name=""/>
            <p:cNvSpPr/>
            <p:nvPr/>
          </p:nvSpPr>
          <p:spPr>
            <a:xfrm>
              <a:off x="266544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388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196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8004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32004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38080" y="938520"/>
            <a:ext cx="7010640" cy="429120"/>
          </a:xfrm>
          <a:prstGeom prst="rect">
            <a:avLst/>
          </a:prstGeom>
          <a:solidFill>
            <a:srgbClr val="4b69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akończenie negocj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670400"/>
            <a:ext cx="7010640" cy="764280"/>
          </a:xfrm>
          <a:prstGeom prst="rect">
            <a:avLst/>
          </a:prstGeom>
          <a:solidFill>
            <a:srgbClr val="325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goda na członkostwo wydana przez Parlament Europej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767320"/>
            <a:ext cx="7010640" cy="429120"/>
          </a:xfrm>
          <a:prstGeom prst="rect">
            <a:avLst/>
          </a:prstGeom>
          <a:solidFill>
            <a:srgbClr val="3250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odpisanie traktatu w sprawie przystąpi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575600"/>
            <a:ext cx="7010640" cy="429120"/>
          </a:xfrm>
          <a:prstGeom prst="rect">
            <a:avLst/>
          </a:prstGeom>
          <a:solidFill>
            <a:srgbClr val="0019e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tyfikacja traktatu w krajach członkowskich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499200"/>
            <a:ext cx="7010640" cy="764280"/>
          </a:xfrm>
          <a:prstGeom prst="rect">
            <a:avLst/>
          </a:prstGeom>
          <a:solidFill>
            <a:srgbClr val="0019e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tyfikacja przez Parlament Europejski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cyzja Rady Unii Europejskie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8840" y="5340960"/>
            <a:ext cx="7035840" cy="913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zyjęcie nowego członka do               Unii Europejskie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65440" y="5029200"/>
            <a:ext cx="3354480" cy="304920"/>
            <a:chOff x="2665440" y="5029200"/>
            <a:chExt cx="3354480" cy="304920"/>
          </a:xfrm>
        </p:grpSpPr>
        <p:sp>
          <p:nvSpPr>
            <p:cNvPr id="324" name=""/>
            <p:cNvSpPr/>
            <p:nvPr/>
          </p:nvSpPr>
          <p:spPr>
            <a:xfrm>
              <a:off x="266544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88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196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004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9920" y="502920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5440" y="4267080"/>
            <a:ext cx="3354480" cy="304920"/>
            <a:chOff x="2665440" y="4267080"/>
            <a:chExt cx="3354480" cy="304920"/>
          </a:xfrm>
        </p:grpSpPr>
        <p:sp>
          <p:nvSpPr>
            <p:cNvPr id="330" name=""/>
            <p:cNvSpPr/>
            <p:nvPr/>
          </p:nvSpPr>
          <p:spPr>
            <a:xfrm>
              <a:off x="266544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388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196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004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9920" y="4267080"/>
              <a:ext cx="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267000" y="299160"/>
            <a:ext cx="4507200" cy="84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Układ Europej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447920"/>
            <a:ext cx="845820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Jest to umowa międzynarodowa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ustanawiająca stowarzyszenie między krajem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kandydującym a Wspólnotami Europejskimi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dotycząca, m.in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stosunków handlowych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dialogu polityczneg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zbliżenia ustawodawstw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i wielu innych obszarów współpracy, a zwłaszcza przemysłu, środowiska, transportu i cł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71600" y="5257800"/>
            <a:ext cx="5803920" cy="1218960"/>
            <a:chOff x="1371600" y="5257800"/>
            <a:chExt cx="5803920" cy="1218960"/>
          </a:xfrm>
        </p:grpSpPr>
        <p:sp>
          <p:nvSpPr>
            <p:cNvPr id="341" name=""/>
            <p:cNvSpPr/>
            <p:nvPr/>
          </p:nvSpPr>
          <p:spPr>
            <a:xfrm>
              <a:off x="1495440" y="5268240"/>
              <a:ext cx="5638680" cy="12085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71600" y="5257800"/>
              <a:ext cx="580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olsk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odpisała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6 grudnia 19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ratyfikowała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0 października 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wszedł w życie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 lutego 19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0" y="0"/>
            <a:ext cx="2320920" cy="2743200"/>
            <a:chOff x="0" y="0"/>
            <a:chExt cx="2320920" cy="2743200"/>
          </a:xfrm>
        </p:grpSpPr>
        <p:pic>
          <p:nvPicPr>
            <p:cNvPr id="344" name="back04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3209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21055800">
              <a:off x="417960" y="9144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Bookman Old Style"/>
                </a:rPr>
                <a:t>Ukł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Bookman Old Style"/>
                </a:rPr>
                <a:t>Europejsk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16480" y="-5040"/>
            <a:ext cx="5981040" cy="14547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j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19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2362320"/>
            <a:ext cx="70866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Biała Księga “Przygotowanie krajów stowarzyszonych do integracj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Określenie najistotniejszych działań przystosowawczych dla krajów kandydujących do Jednolitego Ry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04920" y="2971800"/>
          <a:ext cx="135576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971800"/>
                    <a:ext cx="13557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57200"/>
            <a:ext cx="8305920" cy="5153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Traktat Paryski</a:t>
            </a: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Niemcy, Francja, Belgia, Holandia, Luksemburg, Włochy podpisują w Paryżu Traktat ustanawiając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Europejską Wspólnotę Węgla i St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EW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- historyczny początek dzisiejsz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0" y="5868720"/>
            <a:ext cx="258984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8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wiet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713240" y="-38880"/>
            <a:ext cx="5987520" cy="152208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oces rozszerzania 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zerwiec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2209680"/>
            <a:ext cx="830592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Agenda 2000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Ustanowienie finansowej pomocy dla państw kandydujący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Decyzja o rozpoczęciu negocjacji z pierwszą grupą krajów kandydując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INDER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733920" cy="30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imes New Roman"/>
              </a:rPr>
              <a:t>U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imes New Roman"/>
              </a:rPr>
              <a:t>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7760" y="762120"/>
            <a:ext cx="3327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06360" y="1752480"/>
            <a:ext cx="1400040" cy="1298160"/>
            <a:chOff x="306360" y="1752480"/>
            <a:chExt cx="1400040" cy="1298160"/>
          </a:xfrm>
        </p:grpSpPr>
        <p:sp>
          <p:nvSpPr>
            <p:cNvPr id="367" name=""/>
            <p:cNvSpPr/>
            <p:nvPr/>
          </p:nvSpPr>
          <p:spPr>
            <a:xfrm>
              <a:off x="306360" y="2590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Bułga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BULGARIF" descr=""/>
            <p:cNvPicPr/>
            <p:nvPr/>
          </p:nvPicPr>
          <p:blipFill>
            <a:blip r:embed="rId2"/>
            <a:stretch/>
          </p:blipFill>
          <p:spPr>
            <a:xfrm>
              <a:off x="45720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1603800" y="990720"/>
            <a:ext cx="53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z Europy Środkowej i Wschodn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212920" y="1752480"/>
            <a:ext cx="1245960" cy="1298160"/>
            <a:chOff x="2212920" y="1752480"/>
            <a:chExt cx="1245960" cy="1298160"/>
          </a:xfrm>
        </p:grpSpPr>
        <p:sp>
          <p:nvSpPr>
            <p:cNvPr id="371" name=""/>
            <p:cNvSpPr/>
            <p:nvPr/>
          </p:nvSpPr>
          <p:spPr>
            <a:xfrm>
              <a:off x="2212920" y="25909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ze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CZECHF" descr=""/>
            <p:cNvPicPr/>
            <p:nvPr/>
          </p:nvPicPr>
          <p:blipFill>
            <a:blip r:embed="rId3"/>
            <a:stretch/>
          </p:blipFill>
          <p:spPr>
            <a:xfrm>
              <a:off x="2362320" y="1752480"/>
              <a:ext cx="10792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2362320" y="5207040"/>
            <a:ext cx="1079280" cy="1196280"/>
            <a:chOff x="2362320" y="5207040"/>
            <a:chExt cx="1079280" cy="1196280"/>
          </a:xfrm>
        </p:grpSpPr>
        <p:sp>
          <p:nvSpPr>
            <p:cNvPr id="374" name=""/>
            <p:cNvSpPr/>
            <p:nvPr/>
          </p:nvSpPr>
          <p:spPr>
            <a:xfrm>
              <a:off x="2364840" y="594360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y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CYPRUSF" descr=""/>
            <p:cNvPicPr/>
            <p:nvPr/>
          </p:nvPicPr>
          <p:blipFill>
            <a:blip r:embed="rId4"/>
            <a:stretch/>
          </p:blipFill>
          <p:spPr>
            <a:xfrm>
              <a:off x="2362320" y="520704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4051440" y="1752480"/>
            <a:ext cx="1280880" cy="1298160"/>
            <a:chOff x="4051440" y="1752480"/>
            <a:chExt cx="1280880" cy="1298160"/>
          </a:xfrm>
        </p:grpSpPr>
        <p:sp>
          <p:nvSpPr>
            <p:cNvPr id="377" name=""/>
            <p:cNvSpPr/>
            <p:nvPr/>
          </p:nvSpPr>
          <p:spPr>
            <a:xfrm>
              <a:off x="4051440" y="2590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Esto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ESTONIAF" descr=""/>
            <p:cNvPicPr/>
            <p:nvPr/>
          </p:nvPicPr>
          <p:blipFill>
            <a:blip r:embed="rId5"/>
            <a:stretch/>
          </p:blipFill>
          <p:spPr>
            <a:xfrm>
              <a:off x="417816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7572600" y="3505320"/>
            <a:ext cx="1114200" cy="1221480"/>
            <a:chOff x="7572600" y="3505320"/>
            <a:chExt cx="1114200" cy="1221480"/>
          </a:xfrm>
        </p:grpSpPr>
        <p:sp>
          <p:nvSpPr>
            <p:cNvPr id="380" name=""/>
            <p:cNvSpPr/>
            <p:nvPr/>
          </p:nvSpPr>
          <p:spPr>
            <a:xfrm>
              <a:off x="7572600" y="426708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Węg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HUNGARYF" descr=""/>
            <p:cNvPicPr/>
            <p:nvPr/>
          </p:nvPicPr>
          <p:blipFill>
            <a:blip r:embed="rId6"/>
            <a:stretch/>
          </p:blipFill>
          <p:spPr>
            <a:xfrm>
              <a:off x="7607160" y="3505320"/>
              <a:ext cx="10796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7547760" y="1752480"/>
            <a:ext cx="1139040" cy="1298160"/>
            <a:chOff x="7547760" y="1752480"/>
            <a:chExt cx="1139040" cy="1298160"/>
          </a:xfrm>
        </p:grpSpPr>
        <p:sp>
          <p:nvSpPr>
            <p:cNvPr id="383" name=""/>
            <p:cNvSpPr/>
            <p:nvPr/>
          </p:nvSpPr>
          <p:spPr>
            <a:xfrm>
              <a:off x="7547760" y="259092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Łot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LATVIAF" descr=""/>
            <p:cNvPicPr/>
            <p:nvPr/>
          </p:nvPicPr>
          <p:blipFill>
            <a:blip r:embed="rId7"/>
            <a:stretch/>
          </p:blipFill>
          <p:spPr>
            <a:xfrm>
              <a:off x="760716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5854680" y="1752480"/>
            <a:ext cx="1079640" cy="1298160"/>
            <a:chOff x="5854680" y="1752480"/>
            <a:chExt cx="1079640" cy="1298160"/>
          </a:xfrm>
        </p:grpSpPr>
        <p:sp>
          <p:nvSpPr>
            <p:cNvPr id="386" name=""/>
            <p:cNvSpPr/>
            <p:nvPr/>
          </p:nvSpPr>
          <p:spPr>
            <a:xfrm>
              <a:off x="5943960" y="259092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t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LITHUANF" descr=""/>
            <p:cNvPicPr/>
            <p:nvPr/>
          </p:nvPicPr>
          <p:blipFill>
            <a:blip r:embed="rId8"/>
            <a:stretch/>
          </p:blipFill>
          <p:spPr>
            <a:xfrm>
              <a:off x="5854680" y="1752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383040" y="3505320"/>
            <a:ext cx="1162080" cy="1221480"/>
            <a:chOff x="383040" y="3505320"/>
            <a:chExt cx="1162080" cy="1221480"/>
          </a:xfrm>
        </p:grpSpPr>
        <p:sp>
          <p:nvSpPr>
            <p:cNvPr id="389" name=""/>
            <p:cNvSpPr/>
            <p:nvPr/>
          </p:nvSpPr>
          <p:spPr>
            <a:xfrm>
              <a:off x="383040" y="42670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Pols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POLANDF" descr=""/>
            <p:cNvPicPr/>
            <p:nvPr/>
          </p:nvPicPr>
          <p:blipFill>
            <a:blip r:embed="rId9"/>
            <a:stretch/>
          </p:blipFill>
          <p:spPr>
            <a:xfrm>
              <a:off x="457200" y="3505320"/>
              <a:ext cx="10796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2135520" y="3505320"/>
            <a:ext cx="1483920" cy="1221480"/>
            <a:chOff x="2135520" y="3505320"/>
            <a:chExt cx="1483920" cy="1221480"/>
          </a:xfrm>
        </p:grpSpPr>
        <p:sp>
          <p:nvSpPr>
            <p:cNvPr id="392" name=""/>
            <p:cNvSpPr/>
            <p:nvPr/>
          </p:nvSpPr>
          <p:spPr>
            <a:xfrm>
              <a:off x="2135520" y="426708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umu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ROMANIAF" descr=""/>
            <p:cNvPicPr/>
            <p:nvPr/>
          </p:nvPicPr>
          <p:blipFill>
            <a:blip r:embed="rId10"/>
            <a:stretch/>
          </p:blipFill>
          <p:spPr>
            <a:xfrm>
              <a:off x="2362320" y="350532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3923640" y="3505320"/>
            <a:ext cx="1485360" cy="1221480"/>
            <a:chOff x="3923640" y="3505320"/>
            <a:chExt cx="1485360" cy="1221480"/>
          </a:xfrm>
        </p:grpSpPr>
        <p:sp>
          <p:nvSpPr>
            <p:cNvPr id="395" name=""/>
            <p:cNvSpPr/>
            <p:nvPr/>
          </p:nvSpPr>
          <p:spPr>
            <a:xfrm>
              <a:off x="3923640" y="42670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łowa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SLOVAKIF" descr=""/>
            <p:cNvPicPr/>
            <p:nvPr/>
          </p:nvPicPr>
          <p:blipFill>
            <a:blip r:embed="rId11"/>
            <a:stretch/>
          </p:blipFill>
          <p:spPr>
            <a:xfrm>
              <a:off x="4102200" y="3505320"/>
              <a:ext cx="107928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"/>
          <p:cNvGrpSpPr/>
          <p:nvPr/>
        </p:nvGrpSpPr>
        <p:grpSpPr>
          <a:xfrm>
            <a:off x="5715720" y="3505320"/>
            <a:ext cx="1501920" cy="1221480"/>
            <a:chOff x="5715720" y="3505320"/>
            <a:chExt cx="1501920" cy="1221480"/>
          </a:xfrm>
        </p:grpSpPr>
        <p:sp>
          <p:nvSpPr>
            <p:cNvPr id="398" name=""/>
            <p:cNvSpPr/>
            <p:nvPr/>
          </p:nvSpPr>
          <p:spPr>
            <a:xfrm>
              <a:off x="5715720" y="426708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łowe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SLOVENF" descr=""/>
            <p:cNvPicPr/>
            <p:nvPr/>
          </p:nvPicPr>
          <p:blipFill>
            <a:blip r:embed="rId12"/>
            <a:stretch/>
          </p:blipFill>
          <p:spPr>
            <a:xfrm>
              <a:off x="5854680" y="3505320"/>
              <a:ext cx="10796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"/>
          <p:cNvSpPr/>
          <p:nvPr/>
        </p:nvSpPr>
        <p:spPr>
          <a:xfrm>
            <a:off x="381240" y="47242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zos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102200" y="5181480"/>
            <a:ext cx="1079280" cy="1221840"/>
            <a:chOff x="4102200" y="5181480"/>
            <a:chExt cx="1079280" cy="1221840"/>
          </a:xfrm>
        </p:grpSpPr>
        <p:sp>
          <p:nvSpPr>
            <p:cNvPr id="402" name=""/>
            <p:cNvSpPr/>
            <p:nvPr/>
          </p:nvSpPr>
          <p:spPr>
            <a:xfrm>
              <a:off x="4143240" y="59436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l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MALTAF" descr=""/>
            <p:cNvPicPr/>
            <p:nvPr/>
          </p:nvPicPr>
          <p:blipFill>
            <a:blip r:embed="rId13"/>
            <a:stretch/>
          </p:blipFill>
          <p:spPr>
            <a:xfrm>
              <a:off x="4102200" y="5181480"/>
              <a:ext cx="10792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5837400" y="5181480"/>
            <a:ext cx="1096920" cy="1221840"/>
            <a:chOff x="5837400" y="5181480"/>
            <a:chExt cx="1096920" cy="1221840"/>
          </a:xfrm>
        </p:grpSpPr>
        <p:sp>
          <p:nvSpPr>
            <p:cNvPr id="405" name=""/>
            <p:cNvSpPr/>
            <p:nvPr/>
          </p:nvSpPr>
          <p:spPr>
            <a:xfrm>
              <a:off x="5837400" y="5943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ur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TURKEYF" descr=""/>
            <p:cNvPicPr/>
            <p:nvPr/>
          </p:nvPicPr>
          <p:blipFill>
            <a:blip r:embed="rId14"/>
            <a:stretch/>
          </p:blipFill>
          <p:spPr>
            <a:xfrm>
              <a:off x="5854680" y="5181480"/>
              <a:ext cx="107964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720" y="0"/>
            <a:ext cx="307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151280" y="152280"/>
            <a:ext cx="7162200" cy="6426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ozpoczęcie negocjacji akcesyj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85800" y="985680"/>
            <a:ext cx="8077320" cy="1592280"/>
            <a:chOff x="685800" y="985680"/>
            <a:chExt cx="8077320" cy="1592280"/>
          </a:xfrm>
        </p:grpSpPr>
        <p:sp>
          <p:nvSpPr>
            <p:cNvPr id="413" name=""/>
            <p:cNvSpPr/>
            <p:nvPr/>
          </p:nvSpPr>
          <p:spPr>
            <a:xfrm>
              <a:off x="3048120" y="985680"/>
              <a:ext cx="342576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31 marca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" y="17524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Czechy, Estonia, Węgry Polska, Słowenia oraz Cypr - pierwsza grupa krajów nazywana „Grupą Luksemburską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914400" y="4719600"/>
            <a:ext cx="7315200" cy="1548000"/>
            <a:chOff x="914400" y="4719600"/>
            <a:chExt cx="7315200" cy="1548000"/>
          </a:xfrm>
        </p:grpSpPr>
        <p:sp>
          <p:nvSpPr>
            <p:cNvPr id="416" name=""/>
            <p:cNvSpPr/>
            <p:nvPr/>
          </p:nvSpPr>
          <p:spPr>
            <a:xfrm>
              <a:off x="2895480" y="4719600"/>
              <a:ext cx="342612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15 lutego 2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4400" y="54421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Bułgaria, Łotwa, Litwa, Malta, Rumunia, Słowacja</a:t>
              </a:r>
              <a:r>
                <a:rPr b="1" lang="fr-BE" sz="2400" spc="-1" strike="noStrike">
                  <a:solidFill>
                    <a:srgbClr val="003399"/>
                  </a:solidFill>
                  <a:latin typeface="Times New Roman"/>
                </a:rPr>
                <a:t> - </a:t>
              </a: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druga grupa krajów nazywana „Grupą Helsińską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62120" y="2662200"/>
            <a:ext cx="8153280" cy="1882080"/>
            <a:chOff x="762120" y="2662200"/>
            <a:chExt cx="8153280" cy="1882080"/>
          </a:xfrm>
        </p:grpSpPr>
        <p:sp>
          <p:nvSpPr>
            <p:cNvPr id="419" name=""/>
            <p:cNvSpPr/>
            <p:nvPr/>
          </p:nvSpPr>
          <p:spPr>
            <a:xfrm>
              <a:off x="2971800" y="2662200"/>
              <a:ext cx="3425760" cy="57672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ff"/>
                  </a:solidFill>
                  <a:latin typeface="Times New Roman"/>
                </a:rPr>
                <a:t>10-11 grudzień 1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444840"/>
              <a:ext cx="8153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spcAft>
                  <a:spcPts val="27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2200" spc="-1" strike="noStrike">
                  <a:solidFill>
                    <a:srgbClr val="003399"/>
                  </a:solidFill>
                  <a:latin typeface="Times New Roman"/>
                </a:rPr>
                <a:t>Tur</a:t>
              </a:r>
              <a:r>
                <a:rPr b="1" i="1" lang="pl-PL" sz="2200" spc="-1" strike="noStrike">
                  <a:solidFill>
                    <a:srgbClr val="003399"/>
                  </a:solidFill>
                  <a:latin typeface="Times New Roman"/>
                </a:rPr>
                <a:t>cja</a:t>
              </a:r>
              <a:r>
                <a:rPr b="1" i="1" lang="fr-BE" sz="2200" spc="-1" strike="noStrike">
                  <a:solidFill>
                    <a:srgbClr val="003399"/>
                  </a:solidFill>
                  <a:latin typeface="Times New Roman"/>
                </a:rPr>
                <a:t>: </a:t>
              </a:r>
              <a:r>
                <a:rPr b="1" i="1" lang="pl-PL" sz="2200" spc="-1" strike="noStrike">
                  <a:solidFill>
                    <a:srgbClr val="003399"/>
                  </a:solidFill>
                  <a:latin typeface="Times New Roman"/>
                </a:rPr>
                <a:t>Na szczycie Rady Europejskiej w Helsinkach potwierdzono, iż Turcja jest kandydatem do wstąpienia do UE na bazie tych samych kryteriów, jakie odnoszą się do  innych krajów kandydujących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4" name=""/>
          <p:cNvGraphicFramePr/>
          <p:nvPr/>
        </p:nvGraphicFramePr>
        <p:xfrm>
          <a:off x="609480" y="665280"/>
          <a:ext cx="7620120" cy="582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6528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3240" y="0"/>
            <a:ext cx="28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Kandydują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86040" y="60958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Wyk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380880" y="554040"/>
          <a:ext cx="8607600" cy="62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54040"/>
                    <a:ext cx="86076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Dochód na głowę - średnia 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2000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133720"/>
            <a:ext cx="3352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Wykres = % średniej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artość - w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10040" y="981000"/>
            <a:ext cx="95184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6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3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8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6 7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7 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8 9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5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0 8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5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1 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9 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2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5 9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00160" y="12240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The Acqu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31 rozdziałów negocj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67796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 towa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osó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a świadczenia usłu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wobodny przepływ kapitał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wo Spó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konkurencj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lnic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ybołóws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transportow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oda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nia Gospodarcza i Walut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. 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tysty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społeczna i zatrudnieni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przemysł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łe i Średnie przedsiębiors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168732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uka i bad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dukacja, kształcenie i młodzie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elekomunikacja i technologie informa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ultura i polityka audiowizua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lityka regionalna i koordynacja instrumentów struktural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Środowisk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3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chrona konsumentów i zdrow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ymiar sprawiedliwości i sprawy wewnętr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nia ce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osunki zewnętr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Wspólna Polityka Zagraniczna i Bezpieczeństw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8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ntrola finans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Finanse i budż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. In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ytuc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09480" y="307800"/>
            <a:ext cx="853452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 u="sng">
                <a:solidFill>
                  <a:srgbClr val="0000ff"/>
                </a:solidFill>
                <a:uFillTx/>
                <a:latin typeface="Times New Roman"/>
              </a:rPr>
              <a:t>Strategia przedakcesyjna</a:t>
            </a:r>
            <a:r>
              <a:rPr b="1" lang="pl-PL" sz="3800" spc="-1" strike="noStrike">
                <a:solidFill>
                  <a:srgbClr val="0000ff"/>
                </a:solidFill>
                <a:latin typeface="Times New Roman"/>
              </a:rPr>
              <a:t> opiera się na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Układach Europejski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artnerstwie na rzecz członkostw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Monotype Sorts" charset="2"/>
              <a:buChar char="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omocy przedakcesyjnej obejmujące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IS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SA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współfinansowanie z międzynarodowymi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instytucjami finansowy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udział w programach Wspólnoty 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back102" descr=""/>
          <p:cNvPicPr/>
          <p:nvPr/>
        </p:nvPicPr>
        <p:blipFill>
          <a:blip r:embed="rId1"/>
          <a:stretch/>
        </p:blipFill>
        <p:spPr>
          <a:xfrm>
            <a:off x="0" y="1495440"/>
            <a:ext cx="9144000" cy="42861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33520" y="76320"/>
            <a:ext cx="829944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nerstwo na rzecz członkostw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1752480"/>
            <a:ext cx="8686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zostało przygotowane dla każdego z państw kandydujących</a:t>
            </a:r>
            <a:r>
              <a:rPr b="1" lang="fr-BE" sz="26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kreśla obszary, w których kraj kandydujący powinien poczynić największy postęp w celu przygotowania się do przystąpienia</a:t>
            </a:r>
            <a:r>
              <a:rPr b="1" lang="fr-BE" sz="26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wyznacza kierunki finansowej pomoc przedakcesyjne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326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kreśla zobowiązania kraju kandydującego dotyczące respektowania reguł demokracji, stabilizacji makroekonomicznej, restrukturyzacji przemysłu, bezpieczeństwa nuklearnego i przyjęcia </a:t>
            </a:r>
            <a:r>
              <a:rPr b="1" i="1" lang="pl-PL" sz="2600" spc="-1" strike="noStrike">
                <a:solidFill>
                  <a:srgbClr val="003399"/>
                </a:solidFill>
                <a:latin typeface="Times New Roman"/>
              </a:rPr>
              <a:t>acqu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EUROR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53" name="1EUROR" descr=""/>
          <p:cNvPicPr/>
          <p:nvPr/>
        </p:nvPicPr>
        <p:blipFill>
          <a:blip r:embed="rId2"/>
          <a:stretch/>
        </p:blipFill>
        <p:spPr>
          <a:xfrm>
            <a:off x="2514600" y="518148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aga_UE" descr=""/>
          <p:cNvPicPr/>
          <p:nvPr/>
        </p:nvPicPr>
        <p:blipFill>
          <a:blip r:embed="rId3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2738520"/>
            <a:ext cx="3205080" cy="1909800"/>
            <a:chOff x="0" y="2738520"/>
            <a:chExt cx="3205080" cy="1909800"/>
          </a:xfrm>
        </p:grpSpPr>
        <p:sp>
          <p:nvSpPr>
            <p:cNvPr id="459" name=""/>
            <p:cNvSpPr/>
            <p:nvPr/>
          </p:nvSpPr>
          <p:spPr>
            <a:xfrm>
              <a:off x="0" y="3112920"/>
              <a:ext cx="66348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7240" y="273852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1EUROR" descr=""/>
            <p:cNvPicPr/>
            <p:nvPr/>
          </p:nvPicPr>
          <p:blipFill>
            <a:blip r:embed="rId4"/>
            <a:stretch/>
          </p:blipFill>
          <p:spPr>
            <a:xfrm>
              <a:off x="2200320" y="34146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1EUROR" descr=""/>
            <p:cNvPicPr/>
            <p:nvPr/>
          </p:nvPicPr>
          <p:blipFill>
            <a:blip r:embed="rId5"/>
            <a:stretch/>
          </p:blipFill>
          <p:spPr>
            <a:xfrm>
              <a:off x="2352600" y="35672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1EUROR" descr=""/>
            <p:cNvPicPr/>
            <p:nvPr/>
          </p:nvPicPr>
          <p:blipFill>
            <a:blip r:embed="rId6"/>
            <a:stretch/>
          </p:blipFill>
          <p:spPr>
            <a:xfrm>
              <a:off x="2124000" y="37958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1EUROR" descr=""/>
            <p:cNvPicPr/>
            <p:nvPr/>
          </p:nvPicPr>
          <p:blipFill>
            <a:blip r:embed="rId7"/>
            <a:stretch/>
          </p:blipFill>
          <p:spPr>
            <a:xfrm>
              <a:off x="2581200" y="38718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1EUROR" descr=""/>
            <p:cNvPicPr/>
            <p:nvPr/>
          </p:nvPicPr>
          <p:blipFill>
            <a:blip r:embed="rId8"/>
            <a:stretch/>
          </p:blipFill>
          <p:spPr>
            <a:xfrm>
              <a:off x="1895400" y="41004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1EUROR" descr=""/>
            <p:cNvPicPr/>
            <p:nvPr/>
          </p:nvPicPr>
          <p:blipFill>
            <a:blip r:embed="rId9"/>
            <a:stretch/>
          </p:blipFill>
          <p:spPr>
            <a:xfrm>
              <a:off x="2276640" y="417672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1EUROR" descr=""/>
            <p:cNvPicPr/>
            <p:nvPr/>
          </p:nvPicPr>
          <p:blipFill>
            <a:blip r:embed="rId10"/>
            <a:stretch/>
          </p:blipFill>
          <p:spPr>
            <a:xfrm>
              <a:off x="2733840" y="4176720"/>
              <a:ext cx="471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HARE_MINI" descr=""/>
          <p:cNvPicPr/>
          <p:nvPr/>
        </p:nvPicPr>
        <p:blipFill>
          <a:blip r:embed="rId11"/>
          <a:stretch/>
        </p:blipFill>
        <p:spPr>
          <a:xfrm>
            <a:off x="7696080" y="1295280"/>
            <a:ext cx="1143000" cy="595440"/>
          </a:xfrm>
          <a:prstGeom prst="rect">
            <a:avLst/>
          </a:prstGeom>
          <a:ln w="0">
            <a:noFill/>
          </a:ln>
        </p:spPr>
      </p:pic>
      <p:pic>
        <p:nvPicPr>
          <p:cNvPr id="469" name="1EUROR" descr=""/>
          <p:cNvPicPr/>
          <p:nvPr/>
        </p:nvPicPr>
        <p:blipFill>
          <a:blip r:embed="rId12"/>
          <a:stretch/>
        </p:blipFill>
        <p:spPr>
          <a:xfrm>
            <a:off x="1676520" y="49528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470" name="1EUROR" descr=""/>
          <p:cNvPicPr/>
          <p:nvPr/>
        </p:nvPicPr>
        <p:blipFill>
          <a:blip r:embed="rId13"/>
          <a:stretch/>
        </p:blipFill>
        <p:spPr>
          <a:xfrm>
            <a:off x="1752480" y="59292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124080" y="2362320"/>
            <a:ext cx="60199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8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finansuje inwestycje we wszystkich sektorach nie objęte pozostałymi programa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38088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dysponuje rocznym budżetem 1 560 mln €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1EUROR" descr=""/>
          <p:cNvPicPr/>
          <p:nvPr/>
        </p:nvPicPr>
        <p:blipFill>
          <a:blip r:embed="rId14"/>
          <a:stretch/>
        </p:blipFill>
        <p:spPr>
          <a:xfrm>
            <a:off x="1981080" y="472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73" name="1EUROR" descr=""/>
          <p:cNvPicPr/>
          <p:nvPr/>
        </p:nvPicPr>
        <p:blipFill>
          <a:blip r:embed="rId15"/>
          <a:stretch/>
        </p:blipFill>
        <p:spPr>
          <a:xfrm>
            <a:off x="205740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74" name="487071" descr=""/>
          <p:cNvPicPr/>
          <p:nvPr/>
        </p:nvPicPr>
        <p:blipFill>
          <a:blip r:embed="rId16"/>
          <a:stretch/>
        </p:blipFill>
        <p:spPr>
          <a:xfrm>
            <a:off x="0" y="45212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779400"/>
            <a:ext cx="7696080" cy="607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9160" y="459900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-141120"/>
            <a:ext cx="914400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rogram 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479" name="PHARE_MINI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143000" cy="595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28600" y="1025640"/>
            <a:ext cx="45720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Główne obszary wspar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27880" y="4265640"/>
            <a:ext cx="89154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Rozwój instytucjonalny (</a:t>
            </a:r>
            <a:r>
              <a:rPr b="1" lang="fr-BE" sz="2400" spc="-1" strike="noStrike">
                <a:solidFill>
                  <a:srgbClr val="800000"/>
                </a:solidFill>
                <a:latin typeface="Times New Roman"/>
              </a:rPr>
              <a:t>30% 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budżetu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- dostosowanie przedsiębiorstw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infrastruktury do standardów UE m.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w takich dziedzinach jak: konkurencja, ochrona konsumenta, handel, wymiar sprawiedliwości i sprawy wewnętrz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7880" y="1555920"/>
            <a:ext cx="89154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a50021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Finansowanie inwestycji  (70 % budżetu)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-  rozwój struktur organizacyjnych, zasobów ludzkich i umiejętności w dziedzinie zarządzania, koniecznych do przyjęcia prawodawstwa Wspólnot Europejskich oraz zagwarantowa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że w państwie tworzone jest stabil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społeczeństwo demokratycz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fr-BE" sz="2400" spc="-1" strike="noStrike">
                <a:solidFill>
                  <a:srgbClr val="003399"/>
                </a:solidFill>
                <a:latin typeface="Times New Roman"/>
              </a:rPr>
              <a:t>- wypełnienie wymogów członkos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3OFFICES" descr=""/>
          <p:cNvPicPr/>
          <p:nvPr/>
        </p:nvPicPr>
        <p:blipFill>
          <a:blip r:embed="rId3"/>
          <a:stretch/>
        </p:blipFill>
        <p:spPr>
          <a:xfrm>
            <a:off x="5929200" y="2881440"/>
            <a:ext cx="306252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-141120"/>
            <a:ext cx="914400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Program P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489" name="PHARE_MINI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143000" cy="59544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304920" y="2362320"/>
            <a:ext cx="8839080" cy="2778840"/>
            <a:chOff x="304920" y="2362320"/>
            <a:chExt cx="8839080" cy="2778840"/>
          </a:xfrm>
        </p:grpSpPr>
        <p:sp>
          <p:nvSpPr>
            <p:cNvPr id="491" name=""/>
            <p:cNvSpPr/>
            <p:nvPr/>
          </p:nvSpPr>
          <p:spPr>
            <a:xfrm>
              <a:off x="304920" y="236232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Inwestycje na rzecz spójności ekonomiczno społecz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2819520"/>
              <a:ext cx="8839080" cy="23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5000"/>
                </a:lnSpc>
                <a:buClr>
                  <a:srgbClr val="a50021"/>
                </a:buClr>
                <a:buSzPct val="120000"/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W 2000 r. Phare rozpoczął wsparcie podobne do tych w ramach Europejskiego Funduszu Rozwoju Regionalnego oraz Europejskiego Funduszu Socjalnego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Rozwój zasobów ludzkich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Rozwój małych i średnich przedsiębiorstw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>
                <a:lnSpc>
                  <a:spcPct val="95000"/>
                </a:lnSpc>
                <a:buClr>
                  <a:srgbClr val="a50021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Infrastruktura związana z otoczeniem biznesu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buClr>
                  <a:srgbClr val="a50021"/>
                </a:buClr>
                <a:buSzPct val="120000"/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Pr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ogramowanie zgodne z Narodowymi Planami Rozwoju</a:t>
              </a:r>
              <a:r>
                <a:rPr b="1" lang="fr-BE" sz="2200" spc="-1" strike="noStrike">
                  <a:solidFill>
                    <a:srgbClr val="003399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RATUSZ" descr=""/>
            <p:cNvPicPr/>
            <p:nvPr/>
          </p:nvPicPr>
          <p:blipFill>
            <a:blip r:embed="rId3"/>
            <a:stretch/>
          </p:blipFill>
          <p:spPr>
            <a:xfrm>
              <a:off x="6781680" y="3586320"/>
              <a:ext cx="2362320" cy="12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304920" y="5327640"/>
            <a:ext cx="87627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Phare CBC - Program Współpracy Przygranicznej  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- wspieranie współpracy regionów krajów kandydujących z regionami państw członkowskich UE oraz z regionami innych państw kandydując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0" y="914400"/>
            <a:ext cx="9144000" cy="1299600"/>
            <a:chOff x="0" y="914400"/>
            <a:chExt cx="9144000" cy="1299600"/>
          </a:xfrm>
        </p:grpSpPr>
        <p:pic>
          <p:nvPicPr>
            <p:cNvPr id="496" name="g0102697" descr=""/>
            <p:cNvPicPr/>
            <p:nvPr/>
          </p:nvPicPr>
          <p:blipFill>
            <a:blip r:embed="rId4"/>
            <a:stretch/>
          </p:blipFill>
          <p:spPr>
            <a:xfrm>
              <a:off x="0" y="914400"/>
              <a:ext cx="175248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g0102665" descr=""/>
            <p:cNvPicPr/>
            <p:nvPr/>
          </p:nvPicPr>
          <p:blipFill>
            <a:blip r:embed="rId5"/>
            <a:stretch/>
          </p:blipFill>
          <p:spPr>
            <a:xfrm>
              <a:off x="7238880" y="1219320"/>
              <a:ext cx="18288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905120" y="1165320"/>
              <a:ext cx="723888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200" spc="-1" strike="noStrike">
                  <a:solidFill>
                    <a:srgbClr val="800000"/>
                  </a:solidFill>
                  <a:latin typeface="Times New Roman"/>
                </a:rPr>
                <a:t>Twinning</a:t>
              </a:r>
              <a:r>
                <a:rPr b="1" lang="pl-PL" sz="2200" spc="-1" strike="noStrike">
                  <a:solidFill>
                    <a:srgbClr val="800000"/>
                  </a:solidFill>
                  <a:latin typeface="Times New Roman"/>
                </a:rPr>
                <a:t>  - współpraca bliźniacza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pomiędz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administracją 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publiczną w krajach 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a jej polskimi odpowiednikami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581280" y="2362320"/>
            <a:ext cx="556272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finansuje większe projekty w dziedzinie infrastruktury środowiska i transpor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3808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roczny budżet 1 040 mln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2281320"/>
            <a:ext cx="3205080" cy="1909800"/>
            <a:chOff x="0" y="2281320"/>
            <a:chExt cx="3205080" cy="1909800"/>
          </a:xfrm>
        </p:grpSpPr>
        <p:sp>
          <p:nvSpPr>
            <p:cNvPr id="505" name=""/>
            <p:cNvSpPr/>
            <p:nvPr/>
          </p:nvSpPr>
          <p:spPr>
            <a:xfrm>
              <a:off x="0" y="2655720"/>
              <a:ext cx="66348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240" y="228132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1EUROR" descr=""/>
            <p:cNvPicPr/>
            <p:nvPr/>
          </p:nvPicPr>
          <p:blipFill>
            <a:blip r:embed="rId2"/>
            <a:stretch/>
          </p:blipFill>
          <p:spPr>
            <a:xfrm>
              <a:off x="2200320" y="29574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1EUROR" descr=""/>
            <p:cNvPicPr/>
            <p:nvPr/>
          </p:nvPicPr>
          <p:blipFill>
            <a:blip r:embed="rId3"/>
            <a:stretch/>
          </p:blipFill>
          <p:spPr>
            <a:xfrm>
              <a:off x="2352600" y="31100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1EUROR" descr=""/>
            <p:cNvPicPr/>
            <p:nvPr/>
          </p:nvPicPr>
          <p:blipFill>
            <a:blip r:embed="rId4"/>
            <a:stretch/>
          </p:blipFill>
          <p:spPr>
            <a:xfrm>
              <a:off x="2124000" y="333864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1EUROR" descr=""/>
            <p:cNvPicPr/>
            <p:nvPr/>
          </p:nvPicPr>
          <p:blipFill>
            <a:blip r:embed="rId5"/>
            <a:stretch/>
          </p:blipFill>
          <p:spPr>
            <a:xfrm>
              <a:off x="2581200" y="34146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1EUROR" descr=""/>
            <p:cNvPicPr/>
            <p:nvPr/>
          </p:nvPicPr>
          <p:blipFill>
            <a:blip r:embed="rId6"/>
            <a:stretch/>
          </p:blipFill>
          <p:spPr>
            <a:xfrm>
              <a:off x="1895400" y="364320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1EUROR" descr=""/>
            <p:cNvPicPr/>
            <p:nvPr/>
          </p:nvPicPr>
          <p:blipFill>
            <a:blip r:embed="rId7"/>
            <a:stretch/>
          </p:blipFill>
          <p:spPr>
            <a:xfrm>
              <a:off x="2276640" y="371952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1EUROR" descr=""/>
            <p:cNvPicPr/>
            <p:nvPr/>
          </p:nvPicPr>
          <p:blipFill>
            <a:blip r:embed="rId8"/>
            <a:stretch/>
          </p:blipFill>
          <p:spPr>
            <a:xfrm>
              <a:off x="2733840" y="3719520"/>
              <a:ext cx="471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1EUROR" descr=""/>
          <p:cNvPicPr/>
          <p:nvPr/>
        </p:nvPicPr>
        <p:blipFill>
          <a:blip r:embed="rId9"/>
          <a:stretch/>
        </p:blipFill>
        <p:spPr>
          <a:xfrm>
            <a:off x="1600200" y="41911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15" name="1EUROR" descr=""/>
          <p:cNvPicPr/>
          <p:nvPr/>
        </p:nvPicPr>
        <p:blipFill>
          <a:blip r:embed="rId10"/>
          <a:stretch/>
        </p:blipFill>
        <p:spPr>
          <a:xfrm>
            <a:off x="2819520" y="48769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16" name="1EUROR" descr=""/>
          <p:cNvPicPr/>
          <p:nvPr/>
        </p:nvPicPr>
        <p:blipFill>
          <a:blip r:embed="rId11"/>
          <a:stretch/>
        </p:blipFill>
        <p:spPr>
          <a:xfrm>
            <a:off x="251460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17" name="1EUROR" descr=""/>
          <p:cNvPicPr/>
          <p:nvPr/>
        </p:nvPicPr>
        <p:blipFill>
          <a:blip r:embed="rId12"/>
          <a:stretch/>
        </p:blipFill>
        <p:spPr>
          <a:xfrm>
            <a:off x="1676520" y="54864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518" name="1EUROR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519" name="1EUROR" descr=""/>
          <p:cNvPicPr/>
          <p:nvPr/>
        </p:nvPicPr>
        <p:blipFill>
          <a:blip r:embed="rId14"/>
          <a:stretch/>
        </p:blipFill>
        <p:spPr>
          <a:xfrm>
            <a:off x="1981080" y="46483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20" name="autostrady-cross" descr=""/>
          <p:cNvPicPr/>
          <p:nvPr/>
        </p:nvPicPr>
        <p:blipFill>
          <a:blip r:embed="rId15"/>
          <a:stretch/>
        </p:blipFill>
        <p:spPr>
          <a:xfrm>
            <a:off x="0" y="4065480"/>
            <a:ext cx="4191120" cy="279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28600" y="3430440"/>
            <a:ext cx="4267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ojekty - gospodarka wodna - woda pitna/ wodociągi oraz gospodarka odpadami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udowa systemów kanalizacji i oczyszczania ścieków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ochrona powietrza przed emisją gazów i pył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1066680"/>
            <a:ext cx="1676160" cy="1143000"/>
            <a:chOff x="0" y="1066680"/>
            <a:chExt cx="1676160" cy="1143000"/>
          </a:xfrm>
        </p:grpSpPr>
        <p:sp>
          <p:nvSpPr>
            <p:cNvPr id="527" name=""/>
            <p:cNvSpPr/>
            <p:nvPr/>
          </p:nvSpPr>
          <p:spPr>
            <a:xfrm>
              <a:off x="0" y="1290600"/>
              <a:ext cx="347040" cy="4266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9280" y="1066680"/>
              <a:ext cx="1023120" cy="6192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1EUROR" descr=""/>
            <p:cNvPicPr/>
            <p:nvPr/>
          </p:nvPicPr>
          <p:blipFill>
            <a:blip r:embed="rId2"/>
            <a:stretch/>
          </p:blipFill>
          <p:spPr>
            <a:xfrm>
              <a:off x="1150920" y="14713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1EUROR" descr=""/>
            <p:cNvPicPr/>
            <p:nvPr/>
          </p:nvPicPr>
          <p:blipFill>
            <a:blip r:embed="rId3"/>
            <a:stretch/>
          </p:blipFill>
          <p:spPr>
            <a:xfrm>
              <a:off x="1230480" y="15624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1EUROR" descr=""/>
            <p:cNvPicPr/>
            <p:nvPr/>
          </p:nvPicPr>
          <p:blipFill>
            <a:blip r:embed="rId4"/>
            <a:stretch/>
          </p:blipFill>
          <p:spPr>
            <a:xfrm>
              <a:off x="1110960" y="16992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1EUROR" descr=""/>
            <p:cNvPicPr/>
            <p:nvPr/>
          </p:nvPicPr>
          <p:blipFill>
            <a:blip r:embed="rId5"/>
            <a:stretch/>
          </p:blipFill>
          <p:spPr>
            <a:xfrm>
              <a:off x="1350000" y="17449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1EUROR" descr=""/>
            <p:cNvPicPr/>
            <p:nvPr/>
          </p:nvPicPr>
          <p:blipFill>
            <a:blip r:embed="rId6"/>
            <a:stretch/>
          </p:blipFill>
          <p:spPr>
            <a:xfrm>
              <a:off x="991440" y="18817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1EUROR" descr=""/>
            <p:cNvPicPr/>
            <p:nvPr/>
          </p:nvPicPr>
          <p:blipFill>
            <a:blip r:embed="rId7"/>
            <a:stretch/>
          </p:blipFill>
          <p:spPr>
            <a:xfrm>
              <a:off x="119088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1EUROR" descr=""/>
            <p:cNvPicPr/>
            <p:nvPr/>
          </p:nvPicPr>
          <p:blipFill>
            <a:blip r:embed="rId8"/>
            <a:stretch/>
          </p:blipFill>
          <p:spPr>
            <a:xfrm>
              <a:off x="142992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2059200" y="20574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99"/>
                </a:solidFill>
                <a:latin typeface="Times New Roman"/>
              </a:rPr>
              <a:t>Z programu będą finansowane m.in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3429000"/>
            <a:ext cx="38862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rozwój infrastruktur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budowanie połączeń komunikacyjnych z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7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stworzenie europejskiej sieci transportow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5160" y="2819520"/>
            <a:ext cx="2655720" cy="429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chrona środowi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50040" y="2819520"/>
            <a:ext cx="1406160" cy="429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autostrady-cross" descr=""/>
          <p:cNvPicPr/>
          <p:nvPr/>
        </p:nvPicPr>
        <p:blipFill>
          <a:blip r:embed="rId9"/>
          <a:stretch/>
        </p:blipFill>
        <p:spPr>
          <a:xfrm>
            <a:off x="5486400" y="52592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542" name="01" descr=""/>
          <p:cNvPicPr/>
          <p:nvPr/>
        </p:nvPicPr>
        <p:blipFill>
          <a:blip r:embed="rId10"/>
          <a:stretch/>
        </p:blipFill>
        <p:spPr>
          <a:xfrm>
            <a:off x="685800" y="5859360"/>
            <a:ext cx="1523880" cy="99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P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572000" y="228600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finansuje rozwój rolnictwa i obszarów wiejskic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roczny budżet 520 mln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360" y="2143080"/>
            <a:ext cx="3205440" cy="1909800"/>
            <a:chOff x="9360" y="2143080"/>
            <a:chExt cx="3205440" cy="1909800"/>
          </a:xfrm>
        </p:grpSpPr>
        <p:sp>
          <p:nvSpPr>
            <p:cNvPr id="549" name=""/>
            <p:cNvSpPr/>
            <p:nvPr/>
          </p:nvSpPr>
          <p:spPr>
            <a:xfrm>
              <a:off x="9360" y="2517840"/>
              <a:ext cx="663840" cy="7128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6960" y="2143080"/>
              <a:ext cx="1955880" cy="10350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1EUROR" descr=""/>
            <p:cNvPicPr/>
            <p:nvPr/>
          </p:nvPicPr>
          <p:blipFill>
            <a:blip r:embed="rId2"/>
            <a:stretch/>
          </p:blipFill>
          <p:spPr>
            <a:xfrm>
              <a:off x="2209680" y="2819520"/>
              <a:ext cx="47160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1EUROR" descr=""/>
            <p:cNvPicPr/>
            <p:nvPr/>
          </p:nvPicPr>
          <p:blipFill>
            <a:blip r:embed="rId3"/>
            <a:stretch/>
          </p:blipFill>
          <p:spPr>
            <a:xfrm>
              <a:off x="2362320" y="297180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1EUROR" descr=""/>
            <p:cNvPicPr/>
            <p:nvPr/>
          </p:nvPicPr>
          <p:blipFill>
            <a:blip r:embed="rId4"/>
            <a:stretch/>
          </p:blipFill>
          <p:spPr>
            <a:xfrm>
              <a:off x="2133720" y="3200400"/>
              <a:ext cx="47124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1EUROR" descr=""/>
            <p:cNvPicPr/>
            <p:nvPr/>
          </p:nvPicPr>
          <p:blipFill>
            <a:blip r:embed="rId5"/>
            <a:stretch/>
          </p:blipFill>
          <p:spPr>
            <a:xfrm>
              <a:off x="2590920" y="3276720"/>
              <a:ext cx="47124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1EUROR" descr=""/>
            <p:cNvPicPr/>
            <p:nvPr/>
          </p:nvPicPr>
          <p:blipFill>
            <a:blip r:embed="rId6"/>
            <a:stretch/>
          </p:blipFill>
          <p:spPr>
            <a:xfrm>
              <a:off x="1905120" y="3505320"/>
              <a:ext cx="47124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1EUROR" descr=""/>
            <p:cNvPicPr/>
            <p:nvPr/>
          </p:nvPicPr>
          <p:blipFill>
            <a:blip r:embed="rId7"/>
            <a:stretch/>
          </p:blipFill>
          <p:spPr>
            <a:xfrm>
              <a:off x="2286000" y="3581280"/>
              <a:ext cx="47160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1EUROR" descr=""/>
            <p:cNvPicPr/>
            <p:nvPr/>
          </p:nvPicPr>
          <p:blipFill>
            <a:blip r:embed="rId8"/>
            <a:stretch/>
          </p:blipFill>
          <p:spPr>
            <a:xfrm>
              <a:off x="2743200" y="3581280"/>
              <a:ext cx="47160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8" name="1EUROR" descr=""/>
          <p:cNvPicPr/>
          <p:nvPr/>
        </p:nvPicPr>
        <p:blipFill>
          <a:blip r:embed="rId9"/>
          <a:stretch/>
        </p:blipFill>
        <p:spPr>
          <a:xfrm>
            <a:off x="2286000" y="4114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9" name="1EUROR" descr=""/>
          <p:cNvPicPr/>
          <p:nvPr/>
        </p:nvPicPr>
        <p:blipFill>
          <a:blip r:embed="rId10"/>
          <a:stretch/>
        </p:blipFill>
        <p:spPr>
          <a:xfrm>
            <a:off x="2590920" y="53341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60" name="1EUROR" descr=""/>
          <p:cNvPicPr/>
          <p:nvPr/>
        </p:nvPicPr>
        <p:blipFill>
          <a:blip r:embed="rId11"/>
          <a:stretch/>
        </p:blipFill>
        <p:spPr>
          <a:xfrm>
            <a:off x="251460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1" name="1EUROR" descr=""/>
          <p:cNvPicPr/>
          <p:nvPr/>
        </p:nvPicPr>
        <p:blipFill>
          <a:blip r:embed="rId12"/>
          <a:stretch/>
        </p:blipFill>
        <p:spPr>
          <a:xfrm>
            <a:off x="1905120" y="464832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62" name="1EUROR" descr=""/>
          <p:cNvPicPr/>
          <p:nvPr/>
        </p:nvPicPr>
        <p:blipFill>
          <a:blip r:embed="rId13"/>
          <a:stretch/>
        </p:blipFill>
        <p:spPr>
          <a:xfrm>
            <a:off x="2286000" y="51055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63" name="1EUROR" descr=""/>
          <p:cNvPicPr/>
          <p:nvPr/>
        </p:nvPicPr>
        <p:blipFill>
          <a:blip r:embed="rId14"/>
          <a:stretch/>
        </p:blipFill>
        <p:spPr>
          <a:xfrm>
            <a:off x="1752480" y="54100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4" name="Rolnictwo-Panorama-Kazimierza-Mala" descr=""/>
          <p:cNvPicPr/>
          <p:nvPr/>
        </p:nvPicPr>
        <p:blipFill>
          <a:blip r:embed="rId15"/>
          <a:stretch/>
        </p:blipFill>
        <p:spPr>
          <a:xfrm>
            <a:off x="0" y="3956040"/>
            <a:ext cx="4419720" cy="290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828800" y="1001880"/>
            <a:ext cx="5562720" cy="1227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P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858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Program pomocy przedakcesyjnej dla krajów Europy Środkowej i Wschodn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9200" y="20574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99"/>
                </a:solidFill>
                <a:latin typeface="Times New Roman"/>
              </a:rPr>
              <a:t>Z programu będą finansowane m.in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rolnictwo-farma" descr=""/>
          <p:cNvPicPr/>
          <p:nvPr/>
        </p:nvPicPr>
        <p:blipFill>
          <a:blip r:embed="rId2"/>
          <a:stretch/>
        </p:blipFill>
        <p:spPr>
          <a:xfrm>
            <a:off x="7264440" y="3048120"/>
            <a:ext cx="1879560" cy="28191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76320" y="2666880"/>
            <a:ext cx="78483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inwestycje w gospodarstwach rolnych podwyższające standardy higieny i jakości produkcji ml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dernizacja gospodarstw specjalizujących się w produkcji zwierząt rzeź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ozwój infrastruktury obszarów wiejsk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olepszenie stanu dróg gminnych i powiat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zaopatrzenie w energ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gospodarka odpadam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zaopatrzenie gospodarstw w wodę i jej uzdatnia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inwestycje w zakresie telekomun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0" y="1066680"/>
            <a:ext cx="1676160" cy="1143000"/>
            <a:chOff x="0" y="1066680"/>
            <a:chExt cx="1676160" cy="1143000"/>
          </a:xfrm>
        </p:grpSpPr>
        <p:sp>
          <p:nvSpPr>
            <p:cNvPr id="574" name=""/>
            <p:cNvSpPr/>
            <p:nvPr/>
          </p:nvSpPr>
          <p:spPr>
            <a:xfrm>
              <a:off x="0" y="1290600"/>
              <a:ext cx="347040" cy="426600"/>
            </a:xfrm>
            <a:custGeom>
              <a:avLst/>
              <a:gdLst/>
              <a:ahLst/>
              <a:rect l="l" t="t" r="r" b="b"/>
              <a:pathLst>
                <a:path w="418" h="449">
                  <a:moveTo>
                    <a:pt x="374" y="0"/>
                  </a:moveTo>
                  <a:lnTo>
                    <a:pt x="364" y="31"/>
                  </a:lnTo>
                  <a:lnTo>
                    <a:pt x="357" y="76"/>
                  </a:lnTo>
                  <a:lnTo>
                    <a:pt x="351" y="124"/>
                  </a:lnTo>
                  <a:lnTo>
                    <a:pt x="351" y="164"/>
                  </a:lnTo>
                  <a:lnTo>
                    <a:pt x="354" y="182"/>
                  </a:lnTo>
                  <a:lnTo>
                    <a:pt x="360" y="204"/>
                  </a:lnTo>
                  <a:lnTo>
                    <a:pt x="367" y="227"/>
                  </a:lnTo>
                  <a:lnTo>
                    <a:pt x="376" y="250"/>
                  </a:lnTo>
                  <a:lnTo>
                    <a:pt x="385" y="274"/>
                  </a:lnTo>
                  <a:lnTo>
                    <a:pt x="395" y="295"/>
                  </a:lnTo>
                  <a:lnTo>
                    <a:pt x="407" y="315"/>
                  </a:lnTo>
                  <a:lnTo>
                    <a:pt x="418" y="328"/>
                  </a:lnTo>
                  <a:lnTo>
                    <a:pt x="395" y="337"/>
                  </a:lnTo>
                  <a:lnTo>
                    <a:pt x="373" y="346"/>
                  </a:lnTo>
                  <a:lnTo>
                    <a:pt x="349" y="355"/>
                  </a:lnTo>
                  <a:lnTo>
                    <a:pt x="324" y="364"/>
                  </a:lnTo>
                  <a:lnTo>
                    <a:pt x="300" y="373"/>
                  </a:lnTo>
                  <a:lnTo>
                    <a:pt x="276" y="380"/>
                  </a:lnTo>
                  <a:lnTo>
                    <a:pt x="252" y="389"/>
                  </a:lnTo>
                  <a:lnTo>
                    <a:pt x="228" y="397"/>
                  </a:lnTo>
                  <a:lnTo>
                    <a:pt x="206" y="404"/>
                  </a:lnTo>
                  <a:lnTo>
                    <a:pt x="183" y="412"/>
                  </a:lnTo>
                  <a:lnTo>
                    <a:pt x="164" y="419"/>
                  </a:lnTo>
                  <a:lnTo>
                    <a:pt x="146" y="427"/>
                  </a:lnTo>
                  <a:lnTo>
                    <a:pt x="130" y="433"/>
                  </a:lnTo>
                  <a:lnTo>
                    <a:pt x="116" y="439"/>
                  </a:lnTo>
                  <a:lnTo>
                    <a:pt x="104" y="445"/>
                  </a:lnTo>
                  <a:lnTo>
                    <a:pt x="95" y="449"/>
                  </a:lnTo>
                  <a:lnTo>
                    <a:pt x="79" y="427"/>
                  </a:lnTo>
                  <a:lnTo>
                    <a:pt x="64" y="403"/>
                  </a:lnTo>
                  <a:lnTo>
                    <a:pt x="51" y="380"/>
                  </a:lnTo>
                  <a:lnTo>
                    <a:pt x="37" y="359"/>
                  </a:lnTo>
                  <a:lnTo>
                    <a:pt x="25" y="337"/>
                  </a:lnTo>
                  <a:lnTo>
                    <a:pt x="16" y="313"/>
                  </a:lnTo>
                  <a:lnTo>
                    <a:pt x="9" y="289"/>
                  </a:lnTo>
                  <a:lnTo>
                    <a:pt x="4" y="265"/>
                  </a:lnTo>
                  <a:lnTo>
                    <a:pt x="1" y="237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4" y="131"/>
                  </a:lnTo>
                  <a:lnTo>
                    <a:pt x="9" y="94"/>
                  </a:lnTo>
                  <a:lnTo>
                    <a:pt x="19" y="58"/>
                  </a:lnTo>
                  <a:lnTo>
                    <a:pt x="31" y="27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25" y="0"/>
                  </a:lnTo>
                  <a:lnTo>
                    <a:pt x="148" y="1"/>
                  </a:lnTo>
                  <a:lnTo>
                    <a:pt x="170" y="1"/>
                  </a:lnTo>
                  <a:lnTo>
                    <a:pt x="194" y="1"/>
                  </a:lnTo>
                  <a:lnTo>
                    <a:pt x="218" y="1"/>
                  </a:lnTo>
                  <a:lnTo>
                    <a:pt x="242" y="1"/>
                  </a:lnTo>
                  <a:lnTo>
                    <a:pt x="266" y="1"/>
                  </a:lnTo>
                  <a:lnTo>
                    <a:pt x="288" y="1"/>
                  </a:lnTo>
                  <a:lnTo>
                    <a:pt x="309" y="1"/>
                  </a:lnTo>
                  <a:lnTo>
                    <a:pt x="328" y="1"/>
                  </a:lnTo>
                  <a:lnTo>
                    <a:pt x="346" y="1"/>
                  </a:lnTo>
                  <a:lnTo>
                    <a:pt x="361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9280" y="1066680"/>
              <a:ext cx="1023120" cy="619200"/>
            </a:xfrm>
            <a:custGeom>
              <a:avLst/>
              <a:gdLst/>
              <a:ahLst/>
              <a:rect l="l" t="t" r="r" b="b"/>
              <a:pathLst>
                <a:path w="1232" h="652">
                  <a:moveTo>
                    <a:pt x="47" y="221"/>
                  </a:moveTo>
                  <a:lnTo>
                    <a:pt x="37" y="234"/>
                  </a:lnTo>
                  <a:lnTo>
                    <a:pt x="28" y="251"/>
                  </a:lnTo>
                  <a:lnTo>
                    <a:pt x="21" y="267"/>
                  </a:lnTo>
                  <a:lnTo>
                    <a:pt x="13" y="285"/>
                  </a:lnTo>
                  <a:lnTo>
                    <a:pt x="7" y="303"/>
                  </a:lnTo>
                  <a:lnTo>
                    <a:pt x="3" y="321"/>
                  </a:lnTo>
                  <a:lnTo>
                    <a:pt x="1" y="337"/>
                  </a:lnTo>
                  <a:lnTo>
                    <a:pt x="0" y="352"/>
                  </a:lnTo>
                  <a:lnTo>
                    <a:pt x="0" y="384"/>
                  </a:lnTo>
                  <a:lnTo>
                    <a:pt x="1" y="421"/>
                  </a:lnTo>
                  <a:lnTo>
                    <a:pt x="6" y="457"/>
                  </a:lnTo>
                  <a:lnTo>
                    <a:pt x="15" y="486"/>
                  </a:lnTo>
                  <a:lnTo>
                    <a:pt x="24" y="510"/>
                  </a:lnTo>
                  <a:lnTo>
                    <a:pt x="33" y="533"/>
                  </a:lnTo>
                  <a:lnTo>
                    <a:pt x="41" y="551"/>
                  </a:lnTo>
                  <a:lnTo>
                    <a:pt x="53" y="564"/>
                  </a:lnTo>
                  <a:lnTo>
                    <a:pt x="74" y="566"/>
                  </a:lnTo>
                  <a:lnTo>
                    <a:pt x="94" y="566"/>
                  </a:lnTo>
                  <a:lnTo>
                    <a:pt x="113" y="564"/>
                  </a:lnTo>
                  <a:lnTo>
                    <a:pt x="131" y="561"/>
                  </a:lnTo>
                  <a:lnTo>
                    <a:pt x="147" y="560"/>
                  </a:lnTo>
                  <a:lnTo>
                    <a:pt x="162" y="560"/>
                  </a:lnTo>
                  <a:lnTo>
                    <a:pt x="176" y="560"/>
                  </a:lnTo>
                  <a:lnTo>
                    <a:pt x="188" y="564"/>
                  </a:lnTo>
                  <a:lnTo>
                    <a:pt x="200" y="570"/>
                  </a:lnTo>
                  <a:lnTo>
                    <a:pt x="216" y="576"/>
                  </a:lnTo>
                  <a:lnTo>
                    <a:pt x="232" y="584"/>
                  </a:lnTo>
                  <a:lnTo>
                    <a:pt x="250" y="589"/>
                  </a:lnTo>
                  <a:lnTo>
                    <a:pt x="268" y="597"/>
                  </a:lnTo>
                  <a:lnTo>
                    <a:pt x="286" y="603"/>
                  </a:lnTo>
                  <a:lnTo>
                    <a:pt x="303" y="607"/>
                  </a:lnTo>
                  <a:lnTo>
                    <a:pt x="318" y="612"/>
                  </a:lnTo>
                  <a:lnTo>
                    <a:pt x="337" y="616"/>
                  </a:lnTo>
                  <a:lnTo>
                    <a:pt x="364" y="624"/>
                  </a:lnTo>
                  <a:lnTo>
                    <a:pt x="397" y="631"/>
                  </a:lnTo>
                  <a:lnTo>
                    <a:pt x="431" y="639"/>
                  </a:lnTo>
                  <a:lnTo>
                    <a:pt x="465" y="645"/>
                  </a:lnTo>
                  <a:lnTo>
                    <a:pt x="498" y="649"/>
                  </a:lnTo>
                  <a:lnTo>
                    <a:pt x="525" y="652"/>
                  </a:lnTo>
                  <a:lnTo>
                    <a:pt x="544" y="651"/>
                  </a:lnTo>
                  <a:lnTo>
                    <a:pt x="564" y="646"/>
                  </a:lnTo>
                  <a:lnTo>
                    <a:pt x="589" y="639"/>
                  </a:lnTo>
                  <a:lnTo>
                    <a:pt x="620" y="628"/>
                  </a:lnTo>
                  <a:lnTo>
                    <a:pt x="655" y="619"/>
                  </a:lnTo>
                  <a:lnTo>
                    <a:pt x="689" y="609"/>
                  </a:lnTo>
                  <a:lnTo>
                    <a:pt x="720" y="598"/>
                  </a:lnTo>
                  <a:lnTo>
                    <a:pt x="746" y="589"/>
                  </a:lnTo>
                  <a:lnTo>
                    <a:pt x="765" y="584"/>
                  </a:lnTo>
                  <a:lnTo>
                    <a:pt x="782" y="578"/>
                  </a:lnTo>
                  <a:lnTo>
                    <a:pt x="799" y="570"/>
                  </a:lnTo>
                  <a:lnTo>
                    <a:pt x="817" y="563"/>
                  </a:lnTo>
                  <a:lnTo>
                    <a:pt x="838" y="555"/>
                  </a:lnTo>
                  <a:lnTo>
                    <a:pt x="858" y="549"/>
                  </a:lnTo>
                  <a:lnTo>
                    <a:pt x="879" y="542"/>
                  </a:lnTo>
                  <a:lnTo>
                    <a:pt x="896" y="537"/>
                  </a:lnTo>
                  <a:lnTo>
                    <a:pt x="914" y="534"/>
                  </a:lnTo>
                  <a:lnTo>
                    <a:pt x="932" y="533"/>
                  </a:lnTo>
                  <a:lnTo>
                    <a:pt x="955" y="530"/>
                  </a:lnTo>
                  <a:lnTo>
                    <a:pt x="979" y="527"/>
                  </a:lnTo>
                  <a:lnTo>
                    <a:pt x="1004" y="522"/>
                  </a:lnTo>
                  <a:lnTo>
                    <a:pt x="1029" y="519"/>
                  </a:lnTo>
                  <a:lnTo>
                    <a:pt x="1053" y="518"/>
                  </a:lnTo>
                  <a:lnTo>
                    <a:pt x="1075" y="515"/>
                  </a:lnTo>
                  <a:lnTo>
                    <a:pt x="1093" y="515"/>
                  </a:lnTo>
                  <a:lnTo>
                    <a:pt x="1087" y="503"/>
                  </a:lnTo>
                  <a:lnTo>
                    <a:pt x="1080" y="491"/>
                  </a:lnTo>
                  <a:lnTo>
                    <a:pt x="1074" y="481"/>
                  </a:lnTo>
                  <a:lnTo>
                    <a:pt x="1065" y="470"/>
                  </a:lnTo>
                  <a:lnTo>
                    <a:pt x="1058" y="461"/>
                  </a:lnTo>
                  <a:lnTo>
                    <a:pt x="1049" y="454"/>
                  </a:lnTo>
                  <a:lnTo>
                    <a:pt x="1040" y="448"/>
                  </a:lnTo>
                  <a:lnTo>
                    <a:pt x="1031" y="443"/>
                  </a:lnTo>
                  <a:lnTo>
                    <a:pt x="1020" y="440"/>
                  </a:lnTo>
                  <a:lnTo>
                    <a:pt x="1010" y="436"/>
                  </a:lnTo>
                  <a:lnTo>
                    <a:pt x="996" y="433"/>
                  </a:lnTo>
                  <a:lnTo>
                    <a:pt x="981" y="430"/>
                  </a:lnTo>
                  <a:lnTo>
                    <a:pt x="967" y="427"/>
                  </a:lnTo>
                  <a:lnTo>
                    <a:pt x="949" y="424"/>
                  </a:lnTo>
                  <a:lnTo>
                    <a:pt x="932" y="421"/>
                  </a:lnTo>
                  <a:lnTo>
                    <a:pt x="914" y="419"/>
                  </a:lnTo>
                  <a:lnTo>
                    <a:pt x="896" y="418"/>
                  </a:lnTo>
                  <a:lnTo>
                    <a:pt x="877" y="416"/>
                  </a:lnTo>
                  <a:lnTo>
                    <a:pt x="856" y="416"/>
                  </a:lnTo>
                  <a:lnTo>
                    <a:pt x="837" y="416"/>
                  </a:lnTo>
                  <a:lnTo>
                    <a:pt x="817" y="416"/>
                  </a:lnTo>
                  <a:lnTo>
                    <a:pt x="799" y="416"/>
                  </a:lnTo>
                  <a:lnTo>
                    <a:pt x="783" y="418"/>
                  </a:lnTo>
                  <a:lnTo>
                    <a:pt x="770" y="419"/>
                  </a:lnTo>
                  <a:lnTo>
                    <a:pt x="758" y="421"/>
                  </a:lnTo>
                  <a:lnTo>
                    <a:pt x="746" y="422"/>
                  </a:lnTo>
                  <a:lnTo>
                    <a:pt x="735" y="424"/>
                  </a:lnTo>
                  <a:lnTo>
                    <a:pt x="725" y="425"/>
                  </a:lnTo>
                  <a:lnTo>
                    <a:pt x="716" y="427"/>
                  </a:lnTo>
                  <a:lnTo>
                    <a:pt x="705" y="427"/>
                  </a:lnTo>
                  <a:lnTo>
                    <a:pt x="696" y="428"/>
                  </a:lnTo>
                  <a:lnTo>
                    <a:pt x="688" y="428"/>
                  </a:lnTo>
                  <a:lnTo>
                    <a:pt x="677" y="406"/>
                  </a:lnTo>
                  <a:lnTo>
                    <a:pt x="667" y="388"/>
                  </a:lnTo>
                  <a:lnTo>
                    <a:pt x="655" y="375"/>
                  </a:lnTo>
                  <a:lnTo>
                    <a:pt x="644" y="366"/>
                  </a:lnTo>
                  <a:lnTo>
                    <a:pt x="655" y="354"/>
                  </a:lnTo>
                  <a:lnTo>
                    <a:pt x="664" y="342"/>
                  </a:lnTo>
                  <a:lnTo>
                    <a:pt x="671" y="328"/>
                  </a:lnTo>
                  <a:lnTo>
                    <a:pt x="679" y="315"/>
                  </a:lnTo>
                  <a:lnTo>
                    <a:pt x="686" y="301"/>
                  </a:lnTo>
                  <a:lnTo>
                    <a:pt x="692" y="287"/>
                  </a:lnTo>
                  <a:lnTo>
                    <a:pt x="696" y="273"/>
                  </a:lnTo>
                  <a:lnTo>
                    <a:pt x="702" y="260"/>
                  </a:lnTo>
                  <a:lnTo>
                    <a:pt x="723" y="270"/>
                  </a:lnTo>
                  <a:lnTo>
                    <a:pt x="744" y="281"/>
                  </a:lnTo>
                  <a:lnTo>
                    <a:pt x="767" y="288"/>
                  </a:lnTo>
                  <a:lnTo>
                    <a:pt x="788" y="295"/>
                  </a:lnTo>
                  <a:lnTo>
                    <a:pt x="807" y="301"/>
                  </a:lnTo>
                  <a:lnTo>
                    <a:pt x="826" y="306"/>
                  </a:lnTo>
                  <a:lnTo>
                    <a:pt x="843" y="307"/>
                  </a:lnTo>
                  <a:lnTo>
                    <a:pt x="856" y="309"/>
                  </a:lnTo>
                  <a:lnTo>
                    <a:pt x="873" y="321"/>
                  </a:lnTo>
                  <a:lnTo>
                    <a:pt x="892" y="333"/>
                  </a:lnTo>
                  <a:lnTo>
                    <a:pt x="914" y="345"/>
                  </a:lnTo>
                  <a:lnTo>
                    <a:pt x="937" y="358"/>
                  </a:lnTo>
                  <a:lnTo>
                    <a:pt x="959" y="369"/>
                  </a:lnTo>
                  <a:lnTo>
                    <a:pt x="981" y="378"/>
                  </a:lnTo>
                  <a:lnTo>
                    <a:pt x="1002" y="384"/>
                  </a:lnTo>
                  <a:lnTo>
                    <a:pt x="1020" y="385"/>
                  </a:lnTo>
                  <a:lnTo>
                    <a:pt x="1029" y="400"/>
                  </a:lnTo>
                  <a:lnTo>
                    <a:pt x="1044" y="418"/>
                  </a:lnTo>
                  <a:lnTo>
                    <a:pt x="1061" y="434"/>
                  </a:lnTo>
                  <a:lnTo>
                    <a:pt x="1078" y="452"/>
                  </a:lnTo>
                  <a:lnTo>
                    <a:pt x="1098" y="467"/>
                  </a:lnTo>
                  <a:lnTo>
                    <a:pt x="1117" y="481"/>
                  </a:lnTo>
                  <a:lnTo>
                    <a:pt x="1135" y="491"/>
                  </a:lnTo>
                  <a:lnTo>
                    <a:pt x="1152" y="497"/>
                  </a:lnTo>
                  <a:lnTo>
                    <a:pt x="1165" y="500"/>
                  </a:lnTo>
                  <a:lnTo>
                    <a:pt x="1178" y="501"/>
                  </a:lnTo>
                  <a:lnTo>
                    <a:pt x="1190" y="503"/>
                  </a:lnTo>
                  <a:lnTo>
                    <a:pt x="1202" y="503"/>
                  </a:lnTo>
                  <a:lnTo>
                    <a:pt x="1213" y="501"/>
                  </a:lnTo>
                  <a:lnTo>
                    <a:pt x="1222" y="497"/>
                  </a:lnTo>
                  <a:lnTo>
                    <a:pt x="1228" y="492"/>
                  </a:lnTo>
                  <a:lnTo>
                    <a:pt x="1232" y="486"/>
                  </a:lnTo>
                  <a:lnTo>
                    <a:pt x="1229" y="466"/>
                  </a:lnTo>
                  <a:lnTo>
                    <a:pt x="1222" y="452"/>
                  </a:lnTo>
                  <a:lnTo>
                    <a:pt x="1211" y="440"/>
                  </a:lnTo>
                  <a:lnTo>
                    <a:pt x="1199" y="428"/>
                  </a:lnTo>
                  <a:lnTo>
                    <a:pt x="1193" y="419"/>
                  </a:lnTo>
                  <a:lnTo>
                    <a:pt x="1186" y="410"/>
                  </a:lnTo>
                  <a:lnTo>
                    <a:pt x="1178" y="398"/>
                  </a:lnTo>
                  <a:lnTo>
                    <a:pt x="1169" y="387"/>
                  </a:lnTo>
                  <a:lnTo>
                    <a:pt x="1161" y="375"/>
                  </a:lnTo>
                  <a:lnTo>
                    <a:pt x="1153" y="363"/>
                  </a:lnTo>
                  <a:lnTo>
                    <a:pt x="1144" y="352"/>
                  </a:lnTo>
                  <a:lnTo>
                    <a:pt x="1137" y="342"/>
                  </a:lnTo>
                  <a:lnTo>
                    <a:pt x="1129" y="331"/>
                  </a:lnTo>
                  <a:lnTo>
                    <a:pt x="1120" y="321"/>
                  </a:lnTo>
                  <a:lnTo>
                    <a:pt x="1110" y="307"/>
                  </a:lnTo>
                  <a:lnTo>
                    <a:pt x="1101" y="295"/>
                  </a:lnTo>
                  <a:lnTo>
                    <a:pt x="1092" y="284"/>
                  </a:lnTo>
                  <a:lnTo>
                    <a:pt x="1083" y="273"/>
                  </a:lnTo>
                  <a:lnTo>
                    <a:pt x="1075" y="266"/>
                  </a:lnTo>
                  <a:lnTo>
                    <a:pt x="1070" y="260"/>
                  </a:lnTo>
                  <a:lnTo>
                    <a:pt x="1059" y="254"/>
                  </a:lnTo>
                  <a:lnTo>
                    <a:pt x="1043" y="243"/>
                  </a:lnTo>
                  <a:lnTo>
                    <a:pt x="1020" y="231"/>
                  </a:lnTo>
                  <a:lnTo>
                    <a:pt x="995" y="216"/>
                  </a:lnTo>
                  <a:lnTo>
                    <a:pt x="968" y="200"/>
                  </a:lnTo>
                  <a:lnTo>
                    <a:pt x="943" y="187"/>
                  </a:lnTo>
                  <a:lnTo>
                    <a:pt x="922" y="173"/>
                  </a:lnTo>
                  <a:lnTo>
                    <a:pt x="905" y="164"/>
                  </a:lnTo>
                  <a:lnTo>
                    <a:pt x="890" y="155"/>
                  </a:lnTo>
                  <a:lnTo>
                    <a:pt x="873" y="145"/>
                  </a:lnTo>
                  <a:lnTo>
                    <a:pt x="852" y="131"/>
                  </a:lnTo>
                  <a:lnTo>
                    <a:pt x="831" y="118"/>
                  </a:lnTo>
                  <a:lnTo>
                    <a:pt x="808" y="104"/>
                  </a:lnTo>
                  <a:lnTo>
                    <a:pt x="789" y="91"/>
                  </a:lnTo>
                  <a:lnTo>
                    <a:pt x="771" y="81"/>
                  </a:lnTo>
                  <a:lnTo>
                    <a:pt x="756" y="72"/>
                  </a:lnTo>
                  <a:lnTo>
                    <a:pt x="743" y="63"/>
                  </a:lnTo>
                  <a:lnTo>
                    <a:pt x="726" y="52"/>
                  </a:lnTo>
                  <a:lnTo>
                    <a:pt x="707" y="42"/>
                  </a:lnTo>
                  <a:lnTo>
                    <a:pt x="688" y="30"/>
                  </a:lnTo>
                  <a:lnTo>
                    <a:pt x="668" y="19"/>
                  </a:lnTo>
                  <a:lnTo>
                    <a:pt x="647" y="10"/>
                  </a:lnTo>
                  <a:lnTo>
                    <a:pt x="626" y="3"/>
                  </a:lnTo>
                  <a:lnTo>
                    <a:pt x="605" y="0"/>
                  </a:lnTo>
                  <a:lnTo>
                    <a:pt x="586" y="0"/>
                  </a:lnTo>
                  <a:lnTo>
                    <a:pt x="568" y="3"/>
                  </a:lnTo>
                  <a:lnTo>
                    <a:pt x="549" y="7"/>
                  </a:lnTo>
                  <a:lnTo>
                    <a:pt x="529" y="15"/>
                  </a:lnTo>
                  <a:lnTo>
                    <a:pt x="511" y="24"/>
                  </a:lnTo>
                  <a:lnTo>
                    <a:pt x="492" y="33"/>
                  </a:lnTo>
                  <a:lnTo>
                    <a:pt x="473" y="43"/>
                  </a:lnTo>
                  <a:lnTo>
                    <a:pt x="453" y="52"/>
                  </a:lnTo>
                  <a:lnTo>
                    <a:pt x="431" y="63"/>
                  </a:lnTo>
                  <a:lnTo>
                    <a:pt x="404" y="76"/>
                  </a:lnTo>
                  <a:lnTo>
                    <a:pt x="373" y="90"/>
                  </a:lnTo>
                  <a:lnTo>
                    <a:pt x="341" y="104"/>
                  </a:lnTo>
                  <a:lnTo>
                    <a:pt x="310" y="119"/>
                  </a:lnTo>
                  <a:lnTo>
                    <a:pt x="279" y="133"/>
                  </a:lnTo>
                  <a:lnTo>
                    <a:pt x="250" y="145"/>
                  </a:lnTo>
                  <a:lnTo>
                    <a:pt x="226" y="154"/>
                  </a:lnTo>
                  <a:lnTo>
                    <a:pt x="204" y="161"/>
                  </a:lnTo>
                  <a:lnTo>
                    <a:pt x="180" y="170"/>
                  </a:lnTo>
                  <a:lnTo>
                    <a:pt x="156" y="181"/>
                  </a:lnTo>
                  <a:lnTo>
                    <a:pt x="132" y="190"/>
                  </a:lnTo>
                  <a:lnTo>
                    <a:pt x="109" y="198"/>
                  </a:lnTo>
                  <a:lnTo>
                    <a:pt x="86" y="207"/>
                  </a:lnTo>
                  <a:lnTo>
                    <a:pt x="65" y="215"/>
                  </a:lnTo>
                  <a:lnTo>
                    <a:pt x="47" y="221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1EUROR" descr=""/>
            <p:cNvPicPr/>
            <p:nvPr/>
          </p:nvPicPr>
          <p:blipFill>
            <a:blip r:embed="rId3"/>
            <a:stretch/>
          </p:blipFill>
          <p:spPr>
            <a:xfrm>
              <a:off x="1150920" y="14713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1EUROR" descr=""/>
            <p:cNvPicPr/>
            <p:nvPr/>
          </p:nvPicPr>
          <p:blipFill>
            <a:blip r:embed="rId4"/>
            <a:stretch/>
          </p:blipFill>
          <p:spPr>
            <a:xfrm>
              <a:off x="1230480" y="15624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1EUROR" descr=""/>
            <p:cNvPicPr/>
            <p:nvPr/>
          </p:nvPicPr>
          <p:blipFill>
            <a:blip r:embed="rId5"/>
            <a:stretch/>
          </p:blipFill>
          <p:spPr>
            <a:xfrm>
              <a:off x="1110960" y="1699200"/>
              <a:ext cx="24660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1EUROR" descr=""/>
            <p:cNvPicPr/>
            <p:nvPr/>
          </p:nvPicPr>
          <p:blipFill>
            <a:blip r:embed="rId6"/>
            <a:stretch/>
          </p:blipFill>
          <p:spPr>
            <a:xfrm>
              <a:off x="1350000" y="17449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1EUROR" descr=""/>
            <p:cNvPicPr/>
            <p:nvPr/>
          </p:nvPicPr>
          <p:blipFill>
            <a:blip r:embed="rId7"/>
            <a:stretch/>
          </p:blipFill>
          <p:spPr>
            <a:xfrm>
              <a:off x="991440" y="1881720"/>
              <a:ext cx="2466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1EUROR" descr=""/>
            <p:cNvPicPr/>
            <p:nvPr/>
          </p:nvPicPr>
          <p:blipFill>
            <a:blip r:embed="rId8"/>
            <a:stretch/>
          </p:blipFill>
          <p:spPr>
            <a:xfrm>
              <a:off x="119088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1EUROR" descr=""/>
            <p:cNvPicPr/>
            <p:nvPr/>
          </p:nvPicPr>
          <p:blipFill>
            <a:blip r:embed="rId9"/>
            <a:stretch/>
          </p:blipFill>
          <p:spPr>
            <a:xfrm>
              <a:off x="1429920" y="1927440"/>
              <a:ext cx="246240" cy="28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100EURO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3429000" cy="1911240"/>
          </a:xfrm>
          <a:prstGeom prst="rect">
            <a:avLst/>
          </a:prstGeom>
          <a:ln w="0">
            <a:noFill/>
          </a:ln>
        </p:spPr>
      </p:pic>
      <p:pic>
        <p:nvPicPr>
          <p:cNvPr id="584" name="500EUROA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10080" y="0"/>
            <a:ext cx="3733920" cy="19130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Flaga_UE" descr=""/>
          <p:cNvPicPr/>
          <p:nvPr/>
        </p:nvPicPr>
        <p:blipFill>
          <a:blip r:embed="rId3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129760" y="150480"/>
            <a:ext cx="43002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nii Europejski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0840" y="1875960"/>
            <a:ext cx="248364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erspekty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623880" y="2763720"/>
          <a:ext cx="7861320" cy="3256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880" y="2763720"/>
                    <a:ext cx="786132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5" name=""/>
          <p:cNvGraphicFramePr/>
          <p:nvPr/>
        </p:nvGraphicFramePr>
        <p:xfrm>
          <a:off x="758880" y="1305000"/>
          <a:ext cx="740736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880" y="1305000"/>
                    <a:ext cx="740736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228600" y="0"/>
            <a:ext cx="8686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Eksport UE do krajów kandydujących w 2000 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według sektoró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"/>
          <p:cNvGraphicFramePr/>
          <p:nvPr/>
        </p:nvGraphicFramePr>
        <p:xfrm>
          <a:off x="1393920" y="1535040"/>
          <a:ext cx="6119640" cy="45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3920" y="1535040"/>
                    <a:ext cx="61196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304920" y="0"/>
            <a:ext cx="8610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mport UE z  krajów kandydujących w 2000 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według sektoró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380880" y="557280"/>
          <a:ext cx="8504280" cy="626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57280"/>
                    <a:ext cx="85042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andel UE z krajami kandydującymi -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 2000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3600" y="1905120"/>
            <a:ext cx="320040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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Eksport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z UE do kraj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kandydujących - % udzia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w obrocie całej 13-k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Monotype Sorts"/>
                <a:ea typeface="Monotype Sorts"/>
              </a:rPr>
              <a:t></a:t>
            </a: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Import </a:t>
            </a: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z kraj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kandydujących - % udzia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7918560" cy="6256440"/>
          </a:xfrm>
          <a:prstGeom prst="rect">
            <a:avLst/>
          </a:prstGeom>
          <a:ln w="0">
            <a:noFill/>
          </a:ln>
        </p:spPr>
      </p:pic>
      <p:pic>
        <p:nvPicPr>
          <p:cNvPr id="72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81440" y="505620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9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LANNER" descr=""/>
          <p:cNvPicPr/>
          <p:nvPr/>
        </p:nvPicPr>
        <p:blipFill>
          <a:blip r:embed="rId1"/>
          <a:stretch/>
        </p:blipFill>
        <p:spPr>
          <a:xfrm>
            <a:off x="228600" y="506520"/>
            <a:ext cx="8915400" cy="5894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0" y="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W kalendarzu: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8380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29400" y="9144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48320" y="762120"/>
            <a:ext cx="350496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3 - czerwie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– otwarcie procedur ratyfikacji traktatów - w krajach członkowskich i kandydujących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zakończenie do końca rok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4 - czerwie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- wyb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do Parlamen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Europejskiego, z udziałem krajów, now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członków 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4/2005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- ? - now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członkowie w Uni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Europejsk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762120"/>
            <a:ext cx="358164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2 - listopad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a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okresowy określający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tóre kra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andydujące są goto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do wstąpienia do 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12 - 13 grudnia 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Europejska 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openhadze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rekomendacje d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krajów gotowych 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wstąpien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003399"/>
                </a:solidFill>
                <a:uFillTx/>
                <a:latin typeface="Times New Roman"/>
              </a:rPr>
              <a:t>2003 - kwiecień/maj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odpisywanie traktató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akcesyjnych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4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Prezydencja greck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85800" y="304920"/>
            <a:ext cx="7343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Rozszerzenie  -  Budżet - w mln </a:t>
            </a:r>
            <a:r>
              <a:rPr b="1" lang="fr-BE" sz="3000" spc="-1" strike="noStrike">
                <a:solidFill>
                  <a:srgbClr val="003399"/>
                </a:solidFill>
                <a:latin typeface="Times New Roman"/>
              </a:rPr>
              <a:t> 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458640" y="987480"/>
          <a:ext cx="774396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987480"/>
                    <a:ext cx="774396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609480" y="2286000"/>
            <a:ext cx="8078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Spotkajmy si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w szerokim gron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920" y="762120"/>
            <a:ext cx="3497040" cy="642600"/>
          </a:xfrm>
          <a:prstGeom prst="rect">
            <a:avLst/>
          </a:prstGeom>
          <a:noFill/>
          <a:ln w="0">
            <a:noFill/>
          </a:ln>
          <a:effectLst>
            <a:outerShdw dist="323289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7848720" cy="6200640"/>
          </a:xfrm>
          <a:prstGeom prst="rect">
            <a:avLst/>
          </a:prstGeom>
          <a:ln w="0">
            <a:noFill/>
          </a:ln>
        </p:spPr>
      </p:pic>
      <p:pic>
        <p:nvPicPr>
          <p:cNvPr id="87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29160" y="505620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0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01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7924680" cy="6261120"/>
          </a:xfrm>
          <a:prstGeom prst="rect">
            <a:avLst/>
          </a:prstGeom>
          <a:ln w="0">
            <a:noFill/>
          </a:ln>
        </p:spPr>
      </p:pic>
      <p:pic>
        <p:nvPicPr>
          <p:cNvPr id="103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30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uropejska Wspólnota Gospodar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69200" y="574200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2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17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  <p:pic>
        <p:nvPicPr>
          <p:cNvPr id="118" name="f_his" descr=""/>
          <p:cNvPicPr/>
          <p:nvPr/>
        </p:nvPicPr>
        <p:blipFill>
          <a:blip r:embed="rId13"/>
          <a:stretch/>
        </p:blipFill>
        <p:spPr>
          <a:xfrm>
            <a:off x="5486400" y="4800600"/>
            <a:ext cx="514440" cy="343080"/>
          </a:xfrm>
          <a:prstGeom prst="rect">
            <a:avLst/>
          </a:prstGeom>
          <a:ln w="0">
            <a:noFill/>
          </a:ln>
        </p:spPr>
      </p:pic>
      <p:pic>
        <p:nvPicPr>
          <p:cNvPr id="119" name="f_por" descr=""/>
          <p:cNvPicPr/>
          <p:nvPr/>
        </p:nvPicPr>
        <p:blipFill>
          <a:blip r:embed="rId14"/>
          <a:stretch/>
        </p:blipFill>
        <p:spPr>
          <a:xfrm>
            <a:off x="5486400" y="5218200"/>
            <a:ext cx="511200" cy="33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29000" y="2057400"/>
            <a:ext cx="5410080" cy="241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Zjednoczenie Niem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poszerza się teryto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spólno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2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4495680"/>
            <a:ext cx="2133360" cy="1281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Upadek mu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berlińskie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9.11.19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3000" y="2744640"/>
            <a:ext cx="298764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aździernik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7848720" cy="6200640"/>
          </a:xfrm>
          <a:prstGeom prst="rect">
            <a:avLst/>
          </a:prstGeom>
          <a:ln w="0">
            <a:noFill/>
          </a:ln>
        </p:spPr>
      </p:pic>
      <p:pic>
        <p:nvPicPr>
          <p:cNvPr id="128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6279840"/>
            <a:ext cx="2344680" cy="576720"/>
          </a:xfrm>
          <a:prstGeom prst="roundRect">
            <a:avLst>
              <a:gd name="adj" fmla="val 16667"/>
            </a:avLst>
          </a:prstGeom>
          <a:solidFill>
            <a:srgbClr val="f0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tyczni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609480"/>
            <a:ext cx="3886200" cy="62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ło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ielka Bry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nla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zwe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528480" cy="344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486400" y="1143000"/>
            <a:ext cx="507960" cy="338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517680" cy="34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6480" y="78912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1" lang="pl-PL" sz="4800" spc="-1" strike="noStrike">
                <a:solidFill>
                  <a:srgbClr val="003399"/>
                </a:solidFill>
                <a:latin typeface="Times New Roman"/>
              </a:rPr>
              <a:t>15</a:t>
            </a:r>
            <a:r>
              <a:rPr b="1" lang="pl-PL" sz="4000" spc="-1" strike="noStrike">
                <a:solidFill>
                  <a:srgbClr val="003399"/>
                </a:solidFill>
                <a:latin typeface="Times New Roman"/>
              </a:rPr>
              <a:t>-k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522360" cy="344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522360" cy="34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486400" y="2819520"/>
            <a:ext cx="536400" cy="3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5486400" y="320040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486400" y="3581280"/>
            <a:ext cx="517680" cy="335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5486400" y="3962520"/>
            <a:ext cx="539640" cy="339480"/>
          </a:xfrm>
          <a:prstGeom prst="rect">
            <a:avLst/>
          </a:prstGeom>
          <a:ln w="0">
            <a:noFill/>
          </a:ln>
        </p:spPr>
      </p:pic>
      <p:pic>
        <p:nvPicPr>
          <p:cNvPr id="142" name="f_gre" descr=""/>
          <p:cNvPicPr/>
          <p:nvPr/>
        </p:nvPicPr>
        <p:blipFill>
          <a:blip r:embed="rId12"/>
          <a:stretch/>
        </p:blipFill>
        <p:spPr>
          <a:xfrm>
            <a:off x="5486400" y="4383000"/>
            <a:ext cx="514440" cy="341280"/>
          </a:xfrm>
          <a:prstGeom prst="rect">
            <a:avLst/>
          </a:prstGeom>
          <a:ln w="0">
            <a:noFill/>
          </a:ln>
        </p:spPr>
      </p:pic>
      <p:pic>
        <p:nvPicPr>
          <p:cNvPr id="143" name="f_his" descr=""/>
          <p:cNvPicPr/>
          <p:nvPr/>
        </p:nvPicPr>
        <p:blipFill>
          <a:blip r:embed="rId13"/>
          <a:stretch/>
        </p:blipFill>
        <p:spPr>
          <a:xfrm>
            <a:off x="5486400" y="4800600"/>
            <a:ext cx="514440" cy="343080"/>
          </a:xfrm>
          <a:prstGeom prst="rect">
            <a:avLst/>
          </a:prstGeom>
          <a:ln w="0">
            <a:noFill/>
          </a:ln>
        </p:spPr>
      </p:pic>
      <p:pic>
        <p:nvPicPr>
          <p:cNvPr id="144" name="f_por" descr=""/>
          <p:cNvPicPr/>
          <p:nvPr/>
        </p:nvPicPr>
        <p:blipFill>
          <a:blip r:embed="rId14"/>
          <a:stretch/>
        </p:blipFill>
        <p:spPr>
          <a:xfrm>
            <a:off x="5486400" y="5218200"/>
            <a:ext cx="511200" cy="33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5486400" y="5638680"/>
            <a:ext cx="517680" cy="34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5486400" y="6019920"/>
            <a:ext cx="496800" cy="333360"/>
          </a:xfrm>
          <a:prstGeom prst="rect">
            <a:avLst/>
          </a:prstGeom>
          <a:ln w="3240">
            <a:solidFill>
              <a:srgbClr val="3366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5486400" y="6438960"/>
            <a:ext cx="51768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54080" y="406440"/>
          <a:ext cx="3122640" cy="25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40644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49560" y="380880"/>
          <a:ext cx="3122640" cy="23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560" y="380880"/>
                    <a:ext cx="31226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21360" y="380880"/>
          <a:ext cx="3122640" cy="250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21360" y="38088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4080" y="3505320"/>
          <a:ext cx="3122640" cy="250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08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049560" y="3505320"/>
          <a:ext cx="3122640" cy="250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56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21360" y="3505320"/>
          <a:ext cx="3122640" cy="250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21360" y="3505320"/>
                    <a:ext cx="31226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-18720" y="6461280"/>
            <a:ext cx="70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Wszystkie dane dla 2001 r;     % liczone rok do roku poprzedn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3:25:09Z</dcterms:created>
  <dc:creator>Marek Chałas</dc:creator>
  <dc:description>UE Rozszerzenie</dc:description>
  <dc:language>en-US</dc:language>
  <cp:lastModifiedBy>Rafał</cp:lastModifiedBy>
  <cp:lastPrinted>2002-07-28T08:06:25Z</cp:lastPrinted>
  <dcterms:modified xsi:type="dcterms:W3CDTF">2002-12-04T11:55:47Z</dcterms:modified>
  <cp:revision>156</cp:revision>
  <dc:subject/>
  <dc:title>UE Rozszerzenie</dc:title>
</cp:coreProperties>
</file>